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26F-FAE9-4BED-AC2A-7A6D07E1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BF0-FA65-45D0-879B-BCAA90EC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090-C904-4838-8195-CF00DAC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994-466F-4B0F-897D-8699C872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848-689D-4C8D-880C-274E66BD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8445-7ECC-42CE-B63D-5B67F327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BDDE-9A0D-407A-9F21-F42CBF63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40F4-DEF9-4BA1-87B1-01670DA1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B269-13E4-4059-A289-92488654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90F-CF30-4B23-86B4-42B16CC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1012-F8DC-452D-9FEF-0FC3BA3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AC9-209D-4F97-A983-7A7154FE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9B0C-85C6-4FD7-A557-664261A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F538-8B1C-4487-995D-59EDCBD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0E2C-9CBE-4217-B26A-FEC5F3A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865-389C-4A69-A727-7381219E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BC1A-0DDC-46E8-873A-F19375CD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3DC-5EBE-428A-AF51-C9AB1F7F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ACC-C710-46CB-A618-F73B4AFD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579-2334-4478-9FA6-DE017F5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168-1499-4E1A-A44D-0D01D0C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4A0-5C08-4FA1-8FFA-0C0D07A0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98B-822B-4E76-8EE0-A5853482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CA7-5D5F-46FC-8A7B-B492E44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C0D-FAC3-4B42-B1F3-34278166BC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C0A8-40A5-4C97-B229-4239940073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pener: Solve the Subtrac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y – 12 = 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j - 1.3 = 3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n - 18 = 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428840" y="1643040"/>
            <a:ext cx="536400" cy="196920"/>
          </a:xfrm>
          <a:custGeom>
            <a:avLst/>
            <a:gdLst/>
            <a:ahLst/>
            <a:rect l="l" t="t" r="r" b="b"/>
            <a:pathLst>
              <a:path w="1489" h="547">
                <a:moveTo>
                  <a:pt x="4118" y="4564"/>
                </a:moveTo>
                <a:cubicBezTo>
                  <a:pt x="4102" y="4707"/>
                  <a:pt x="4068" y="4841"/>
                  <a:pt x="4068" y="4986"/>
                </a:cubicBezTo>
              </a:path>
              <a:path w="1489" h="547">
                <a:moveTo>
                  <a:pt x="3969" y="4787"/>
                </a:moveTo>
                <a:cubicBezTo>
                  <a:pt x="4056" y="4765"/>
                  <a:pt x="4127" y="4762"/>
                  <a:pt x="4217" y="4762"/>
                </a:cubicBezTo>
                <a:cubicBezTo>
                  <a:pt x="4250" y="4762"/>
                  <a:pt x="4283" y="4762"/>
                  <a:pt x="4316" y="4762"/>
                </a:cubicBezTo>
              </a:path>
              <a:path w="1489" h="547">
                <a:moveTo>
                  <a:pt x="4688" y="4638"/>
                </a:moveTo>
                <a:cubicBezTo>
                  <a:pt x="4698" y="4789"/>
                  <a:pt x="4718" y="4937"/>
                  <a:pt x="4738" y="5085"/>
                </a:cubicBezTo>
                <a:cubicBezTo>
                  <a:pt x="4738" y="5093"/>
                  <a:pt x="4738" y="5102"/>
                  <a:pt x="4738" y="5110"/>
                </a:cubicBezTo>
              </a:path>
              <a:path w="1489" h="547">
                <a:moveTo>
                  <a:pt x="5060" y="4663"/>
                </a:moveTo>
                <a:cubicBezTo>
                  <a:pt x="5101" y="4656"/>
                  <a:pt x="5253" y="4600"/>
                  <a:pt x="5283" y="4638"/>
                </a:cubicBezTo>
                <a:cubicBezTo>
                  <a:pt x="5399" y="4785"/>
                  <a:pt x="5220" y="4941"/>
                  <a:pt x="5135" y="5035"/>
                </a:cubicBezTo>
                <a:cubicBezTo>
                  <a:pt x="5127" y="5043"/>
                  <a:pt x="5118" y="5052"/>
                  <a:pt x="5110" y="5060"/>
                </a:cubicBezTo>
                <a:cubicBezTo>
                  <a:pt x="5204" y="5060"/>
                  <a:pt x="5290" y="5040"/>
                  <a:pt x="5383" y="5035"/>
                </a:cubicBezTo>
                <a:cubicBezTo>
                  <a:pt x="5407" y="5034"/>
                  <a:pt x="5433" y="5035"/>
                  <a:pt x="545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51080" y="1625760"/>
            <a:ext cx="758880" cy="473040"/>
          </a:xfrm>
          <a:custGeom>
            <a:avLst/>
            <a:gdLst/>
            <a:ahLst/>
            <a:rect l="l" t="t" r="r" b="b"/>
            <a:pathLst>
              <a:path w="2109" h="1316">
                <a:moveTo>
                  <a:pt x="6350" y="4514"/>
                </a:moveTo>
                <a:cubicBezTo>
                  <a:pt x="6350" y="4615"/>
                  <a:pt x="6370" y="4711"/>
                  <a:pt x="6375" y="4812"/>
                </a:cubicBezTo>
                <a:cubicBezTo>
                  <a:pt x="6375" y="4820"/>
                  <a:pt x="6375" y="4829"/>
                  <a:pt x="6375" y="4837"/>
                </a:cubicBezTo>
              </a:path>
              <a:path w="2109" h="1316">
                <a:moveTo>
                  <a:pt x="6251" y="4688"/>
                </a:moveTo>
                <a:cubicBezTo>
                  <a:pt x="6379" y="4658"/>
                  <a:pt x="6492" y="4638"/>
                  <a:pt x="6623" y="4638"/>
                </a:cubicBezTo>
                <a:cubicBezTo>
                  <a:pt x="6639" y="4638"/>
                  <a:pt x="6656" y="4638"/>
                  <a:pt x="6672" y="4638"/>
                </a:cubicBezTo>
              </a:path>
              <a:path w="2109" h="1316">
                <a:moveTo>
                  <a:pt x="6821" y="4539"/>
                </a:moveTo>
                <a:cubicBezTo>
                  <a:pt x="6821" y="4634"/>
                  <a:pt x="6791" y="4930"/>
                  <a:pt x="6846" y="4911"/>
                </a:cubicBezTo>
              </a:path>
              <a:path w="2109" h="1316">
                <a:moveTo>
                  <a:pt x="7045" y="4589"/>
                </a:moveTo>
                <a:cubicBezTo>
                  <a:pt x="7091" y="4552"/>
                  <a:pt x="7165" y="4545"/>
                  <a:pt x="7243" y="4539"/>
                </a:cubicBezTo>
                <a:cubicBezTo>
                  <a:pt x="7348" y="4713"/>
                  <a:pt x="7221" y="4797"/>
                  <a:pt x="7094" y="4936"/>
                </a:cubicBezTo>
                <a:cubicBezTo>
                  <a:pt x="7086" y="4944"/>
                  <a:pt x="7077" y="4953"/>
                  <a:pt x="7069" y="4961"/>
                </a:cubicBezTo>
                <a:cubicBezTo>
                  <a:pt x="7201" y="4961"/>
                  <a:pt x="7336" y="4916"/>
                  <a:pt x="7466" y="4936"/>
                </a:cubicBezTo>
                <a:cubicBezTo>
                  <a:pt x="7474" y="4944"/>
                  <a:pt x="7483" y="4953"/>
                  <a:pt x="7491" y="4961"/>
                </a:cubicBezTo>
              </a:path>
              <a:path w="2109" h="1316">
                <a:moveTo>
                  <a:pt x="7615" y="5680"/>
                </a:moveTo>
                <a:cubicBezTo>
                  <a:pt x="7676" y="5711"/>
                  <a:pt x="7738" y="5765"/>
                  <a:pt x="7764" y="5829"/>
                </a:cubicBezTo>
                <a:cubicBezTo>
                  <a:pt x="7933" y="5716"/>
                  <a:pt x="8060" y="5473"/>
                  <a:pt x="8235" y="5333"/>
                </a:cubicBezTo>
                <a:cubicBezTo>
                  <a:pt x="8276" y="5308"/>
                  <a:pt x="8318" y="5284"/>
                  <a:pt x="8359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5120" y="1312920"/>
            <a:ext cx="331920" cy="31284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10765" y="3696"/>
                </a:moveTo>
                <a:cubicBezTo>
                  <a:pt x="10714" y="3696"/>
                  <a:pt x="11052" y="3646"/>
                  <a:pt x="11063" y="3646"/>
                </a:cubicBezTo>
                <a:cubicBezTo>
                  <a:pt x="11269" y="3651"/>
                  <a:pt x="11013" y="3860"/>
                  <a:pt x="10964" y="3894"/>
                </a:cubicBezTo>
                <a:cubicBezTo>
                  <a:pt x="11068" y="3843"/>
                  <a:pt x="11106" y="3827"/>
                  <a:pt x="11187" y="3870"/>
                </a:cubicBezTo>
                <a:cubicBezTo>
                  <a:pt x="11187" y="3974"/>
                  <a:pt x="10999" y="4268"/>
                  <a:pt x="10840" y="4118"/>
                </a:cubicBezTo>
                <a:cubicBezTo>
                  <a:pt x="10782" y="3918"/>
                  <a:pt x="10784" y="3839"/>
                  <a:pt x="10964" y="3746"/>
                </a:cubicBezTo>
              </a:path>
              <a:path w="919" h="869">
                <a:moveTo>
                  <a:pt x="10294" y="4514"/>
                </a:moveTo>
                <a:cubicBezTo>
                  <a:pt x="10394" y="4504"/>
                  <a:pt x="10492" y="4483"/>
                  <a:pt x="10592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1955880"/>
            <a:ext cx="152640" cy="295200"/>
          </a:xfrm>
          <a:custGeom>
            <a:avLst/>
            <a:gdLst/>
            <a:ahLst/>
            <a:rect l="l" t="t" r="r" b="b"/>
            <a:pathLst>
              <a:path w="423" h="820">
                <a:moveTo>
                  <a:pt x="3299" y="5556"/>
                </a:moveTo>
                <a:cubicBezTo>
                  <a:pt x="3424" y="5618"/>
                  <a:pt x="3434" y="5870"/>
                  <a:pt x="3572" y="5854"/>
                </a:cubicBezTo>
                <a:cubicBezTo>
                  <a:pt x="3572" y="5829"/>
                  <a:pt x="3572" y="5804"/>
                  <a:pt x="3572" y="5779"/>
                </a:cubicBezTo>
              </a:path>
              <a:path w="423" h="820">
                <a:moveTo>
                  <a:pt x="3721" y="5432"/>
                </a:moveTo>
                <a:cubicBezTo>
                  <a:pt x="3687" y="5666"/>
                  <a:pt x="3665" y="5913"/>
                  <a:pt x="3646" y="6152"/>
                </a:cubicBezTo>
                <a:cubicBezTo>
                  <a:pt x="3646" y="6230"/>
                  <a:pt x="3631" y="6278"/>
                  <a:pt x="3671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82840" y="208116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4118" y="5804"/>
                </a:moveTo>
                <a:cubicBezTo>
                  <a:pt x="4202" y="5804"/>
                  <a:pt x="4281" y="5783"/>
                  <a:pt x="4366" y="5779"/>
                </a:cubicBezTo>
                <a:cubicBezTo>
                  <a:pt x="4374" y="5779"/>
                  <a:pt x="4382" y="5779"/>
                  <a:pt x="4390" y="5779"/>
                </a:cubicBezTo>
              </a:path>
              <a:path w="323" h="175">
                <a:moveTo>
                  <a:pt x="4142" y="5953"/>
                </a:moveTo>
                <a:cubicBezTo>
                  <a:pt x="4247" y="5946"/>
                  <a:pt x="4338" y="5920"/>
                  <a:pt x="4440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7880" y="1963800"/>
            <a:ext cx="723960" cy="277920"/>
          </a:xfrm>
          <a:custGeom>
            <a:avLst/>
            <a:gdLst/>
            <a:ahLst/>
            <a:rect l="l" t="t" r="r" b="b"/>
            <a:pathLst>
              <a:path w="2010" h="770">
                <a:moveTo>
                  <a:pt x="5184" y="5507"/>
                </a:moveTo>
                <a:cubicBezTo>
                  <a:pt x="5165" y="5554"/>
                  <a:pt x="5148" y="5579"/>
                  <a:pt x="5135" y="5631"/>
                </a:cubicBezTo>
                <a:cubicBezTo>
                  <a:pt x="5188" y="5641"/>
                  <a:pt x="5454" y="5637"/>
                  <a:pt x="5333" y="5507"/>
                </a:cubicBezTo>
                <a:cubicBezTo>
                  <a:pt x="5251" y="5479"/>
                  <a:pt x="5218" y="5469"/>
                  <a:pt x="5159" y="5457"/>
                </a:cubicBezTo>
              </a:path>
              <a:path w="2010" h="770">
                <a:moveTo>
                  <a:pt x="5556" y="5904"/>
                </a:moveTo>
                <a:cubicBezTo>
                  <a:pt x="5673" y="5896"/>
                  <a:pt x="5785" y="5879"/>
                  <a:pt x="5904" y="5879"/>
                </a:cubicBezTo>
              </a:path>
              <a:path w="2010" h="770">
                <a:moveTo>
                  <a:pt x="5581" y="6077"/>
                </a:moveTo>
                <a:cubicBezTo>
                  <a:pt x="5721" y="6050"/>
                  <a:pt x="5862" y="6021"/>
                  <a:pt x="6003" y="6003"/>
                </a:cubicBezTo>
              </a:path>
              <a:path w="2010" h="770">
                <a:moveTo>
                  <a:pt x="6028" y="5779"/>
                </a:moveTo>
                <a:cubicBezTo>
                  <a:pt x="6068" y="5730"/>
                  <a:pt x="6275" y="5639"/>
                  <a:pt x="6350" y="5705"/>
                </a:cubicBezTo>
                <a:cubicBezTo>
                  <a:pt x="6464" y="5805"/>
                  <a:pt x="6186" y="5932"/>
                  <a:pt x="6152" y="5953"/>
                </a:cubicBezTo>
                <a:cubicBezTo>
                  <a:pt x="6144" y="5961"/>
                  <a:pt x="6135" y="5970"/>
                  <a:pt x="6127" y="5978"/>
                </a:cubicBezTo>
                <a:cubicBezTo>
                  <a:pt x="6206" y="5938"/>
                  <a:pt x="6377" y="5918"/>
                  <a:pt x="6449" y="6003"/>
                </a:cubicBezTo>
                <a:cubicBezTo>
                  <a:pt x="6597" y="6178"/>
                  <a:pt x="6217" y="6245"/>
                  <a:pt x="6127" y="6226"/>
                </a:cubicBezTo>
                <a:cubicBezTo>
                  <a:pt x="6055" y="6178"/>
                  <a:pt x="6029" y="6165"/>
                  <a:pt x="6077" y="6102"/>
                </a:cubicBezTo>
              </a:path>
              <a:path w="2010" h="770">
                <a:moveTo>
                  <a:pt x="6623" y="5705"/>
                </a:moveTo>
                <a:cubicBezTo>
                  <a:pt x="6623" y="5610"/>
                  <a:pt x="6739" y="5578"/>
                  <a:pt x="6821" y="5556"/>
                </a:cubicBezTo>
                <a:cubicBezTo>
                  <a:pt x="7025" y="5501"/>
                  <a:pt x="7101" y="5644"/>
                  <a:pt x="6970" y="5804"/>
                </a:cubicBezTo>
                <a:cubicBezTo>
                  <a:pt x="6914" y="5842"/>
                  <a:pt x="6911" y="5859"/>
                  <a:pt x="6871" y="5854"/>
                </a:cubicBezTo>
                <a:cubicBezTo>
                  <a:pt x="6971" y="5829"/>
                  <a:pt x="7160" y="5752"/>
                  <a:pt x="7144" y="5953"/>
                </a:cubicBezTo>
                <a:cubicBezTo>
                  <a:pt x="7127" y="6173"/>
                  <a:pt x="6861" y="6208"/>
                  <a:pt x="669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3120" y="4081320"/>
            <a:ext cx="473040" cy="169920"/>
          </a:xfrm>
          <a:custGeom>
            <a:avLst/>
            <a:gdLst/>
            <a:ahLst/>
            <a:rect l="l" t="t" r="r" b="b"/>
            <a:pathLst>
              <a:path w="1315" h="472">
                <a:moveTo>
                  <a:pt x="4217" y="11361"/>
                </a:moveTo>
                <a:cubicBezTo>
                  <a:pt x="4264" y="11376"/>
                  <a:pt x="4293" y="11556"/>
                  <a:pt x="4291" y="11609"/>
                </a:cubicBezTo>
                <a:cubicBezTo>
                  <a:pt x="4272" y="11666"/>
                  <a:pt x="4263" y="11673"/>
                  <a:pt x="4266" y="11708"/>
                </a:cubicBezTo>
              </a:path>
              <a:path w="1315" h="472">
                <a:moveTo>
                  <a:pt x="4093" y="11485"/>
                </a:moveTo>
                <a:cubicBezTo>
                  <a:pt x="4244" y="11485"/>
                  <a:pt x="4397" y="11463"/>
                  <a:pt x="4539" y="11485"/>
                </a:cubicBezTo>
              </a:path>
              <a:path w="1315" h="472">
                <a:moveTo>
                  <a:pt x="4762" y="11410"/>
                </a:moveTo>
                <a:cubicBezTo>
                  <a:pt x="4779" y="11546"/>
                  <a:pt x="4787" y="11670"/>
                  <a:pt x="4787" y="11807"/>
                </a:cubicBezTo>
              </a:path>
              <a:path w="1315" h="472">
                <a:moveTo>
                  <a:pt x="5209" y="11336"/>
                </a:moveTo>
                <a:cubicBezTo>
                  <a:pt x="5095" y="11386"/>
                  <a:pt x="5058" y="11391"/>
                  <a:pt x="5011" y="11509"/>
                </a:cubicBezTo>
                <a:cubicBezTo>
                  <a:pt x="5172" y="11611"/>
                  <a:pt x="5355" y="11648"/>
                  <a:pt x="5383" y="11807"/>
                </a:cubicBezTo>
                <a:cubicBezTo>
                  <a:pt x="5125" y="11764"/>
                  <a:pt x="5156" y="11646"/>
                  <a:pt x="5308" y="11435"/>
                </a:cubicBezTo>
                <a:cubicBezTo>
                  <a:pt x="5350" y="11377"/>
                  <a:pt x="5424" y="11358"/>
                  <a:pt x="5358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4840" y="4037040"/>
            <a:ext cx="152280" cy="1778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7293" y="11212"/>
                </a:moveTo>
                <a:cubicBezTo>
                  <a:pt x="7086" y="11310"/>
                  <a:pt x="6964" y="11390"/>
                  <a:pt x="7193" y="11584"/>
                </a:cubicBezTo>
                <a:cubicBezTo>
                  <a:pt x="7296" y="11645"/>
                  <a:pt x="7320" y="11653"/>
                  <a:pt x="7367" y="11708"/>
                </a:cubicBezTo>
                <a:cubicBezTo>
                  <a:pt x="7169" y="11688"/>
                  <a:pt x="7156" y="11635"/>
                  <a:pt x="7293" y="11460"/>
                </a:cubicBezTo>
                <a:cubicBezTo>
                  <a:pt x="7441" y="11271"/>
                  <a:pt x="7570" y="11327"/>
                  <a:pt x="7342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4160" y="4589640"/>
            <a:ext cx="169920" cy="4572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5705" y="12874"/>
                </a:moveTo>
                <a:cubicBezTo>
                  <a:pt x="5889" y="12863"/>
                  <a:pt x="6025" y="12850"/>
                  <a:pt x="6176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11200" y="4510080"/>
            <a:ext cx="17784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3944" y="12551"/>
                </a:moveTo>
                <a:cubicBezTo>
                  <a:pt x="3944" y="12696"/>
                  <a:pt x="3939" y="12830"/>
                  <a:pt x="3919" y="12973"/>
                </a:cubicBezTo>
                <a:cubicBezTo>
                  <a:pt x="3919" y="13025"/>
                  <a:pt x="3950" y="12703"/>
                  <a:pt x="3969" y="12650"/>
                </a:cubicBezTo>
                <a:cubicBezTo>
                  <a:pt x="4041" y="12445"/>
                  <a:pt x="4305" y="12504"/>
                  <a:pt x="4390" y="12675"/>
                </a:cubicBezTo>
                <a:cubicBezTo>
                  <a:pt x="4427" y="12749"/>
                  <a:pt x="4415" y="12866"/>
                  <a:pt x="441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9960" y="4384800"/>
            <a:ext cx="847800" cy="366480"/>
          </a:xfrm>
          <a:custGeom>
            <a:avLst/>
            <a:gdLst/>
            <a:ahLst/>
            <a:rect l="l" t="t" r="r" b="b"/>
            <a:pathLst>
              <a:path w="2357" h="1018">
                <a:moveTo>
                  <a:pt x="5655" y="12675"/>
                </a:moveTo>
                <a:cubicBezTo>
                  <a:pt x="5815" y="12675"/>
                  <a:pt x="5969" y="12642"/>
                  <a:pt x="6127" y="12626"/>
                </a:cubicBezTo>
                <a:cubicBezTo>
                  <a:pt x="6143" y="12626"/>
                  <a:pt x="6160" y="12626"/>
                  <a:pt x="6176" y="12626"/>
                </a:cubicBezTo>
              </a:path>
              <a:path w="2357" h="1018">
                <a:moveTo>
                  <a:pt x="5209" y="12204"/>
                </a:moveTo>
                <a:cubicBezTo>
                  <a:pt x="5144" y="12308"/>
                  <a:pt x="5125" y="12357"/>
                  <a:pt x="5110" y="12477"/>
                </a:cubicBezTo>
                <a:cubicBezTo>
                  <a:pt x="5209" y="12484"/>
                  <a:pt x="5457" y="12461"/>
                  <a:pt x="5383" y="12278"/>
                </a:cubicBezTo>
                <a:cubicBezTo>
                  <a:pt x="5309" y="12205"/>
                  <a:pt x="5285" y="12180"/>
                  <a:pt x="5209" y="12179"/>
                </a:cubicBezTo>
              </a:path>
              <a:path w="2357" h="1018">
                <a:moveTo>
                  <a:pt x="7293" y="12774"/>
                </a:moveTo>
                <a:cubicBezTo>
                  <a:pt x="7200" y="12908"/>
                  <a:pt x="7119" y="12993"/>
                  <a:pt x="7119" y="13146"/>
                </a:cubicBezTo>
                <a:cubicBezTo>
                  <a:pt x="7271" y="13138"/>
                  <a:pt x="7570" y="13015"/>
                  <a:pt x="7466" y="12774"/>
                </a:cubicBezTo>
                <a:cubicBezTo>
                  <a:pt x="7364" y="12698"/>
                  <a:pt x="7328" y="12672"/>
                  <a:pt x="7243" y="12650"/>
                </a:cubicBezTo>
              </a:path>
              <a:path w="2357" h="1018">
                <a:moveTo>
                  <a:pt x="6375" y="12526"/>
                </a:moveTo>
                <a:cubicBezTo>
                  <a:pt x="6313" y="12629"/>
                  <a:pt x="6298" y="12774"/>
                  <a:pt x="6276" y="12898"/>
                </a:cubicBezTo>
                <a:cubicBezTo>
                  <a:pt x="6248" y="13058"/>
                  <a:pt x="6293" y="13273"/>
                  <a:pt x="6524" y="13196"/>
                </a:cubicBezTo>
                <a:cubicBezTo>
                  <a:pt x="6690" y="13141"/>
                  <a:pt x="6754" y="13062"/>
                  <a:pt x="6796" y="12923"/>
                </a:cubicBezTo>
                <a:cubicBezTo>
                  <a:pt x="6645" y="12895"/>
                  <a:pt x="6507" y="12940"/>
                  <a:pt x="6474" y="13122"/>
                </a:cubicBezTo>
                <a:cubicBezTo>
                  <a:pt x="6506" y="13185"/>
                  <a:pt x="6530" y="13197"/>
                  <a:pt x="659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4446720"/>
            <a:ext cx="312840" cy="196560"/>
          </a:xfrm>
          <a:custGeom>
            <a:avLst/>
            <a:gdLst/>
            <a:ahLst/>
            <a:rect l="l" t="t" r="r" b="b"/>
            <a:pathLst>
              <a:path w="869" h="546">
                <a:moveTo>
                  <a:pt x="7962" y="12650"/>
                </a:moveTo>
                <a:cubicBezTo>
                  <a:pt x="7996" y="12732"/>
                  <a:pt x="8025" y="12825"/>
                  <a:pt x="8062" y="12898"/>
                </a:cubicBezTo>
                <a:cubicBezTo>
                  <a:pt x="8284" y="12796"/>
                  <a:pt x="8457" y="12535"/>
                  <a:pt x="8682" y="12402"/>
                </a:cubicBezTo>
                <a:cubicBezTo>
                  <a:pt x="8731" y="12386"/>
                  <a:pt x="8781" y="12369"/>
                  <a:pt x="8830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8840" y="1581120"/>
            <a:ext cx="455400" cy="3303720"/>
          </a:xfrm>
          <a:custGeom>
            <a:avLst/>
            <a:gdLst/>
            <a:ahLst/>
            <a:rect l="l" t="t" r="r" b="b"/>
            <a:pathLst>
              <a:path w="1266" h="9179">
                <a:moveTo>
                  <a:pt x="11112" y="4390"/>
                </a:moveTo>
                <a:cubicBezTo>
                  <a:pt x="11129" y="4507"/>
                  <a:pt x="11156" y="4624"/>
                  <a:pt x="11187" y="4738"/>
                </a:cubicBezTo>
              </a:path>
              <a:path w="1266" h="9179">
                <a:moveTo>
                  <a:pt x="11584" y="7838"/>
                </a:moveTo>
                <a:cubicBezTo>
                  <a:pt x="11559" y="7888"/>
                  <a:pt x="11551" y="7905"/>
                  <a:pt x="11609" y="7863"/>
                </a:cubicBezTo>
              </a:path>
              <a:path w="1266" h="9179">
                <a:moveTo>
                  <a:pt x="11361" y="9823"/>
                </a:moveTo>
                <a:cubicBezTo>
                  <a:pt x="11361" y="9831"/>
                  <a:pt x="11361" y="9839"/>
                  <a:pt x="11361" y="9847"/>
                </a:cubicBezTo>
              </a:path>
              <a:path w="1266" h="9179">
                <a:moveTo>
                  <a:pt x="10468" y="12005"/>
                </a:moveTo>
                <a:cubicBezTo>
                  <a:pt x="10581" y="11993"/>
                  <a:pt x="10677" y="11986"/>
                  <a:pt x="10790" y="11981"/>
                </a:cubicBezTo>
              </a:path>
              <a:path w="1266" h="9179">
                <a:moveTo>
                  <a:pt x="10889" y="10616"/>
                </a:moveTo>
                <a:cubicBezTo>
                  <a:pt x="11048" y="10579"/>
                  <a:pt x="11198" y="10529"/>
                  <a:pt x="11361" y="10517"/>
                </a:cubicBezTo>
              </a:path>
              <a:path w="1266" h="9179">
                <a:moveTo>
                  <a:pt x="11361" y="10517"/>
                </a:moveTo>
                <a:lnTo>
                  <a:pt x="11361" y="10517"/>
                </a:lnTo>
              </a:path>
              <a:path w="1266" h="9179">
                <a:moveTo>
                  <a:pt x="11733" y="10740"/>
                </a:moveTo>
                <a:cubicBezTo>
                  <a:pt x="11714" y="10856"/>
                  <a:pt x="11705" y="10972"/>
                  <a:pt x="11683" y="11088"/>
                </a:cubicBezTo>
              </a:path>
              <a:path w="1266" h="9179">
                <a:moveTo>
                  <a:pt x="11336" y="12824"/>
                </a:moveTo>
                <a:cubicBezTo>
                  <a:pt x="11249" y="13042"/>
                  <a:pt x="11185" y="13270"/>
                  <a:pt x="11112" y="13494"/>
                </a:cubicBezTo>
                <a:cubicBezTo>
                  <a:pt x="11104" y="13519"/>
                  <a:pt x="11096" y="13543"/>
                  <a:pt x="1108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4200" y="1285920"/>
            <a:ext cx="588960" cy="758880"/>
          </a:xfrm>
          <a:custGeom>
            <a:avLst/>
            <a:gdLst/>
            <a:ahLst/>
            <a:rect l="l" t="t" r="r" b="b"/>
            <a:pathLst>
              <a:path w="1638" h="2109">
                <a:moveTo>
                  <a:pt x="11534" y="4415"/>
                </a:moveTo>
                <a:cubicBezTo>
                  <a:pt x="11615" y="4395"/>
                  <a:pt x="11672" y="4390"/>
                  <a:pt x="11757" y="4390"/>
                </a:cubicBezTo>
                <a:cubicBezTo>
                  <a:pt x="11739" y="4505"/>
                  <a:pt x="11664" y="4546"/>
                  <a:pt x="11609" y="4638"/>
                </a:cubicBezTo>
                <a:cubicBezTo>
                  <a:pt x="11609" y="4646"/>
                  <a:pt x="11609" y="4655"/>
                  <a:pt x="11609" y="4663"/>
                </a:cubicBezTo>
                <a:cubicBezTo>
                  <a:pt x="11728" y="4663"/>
                  <a:pt x="11839" y="4649"/>
                  <a:pt x="11956" y="4638"/>
                </a:cubicBezTo>
              </a:path>
              <a:path w="1638" h="2109">
                <a:moveTo>
                  <a:pt x="10344" y="4961"/>
                </a:moveTo>
                <a:cubicBezTo>
                  <a:pt x="10740" y="4906"/>
                  <a:pt x="11133" y="4851"/>
                  <a:pt x="11534" y="4837"/>
                </a:cubicBezTo>
                <a:cubicBezTo>
                  <a:pt x="11569" y="4836"/>
                  <a:pt x="11936" y="4857"/>
                  <a:pt x="11981" y="4862"/>
                </a:cubicBezTo>
              </a:path>
              <a:path w="1638" h="2109">
                <a:moveTo>
                  <a:pt x="10889" y="5283"/>
                </a:moveTo>
                <a:cubicBezTo>
                  <a:pt x="10991" y="5271"/>
                  <a:pt x="11084" y="5259"/>
                  <a:pt x="11187" y="5259"/>
                </a:cubicBezTo>
                <a:cubicBezTo>
                  <a:pt x="11145" y="5440"/>
                  <a:pt x="11039" y="5478"/>
                  <a:pt x="10889" y="5581"/>
                </a:cubicBezTo>
                <a:cubicBezTo>
                  <a:pt x="10881" y="5589"/>
                  <a:pt x="10872" y="5598"/>
                  <a:pt x="10864" y="5606"/>
                </a:cubicBezTo>
                <a:cubicBezTo>
                  <a:pt x="11000" y="5606"/>
                  <a:pt x="11126" y="5570"/>
                  <a:pt x="11261" y="5556"/>
                </a:cubicBezTo>
                <a:cubicBezTo>
                  <a:pt x="11302" y="5552"/>
                  <a:pt x="11378" y="5556"/>
                  <a:pt x="11336" y="5556"/>
                </a:cubicBezTo>
              </a:path>
              <a:path w="1638" h="2109">
                <a:moveTo>
                  <a:pt x="11311" y="3671"/>
                </a:moveTo>
                <a:cubicBezTo>
                  <a:pt x="11362" y="3654"/>
                  <a:pt x="11458" y="3592"/>
                  <a:pt x="11534" y="3572"/>
                </a:cubicBezTo>
                <a:cubicBezTo>
                  <a:pt x="11551" y="3572"/>
                  <a:pt x="11567" y="3572"/>
                  <a:pt x="11584" y="3572"/>
                </a:cubicBezTo>
                <a:cubicBezTo>
                  <a:pt x="11609" y="3661"/>
                  <a:pt x="11584" y="3725"/>
                  <a:pt x="11485" y="3770"/>
                </a:cubicBezTo>
                <a:cubicBezTo>
                  <a:pt x="11477" y="3770"/>
                  <a:pt x="11468" y="3770"/>
                  <a:pt x="11460" y="3770"/>
                </a:cubicBezTo>
                <a:cubicBezTo>
                  <a:pt x="11582" y="3770"/>
                  <a:pt x="11657" y="3780"/>
                  <a:pt x="11757" y="3845"/>
                </a:cubicBezTo>
                <a:cubicBezTo>
                  <a:pt x="11650" y="3996"/>
                  <a:pt x="11596" y="4017"/>
                  <a:pt x="11410" y="3994"/>
                </a:cubicBezTo>
              </a:path>
              <a:path w="1638" h="2109">
                <a:moveTo>
                  <a:pt x="11509" y="5234"/>
                </a:moveTo>
                <a:cubicBezTo>
                  <a:pt x="11542" y="5379"/>
                  <a:pt x="11596" y="5506"/>
                  <a:pt x="11609" y="5655"/>
                </a:cubicBezTo>
                <a:cubicBezTo>
                  <a:pt x="11609" y="5663"/>
                  <a:pt x="11609" y="5672"/>
                  <a:pt x="11609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19680" y="2589120"/>
            <a:ext cx="161640" cy="250920"/>
          </a:xfrm>
          <a:custGeom>
            <a:avLst/>
            <a:gdLst/>
            <a:ahLst/>
            <a:rect l="l" t="t" r="r" b="b"/>
            <a:pathLst>
              <a:path w="448" h="696">
                <a:moveTo>
                  <a:pt x="11013" y="7268"/>
                </a:moveTo>
                <a:cubicBezTo>
                  <a:pt x="10974" y="7412"/>
                  <a:pt x="10985" y="7429"/>
                  <a:pt x="10889" y="7541"/>
                </a:cubicBezTo>
                <a:cubicBezTo>
                  <a:pt x="11043" y="7510"/>
                  <a:pt x="11111" y="7558"/>
                  <a:pt x="11261" y="7615"/>
                </a:cubicBezTo>
                <a:cubicBezTo>
                  <a:pt x="11319" y="7634"/>
                  <a:pt x="11344" y="7661"/>
                  <a:pt x="11336" y="7615"/>
                </a:cubicBezTo>
              </a:path>
              <a:path w="448" h="696">
                <a:moveTo>
                  <a:pt x="11336" y="7193"/>
                </a:moveTo>
                <a:cubicBezTo>
                  <a:pt x="11325" y="7426"/>
                  <a:pt x="11296" y="7657"/>
                  <a:pt x="11261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2200" y="3027240"/>
            <a:ext cx="893880" cy="544680"/>
          </a:xfrm>
          <a:custGeom>
            <a:avLst/>
            <a:gdLst/>
            <a:ahLst/>
            <a:rect l="l" t="t" r="r" b="b"/>
            <a:pathLst>
              <a:path w="2482" h="1514">
                <a:moveTo>
                  <a:pt x="9897" y="8533"/>
                </a:moveTo>
                <a:cubicBezTo>
                  <a:pt x="10057" y="8555"/>
                  <a:pt x="10206" y="8558"/>
                  <a:pt x="10368" y="8558"/>
                </a:cubicBezTo>
              </a:path>
              <a:path w="2482" h="1514">
                <a:moveTo>
                  <a:pt x="11063" y="8508"/>
                </a:moveTo>
                <a:cubicBezTo>
                  <a:pt x="11063" y="8567"/>
                  <a:pt x="11010" y="8821"/>
                  <a:pt x="11038" y="8855"/>
                </a:cubicBezTo>
                <a:cubicBezTo>
                  <a:pt x="11046" y="8847"/>
                  <a:pt x="11055" y="8838"/>
                  <a:pt x="11063" y="8830"/>
                </a:cubicBezTo>
              </a:path>
              <a:path w="2482" h="1514">
                <a:moveTo>
                  <a:pt x="11385" y="8657"/>
                </a:moveTo>
                <a:cubicBezTo>
                  <a:pt x="11385" y="8742"/>
                  <a:pt x="11365" y="8733"/>
                  <a:pt x="11435" y="8756"/>
                </a:cubicBezTo>
              </a:path>
              <a:path w="2482" h="1514">
                <a:moveTo>
                  <a:pt x="11782" y="8434"/>
                </a:moveTo>
                <a:cubicBezTo>
                  <a:pt x="11871" y="8419"/>
                  <a:pt x="12049" y="8362"/>
                  <a:pt x="12129" y="8434"/>
                </a:cubicBezTo>
                <a:cubicBezTo>
                  <a:pt x="12231" y="8525"/>
                  <a:pt x="12003" y="8582"/>
                  <a:pt x="11956" y="8582"/>
                </a:cubicBezTo>
                <a:cubicBezTo>
                  <a:pt x="11964" y="8582"/>
                  <a:pt x="11973" y="8582"/>
                  <a:pt x="11981" y="8582"/>
                </a:cubicBezTo>
                <a:cubicBezTo>
                  <a:pt x="12120" y="8600"/>
                  <a:pt x="12131" y="8592"/>
                  <a:pt x="12204" y="8706"/>
                </a:cubicBezTo>
                <a:cubicBezTo>
                  <a:pt x="12058" y="8810"/>
                  <a:pt x="12043" y="8797"/>
                  <a:pt x="11857" y="8781"/>
                </a:cubicBezTo>
              </a:path>
              <a:path w="2482" h="1514">
                <a:moveTo>
                  <a:pt x="10170" y="9153"/>
                </a:moveTo>
                <a:cubicBezTo>
                  <a:pt x="10772" y="9109"/>
                  <a:pt x="11377" y="9070"/>
                  <a:pt x="11981" y="9054"/>
                </a:cubicBezTo>
                <a:cubicBezTo>
                  <a:pt x="12099" y="9051"/>
                  <a:pt x="12409" y="8998"/>
                  <a:pt x="12328" y="9079"/>
                </a:cubicBezTo>
              </a:path>
              <a:path w="2482" h="1514">
                <a:moveTo>
                  <a:pt x="11906" y="9376"/>
                </a:moveTo>
                <a:cubicBezTo>
                  <a:pt x="11897" y="9446"/>
                  <a:pt x="11818" y="9635"/>
                  <a:pt x="11956" y="9649"/>
                </a:cubicBezTo>
                <a:cubicBezTo>
                  <a:pt x="12125" y="9621"/>
                  <a:pt x="12192" y="9600"/>
                  <a:pt x="12278" y="9500"/>
                </a:cubicBezTo>
              </a:path>
              <a:path w="2482" h="1514">
                <a:moveTo>
                  <a:pt x="12229" y="9252"/>
                </a:moveTo>
                <a:cubicBezTo>
                  <a:pt x="12142" y="9464"/>
                  <a:pt x="12121" y="9724"/>
                  <a:pt x="12005" y="9922"/>
                </a:cubicBezTo>
                <a:cubicBezTo>
                  <a:pt x="11964" y="9922"/>
                  <a:pt x="11939" y="9922"/>
                  <a:pt x="1190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1200" y="3803760"/>
            <a:ext cx="847800" cy="1081080"/>
          </a:xfrm>
          <a:custGeom>
            <a:avLst/>
            <a:gdLst/>
            <a:ahLst/>
            <a:rect l="l" t="t" r="r" b="b"/>
            <a:pathLst>
              <a:path w="2357" h="3002">
                <a:moveTo>
                  <a:pt x="11361" y="10641"/>
                </a:moveTo>
                <a:cubicBezTo>
                  <a:pt x="11318" y="10832"/>
                  <a:pt x="11198" y="11035"/>
                  <a:pt x="11212" y="11237"/>
                </a:cubicBezTo>
                <a:cubicBezTo>
                  <a:pt x="11228" y="11278"/>
                  <a:pt x="11245" y="11320"/>
                  <a:pt x="11261" y="11361"/>
                </a:cubicBezTo>
                <a:cubicBezTo>
                  <a:pt x="11536" y="11373"/>
                  <a:pt x="11594" y="11317"/>
                  <a:pt x="11683" y="11063"/>
                </a:cubicBezTo>
                <a:cubicBezTo>
                  <a:pt x="11554" y="11062"/>
                  <a:pt x="11398" y="11270"/>
                  <a:pt x="11435" y="11435"/>
                </a:cubicBezTo>
                <a:cubicBezTo>
                  <a:pt x="11524" y="11495"/>
                  <a:pt x="11565" y="11502"/>
                  <a:pt x="11633" y="11410"/>
                </a:cubicBezTo>
              </a:path>
              <a:path w="2357" h="3002">
                <a:moveTo>
                  <a:pt x="12030" y="10864"/>
                </a:moveTo>
                <a:cubicBezTo>
                  <a:pt x="11885" y="11086"/>
                  <a:pt x="11857" y="11092"/>
                  <a:pt x="11931" y="11336"/>
                </a:cubicBezTo>
                <a:cubicBezTo>
                  <a:pt x="12147" y="11285"/>
                  <a:pt x="12382" y="11147"/>
                  <a:pt x="12278" y="10864"/>
                </a:cubicBezTo>
                <a:cubicBezTo>
                  <a:pt x="12182" y="10801"/>
                  <a:pt x="12135" y="10796"/>
                  <a:pt x="12055" y="10889"/>
                </a:cubicBezTo>
              </a:path>
              <a:path w="2357" h="3002">
                <a:moveTo>
                  <a:pt x="11311" y="11906"/>
                </a:moveTo>
                <a:cubicBezTo>
                  <a:pt x="11311" y="12052"/>
                  <a:pt x="11302" y="12191"/>
                  <a:pt x="11336" y="12328"/>
                </a:cubicBezTo>
              </a:path>
              <a:path w="2357" h="3002">
                <a:moveTo>
                  <a:pt x="12030" y="11733"/>
                </a:moveTo>
                <a:cubicBezTo>
                  <a:pt x="11751" y="11872"/>
                  <a:pt x="11613" y="11956"/>
                  <a:pt x="11931" y="12179"/>
                </a:cubicBezTo>
                <a:cubicBezTo>
                  <a:pt x="11989" y="12212"/>
                  <a:pt x="12047" y="12245"/>
                  <a:pt x="12105" y="12278"/>
                </a:cubicBezTo>
                <a:cubicBezTo>
                  <a:pt x="12132" y="12335"/>
                  <a:pt x="12133" y="12354"/>
                  <a:pt x="12055" y="12353"/>
                </a:cubicBezTo>
                <a:cubicBezTo>
                  <a:pt x="11748" y="12199"/>
                  <a:pt x="11988" y="12099"/>
                  <a:pt x="12204" y="11931"/>
                </a:cubicBezTo>
                <a:cubicBezTo>
                  <a:pt x="12251" y="11884"/>
                  <a:pt x="12272" y="11866"/>
                  <a:pt x="12204" y="11906"/>
                </a:cubicBezTo>
              </a:path>
              <a:path w="2357" h="3002">
                <a:moveTo>
                  <a:pt x="10418" y="12774"/>
                </a:moveTo>
                <a:cubicBezTo>
                  <a:pt x="11005" y="12733"/>
                  <a:pt x="11587" y="12650"/>
                  <a:pt x="12179" y="12650"/>
                </a:cubicBezTo>
                <a:cubicBezTo>
                  <a:pt x="12337" y="12650"/>
                  <a:pt x="12887" y="12807"/>
                  <a:pt x="12650" y="12675"/>
                </a:cubicBezTo>
                <a:cubicBezTo>
                  <a:pt x="12601" y="12642"/>
                  <a:pt x="12551" y="12609"/>
                  <a:pt x="12502" y="12576"/>
                </a:cubicBezTo>
              </a:path>
              <a:path w="2357" h="3002">
                <a:moveTo>
                  <a:pt x="11361" y="10790"/>
                </a:moveTo>
                <a:cubicBezTo>
                  <a:pt x="11361" y="10632"/>
                  <a:pt x="11437" y="11046"/>
                  <a:pt x="11509" y="11187"/>
                </a:cubicBezTo>
                <a:cubicBezTo>
                  <a:pt x="11570" y="11306"/>
                  <a:pt x="11598" y="11409"/>
                  <a:pt x="11708" y="11485"/>
                </a:cubicBezTo>
              </a:path>
              <a:path w="2357" h="3002">
                <a:moveTo>
                  <a:pt x="10864" y="10567"/>
                </a:moveTo>
                <a:cubicBezTo>
                  <a:pt x="10809" y="10614"/>
                  <a:pt x="10797" y="10645"/>
                  <a:pt x="10765" y="10716"/>
                </a:cubicBezTo>
                <a:cubicBezTo>
                  <a:pt x="10854" y="10793"/>
                  <a:pt x="10981" y="10797"/>
                  <a:pt x="11088" y="10864"/>
                </a:cubicBezTo>
                <a:cubicBezTo>
                  <a:pt x="10950" y="10990"/>
                  <a:pt x="10966" y="10960"/>
                  <a:pt x="10790" y="10889"/>
                </a:cubicBezTo>
              </a:path>
              <a:path w="2357" h="3002">
                <a:moveTo>
                  <a:pt x="11733" y="13022"/>
                </a:moveTo>
                <a:cubicBezTo>
                  <a:pt x="11818" y="13022"/>
                  <a:pt x="11981" y="13019"/>
                  <a:pt x="12055" y="13047"/>
                </a:cubicBezTo>
                <a:cubicBezTo>
                  <a:pt x="12072" y="13064"/>
                  <a:pt x="12088" y="13080"/>
                  <a:pt x="12105" y="13097"/>
                </a:cubicBezTo>
                <a:cubicBezTo>
                  <a:pt x="11973" y="13288"/>
                  <a:pt x="11821" y="13428"/>
                  <a:pt x="11633" y="13568"/>
                </a:cubicBezTo>
                <a:cubicBezTo>
                  <a:pt x="11787" y="13551"/>
                  <a:pt x="11983" y="13557"/>
                  <a:pt x="12129" y="13519"/>
                </a:cubicBezTo>
                <a:cubicBezTo>
                  <a:pt x="12129" y="13511"/>
                  <a:pt x="12129" y="13502"/>
                  <a:pt x="12129" y="13494"/>
                </a:cubicBezTo>
              </a:path>
              <a:path w="2357" h="3002">
                <a:moveTo>
                  <a:pt x="11038" y="12973"/>
                </a:moveTo>
                <a:cubicBezTo>
                  <a:pt x="11021" y="13041"/>
                  <a:pt x="10993" y="13106"/>
                  <a:pt x="10964" y="13171"/>
                </a:cubicBezTo>
                <a:cubicBezTo>
                  <a:pt x="11116" y="13171"/>
                  <a:pt x="11242" y="13169"/>
                  <a:pt x="11385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8880" y="2589120"/>
            <a:ext cx="196920" cy="260280"/>
          </a:xfrm>
          <a:custGeom>
            <a:avLst/>
            <a:gdLst/>
            <a:ahLst/>
            <a:rect l="l" t="t" r="r" b="b"/>
            <a:pathLst>
              <a:path w="546" h="721">
                <a:moveTo>
                  <a:pt x="11857" y="7218"/>
                </a:moveTo>
                <a:cubicBezTo>
                  <a:pt x="11985" y="7274"/>
                  <a:pt x="12185" y="7248"/>
                  <a:pt x="12328" y="7218"/>
                </a:cubicBezTo>
                <a:cubicBezTo>
                  <a:pt x="12345" y="7210"/>
                  <a:pt x="12361" y="7201"/>
                  <a:pt x="12378" y="7193"/>
                </a:cubicBezTo>
                <a:cubicBezTo>
                  <a:pt x="12397" y="7423"/>
                  <a:pt x="12378" y="7663"/>
                  <a:pt x="12303" y="7888"/>
                </a:cubicBezTo>
                <a:cubicBezTo>
                  <a:pt x="12295" y="7896"/>
                  <a:pt x="12286" y="7905"/>
                  <a:pt x="12278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76240" y="3027240"/>
            <a:ext cx="804960" cy="88920"/>
          </a:xfrm>
          <a:custGeom>
            <a:avLst/>
            <a:gdLst/>
            <a:ahLst/>
            <a:rect l="l" t="t" r="r" b="b"/>
            <a:pathLst>
              <a:path w="2234" h="249">
                <a:moveTo>
                  <a:pt x="4936" y="8657"/>
                </a:moveTo>
                <a:lnTo>
                  <a:pt x="4936" y="8657"/>
                </a:lnTo>
              </a:path>
              <a:path w="2234" h="249">
                <a:moveTo>
                  <a:pt x="7169" y="8409"/>
                </a:moveTo>
                <a:cubicBezTo>
                  <a:pt x="7169" y="8417"/>
                  <a:pt x="7169" y="8426"/>
                  <a:pt x="7169" y="8434"/>
                </a:cubicBezTo>
              </a:path>
              <a:path w="2234" h="249">
                <a:moveTo>
                  <a:pt x="7169" y="8434"/>
                </a:moveTo>
                <a:lnTo>
                  <a:pt x="7169" y="843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9000" y="2857680"/>
            <a:ext cx="179280" cy="12528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6449" y="7938"/>
                </a:moveTo>
                <a:cubicBezTo>
                  <a:pt x="6449" y="8054"/>
                  <a:pt x="6449" y="8169"/>
                  <a:pt x="6449" y="8285"/>
                </a:cubicBezTo>
              </a:path>
              <a:path w="497" h="348">
                <a:moveTo>
                  <a:pt x="6276" y="8161"/>
                </a:moveTo>
                <a:cubicBezTo>
                  <a:pt x="6441" y="8161"/>
                  <a:pt x="6607" y="8161"/>
                  <a:pt x="6772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5200" y="2857680"/>
            <a:ext cx="527040" cy="482400"/>
          </a:xfrm>
          <a:custGeom>
            <a:avLst/>
            <a:gdLst/>
            <a:ahLst/>
            <a:rect l="l" t="t" r="r" b="b"/>
            <a:pathLst>
              <a:path w="1464" h="1340">
                <a:moveTo>
                  <a:pt x="4242" y="7938"/>
                </a:moveTo>
                <a:cubicBezTo>
                  <a:pt x="4284" y="7952"/>
                  <a:pt x="4289" y="8182"/>
                  <a:pt x="4291" y="8210"/>
                </a:cubicBezTo>
                <a:cubicBezTo>
                  <a:pt x="4294" y="8265"/>
                  <a:pt x="4314" y="8368"/>
                  <a:pt x="4266" y="8384"/>
                </a:cubicBezTo>
              </a:path>
              <a:path w="1464" h="1340">
                <a:moveTo>
                  <a:pt x="4068" y="8260"/>
                </a:moveTo>
                <a:cubicBezTo>
                  <a:pt x="4161" y="8251"/>
                  <a:pt x="4246" y="8235"/>
                  <a:pt x="4341" y="8235"/>
                </a:cubicBezTo>
                <a:cubicBezTo>
                  <a:pt x="4374" y="8235"/>
                  <a:pt x="4390" y="8235"/>
                  <a:pt x="4415" y="8235"/>
                </a:cubicBezTo>
              </a:path>
              <a:path w="1464" h="1340">
                <a:moveTo>
                  <a:pt x="4713" y="8210"/>
                </a:moveTo>
                <a:cubicBezTo>
                  <a:pt x="4713" y="8387"/>
                  <a:pt x="4711" y="8557"/>
                  <a:pt x="4688" y="8731"/>
                </a:cubicBezTo>
                <a:cubicBezTo>
                  <a:pt x="4688" y="8739"/>
                  <a:pt x="4688" y="8748"/>
                  <a:pt x="4688" y="8756"/>
                </a:cubicBezTo>
              </a:path>
              <a:path w="1464" h="1340">
                <a:moveTo>
                  <a:pt x="5184" y="8235"/>
                </a:moveTo>
                <a:cubicBezTo>
                  <a:pt x="5223" y="8219"/>
                  <a:pt x="5556" y="8063"/>
                  <a:pt x="5531" y="8235"/>
                </a:cubicBezTo>
                <a:cubicBezTo>
                  <a:pt x="5458" y="8358"/>
                  <a:pt x="5434" y="8398"/>
                  <a:pt x="5358" y="8458"/>
                </a:cubicBezTo>
                <a:cubicBezTo>
                  <a:pt x="5257" y="8518"/>
                  <a:pt x="5413" y="8429"/>
                  <a:pt x="5482" y="8508"/>
                </a:cubicBezTo>
                <a:cubicBezTo>
                  <a:pt x="5627" y="8674"/>
                  <a:pt x="5404" y="8737"/>
                  <a:pt x="5283" y="8706"/>
                </a:cubicBezTo>
                <a:cubicBezTo>
                  <a:pt x="5176" y="8664"/>
                  <a:pt x="5140" y="8665"/>
                  <a:pt x="5135" y="8582"/>
                </a:cubicBezTo>
              </a:path>
              <a:path w="1464" h="1340">
                <a:moveTo>
                  <a:pt x="4564" y="9277"/>
                </a:moveTo>
                <a:cubicBezTo>
                  <a:pt x="4626" y="9270"/>
                  <a:pt x="4664" y="9261"/>
                  <a:pt x="4713" y="9277"/>
                </a:cubicBezTo>
              </a:path>
              <a:path w="1464" h="1340">
                <a:moveTo>
                  <a:pt x="5358" y="8930"/>
                </a:moveTo>
                <a:cubicBezTo>
                  <a:pt x="5300" y="8911"/>
                  <a:pt x="5310" y="8885"/>
                  <a:pt x="5234" y="8954"/>
                </a:cubicBezTo>
                <a:cubicBezTo>
                  <a:pt x="5161" y="9020"/>
                  <a:pt x="5149" y="9038"/>
                  <a:pt x="5135" y="9128"/>
                </a:cubicBezTo>
                <a:cubicBezTo>
                  <a:pt x="5191" y="9134"/>
                  <a:pt x="5407" y="9082"/>
                  <a:pt x="5283" y="8979"/>
                </a:cubicBezTo>
                <a:cubicBezTo>
                  <a:pt x="5210" y="8954"/>
                  <a:pt x="5187" y="8946"/>
                  <a:pt x="5135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857680"/>
            <a:ext cx="312840" cy="214200"/>
          </a:xfrm>
          <a:custGeom>
            <a:avLst/>
            <a:gdLst/>
            <a:ahLst/>
            <a:rect l="l" t="t" r="r" b="b"/>
            <a:pathLst>
              <a:path w="869" h="596">
                <a:moveTo>
                  <a:pt x="7020" y="8062"/>
                </a:moveTo>
                <a:cubicBezTo>
                  <a:pt x="7020" y="8181"/>
                  <a:pt x="6980" y="8373"/>
                  <a:pt x="6995" y="8483"/>
                </a:cubicBezTo>
                <a:cubicBezTo>
                  <a:pt x="7003" y="8483"/>
                  <a:pt x="7012" y="8483"/>
                  <a:pt x="7020" y="8483"/>
                </a:cubicBezTo>
              </a:path>
              <a:path w="869" h="596">
                <a:moveTo>
                  <a:pt x="7491" y="8012"/>
                </a:moveTo>
                <a:cubicBezTo>
                  <a:pt x="7539" y="7988"/>
                  <a:pt x="7890" y="7867"/>
                  <a:pt x="7789" y="8062"/>
                </a:cubicBezTo>
                <a:cubicBezTo>
                  <a:pt x="7701" y="8149"/>
                  <a:pt x="7682" y="8172"/>
                  <a:pt x="7615" y="8210"/>
                </a:cubicBezTo>
                <a:cubicBezTo>
                  <a:pt x="7696" y="8210"/>
                  <a:pt x="7856" y="8192"/>
                  <a:pt x="7863" y="8310"/>
                </a:cubicBezTo>
                <a:cubicBezTo>
                  <a:pt x="7879" y="8601"/>
                  <a:pt x="7434" y="8508"/>
                  <a:pt x="7293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08160" y="3241800"/>
            <a:ext cx="106560" cy="22356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5879" y="9004"/>
                </a:moveTo>
                <a:cubicBezTo>
                  <a:pt x="5879" y="9086"/>
                  <a:pt x="5867" y="9149"/>
                  <a:pt x="5854" y="9227"/>
                </a:cubicBezTo>
                <a:cubicBezTo>
                  <a:pt x="5958" y="9227"/>
                  <a:pt x="6031" y="9216"/>
                  <a:pt x="6127" y="9178"/>
                </a:cubicBezTo>
              </a:path>
              <a:path w="299" h="621">
                <a:moveTo>
                  <a:pt x="6152" y="9004"/>
                </a:moveTo>
                <a:cubicBezTo>
                  <a:pt x="6090" y="9201"/>
                  <a:pt x="6054" y="9394"/>
                  <a:pt x="6028" y="9599"/>
                </a:cubicBezTo>
                <a:cubicBezTo>
                  <a:pt x="6028" y="9607"/>
                  <a:pt x="6028" y="9616"/>
                  <a:pt x="6028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01920" y="3348000"/>
            <a:ext cx="13500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6672" y="9302"/>
                </a:moveTo>
                <a:cubicBezTo>
                  <a:pt x="6798" y="9323"/>
                  <a:pt x="6916" y="9327"/>
                  <a:pt x="7045" y="9327"/>
                </a:cubicBezTo>
                <a:cubicBezTo>
                  <a:pt x="7034" y="9485"/>
                  <a:pt x="6979" y="9619"/>
                  <a:pt x="6945" y="9773"/>
                </a:cubicBezTo>
                <a:cubicBezTo>
                  <a:pt x="6945" y="9820"/>
                  <a:pt x="6963" y="9816"/>
                  <a:pt x="7020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06800" y="3187800"/>
            <a:ext cx="243000" cy="19692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8632" y="9252"/>
                </a:moveTo>
                <a:cubicBezTo>
                  <a:pt x="8644" y="9301"/>
                  <a:pt x="8673" y="9345"/>
                  <a:pt x="8682" y="9401"/>
                </a:cubicBezTo>
                <a:cubicBezTo>
                  <a:pt x="8890" y="9224"/>
                  <a:pt x="9078" y="9023"/>
                  <a:pt x="9302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21040" y="3375000"/>
            <a:ext cx="189000" cy="1890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0666" y="9426"/>
                </a:moveTo>
                <a:cubicBezTo>
                  <a:pt x="10787" y="9409"/>
                  <a:pt x="10995" y="9321"/>
                  <a:pt x="11112" y="9376"/>
                </a:cubicBezTo>
                <a:cubicBezTo>
                  <a:pt x="11120" y="9401"/>
                  <a:pt x="11129" y="9426"/>
                  <a:pt x="11137" y="9451"/>
                </a:cubicBezTo>
                <a:cubicBezTo>
                  <a:pt x="11053" y="9543"/>
                  <a:pt x="10979" y="9595"/>
                  <a:pt x="10864" y="9649"/>
                </a:cubicBezTo>
                <a:cubicBezTo>
                  <a:pt x="10932" y="9635"/>
                  <a:pt x="11119" y="9613"/>
                  <a:pt x="11088" y="9748"/>
                </a:cubicBezTo>
                <a:cubicBezTo>
                  <a:pt x="11040" y="9959"/>
                  <a:pt x="10731" y="9900"/>
                  <a:pt x="10616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57200" y="3187800"/>
            <a:ext cx="1152720" cy="1027080"/>
          </a:xfrm>
          <a:custGeom>
            <a:avLst/>
            <a:gdLst/>
            <a:ahLst/>
            <a:rect l="l" t="t" r="r" b="b"/>
            <a:pathLst>
              <a:path w="3201" h="2854">
                <a:moveTo>
                  <a:pt x="4118" y="9054"/>
                </a:moveTo>
                <a:cubicBezTo>
                  <a:pt x="4180" y="9195"/>
                  <a:pt x="4289" y="9360"/>
                  <a:pt x="4167" y="9500"/>
                </a:cubicBezTo>
                <a:cubicBezTo>
                  <a:pt x="4093" y="9585"/>
                  <a:pt x="3786" y="9526"/>
                  <a:pt x="3770" y="9401"/>
                </a:cubicBezTo>
                <a:cubicBezTo>
                  <a:pt x="3787" y="9368"/>
                  <a:pt x="3803" y="9335"/>
                  <a:pt x="3820" y="9302"/>
                </a:cubicBezTo>
              </a:path>
              <a:path w="3201" h="2854">
                <a:moveTo>
                  <a:pt x="4068" y="8855"/>
                </a:moveTo>
                <a:cubicBezTo>
                  <a:pt x="4085" y="8855"/>
                  <a:pt x="4101" y="8855"/>
                  <a:pt x="4118" y="8855"/>
                </a:cubicBezTo>
              </a:path>
              <a:path w="3201" h="2854">
                <a:moveTo>
                  <a:pt x="4564" y="9426"/>
                </a:moveTo>
                <a:cubicBezTo>
                  <a:pt x="4689" y="9420"/>
                  <a:pt x="4811" y="9408"/>
                  <a:pt x="4936" y="9401"/>
                </a:cubicBezTo>
              </a:path>
              <a:path w="3201" h="2854">
                <a:moveTo>
                  <a:pt x="6300" y="9525"/>
                </a:moveTo>
                <a:cubicBezTo>
                  <a:pt x="6300" y="9575"/>
                  <a:pt x="6300" y="9592"/>
                  <a:pt x="6350" y="9575"/>
                </a:cubicBezTo>
              </a:path>
              <a:path w="3201" h="2854">
                <a:moveTo>
                  <a:pt x="6375" y="11361"/>
                </a:moveTo>
                <a:cubicBezTo>
                  <a:pt x="6389" y="11484"/>
                  <a:pt x="6416" y="11584"/>
                  <a:pt x="6400" y="11708"/>
                </a:cubicBezTo>
              </a:path>
              <a:path w="3201" h="2854">
                <a:moveTo>
                  <a:pt x="6251" y="11509"/>
                </a:moveTo>
                <a:cubicBezTo>
                  <a:pt x="6419" y="11502"/>
                  <a:pt x="6580" y="11483"/>
                  <a:pt x="6747" y="11460"/>
                </a:cubicBezTo>
              </a:path>
              <a:path w="3201" h="2854">
                <a:moveTo>
                  <a:pt x="6970" y="11286"/>
                </a:moveTo>
                <a:cubicBezTo>
                  <a:pt x="6964" y="11416"/>
                  <a:pt x="6952" y="11532"/>
                  <a:pt x="6921" y="11658"/>
                </a:cubicBezTo>
              </a:path>
              <a:path w="3201" h="2854">
                <a:moveTo>
                  <a:pt x="6846" y="10096"/>
                </a:moveTo>
                <a:cubicBezTo>
                  <a:pt x="6836" y="10171"/>
                  <a:pt x="6826" y="10243"/>
                  <a:pt x="6821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9800" y="1874880"/>
            <a:ext cx="1874520" cy="90360"/>
          </a:xfrm>
          <a:custGeom>
            <a:avLst/>
            <a:gdLst/>
            <a:ahLst/>
            <a:rect l="l" t="t" r="r" b="b"/>
            <a:pathLst>
              <a:path w="5210" h="249">
                <a:moveTo>
                  <a:pt x="2803" y="5457"/>
                </a:moveTo>
                <a:cubicBezTo>
                  <a:pt x="3008" y="5430"/>
                  <a:pt x="3213" y="5420"/>
                  <a:pt x="3423" y="5407"/>
                </a:cubicBezTo>
                <a:cubicBezTo>
                  <a:pt x="3836" y="5381"/>
                  <a:pt x="4249" y="5377"/>
                  <a:pt x="4663" y="5358"/>
                </a:cubicBezTo>
                <a:cubicBezTo>
                  <a:pt x="5076" y="5339"/>
                  <a:pt x="5491" y="5321"/>
                  <a:pt x="5904" y="5308"/>
                </a:cubicBezTo>
                <a:cubicBezTo>
                  <a:pt x="6225" y="5298"/>
                  <a:pt x="6550" y="5302"/>
                  <a:pt x="6871" y="5283"/>
                </a:cubicBezTo>
                <a:cubicBezTo>
                  <a:pt x="7210" y="5263"/>
                  <a:pt x="7548" y="5225"/>
                  <a:pt x="7888" y="5209"/>
                </a:cubicBezTo>
                <a:cubicBezTo>
                  <a:pt x="7929" y="5209"/>
                  <a:pt x="7971" y="5209"/>
                  <a:pt x="8012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1000" y="3081240"/>
            <a:ext cx="1820880" cy="223920"/>
          </a:xfrm>
          <a:custGeom>
            <a:avLst/>
            <a:gdLst/>
            <a:ahLst/>
            <a:rect l="l" t="t" r="r" b="b"/>
            <a:pathLst>
              <a:path w="5061" h="621">
                <a:moveTo>
                  <a:pt x="3473" y="8558"/>
                </a:moveTo>
                <a:cubicBezTo>
                  <a:pt x="3573" y="8605"/>
                  <a:pt x="3728" y="8673"/>
                  <a:pt x="3870" y="8706"/>
                </a:cubicBezTo>
                <a:cubicBezTo>
                  <a:pt x="4412" y="8834"/>
                  <a:pt x="4980" y="8917"/>
                  <a:pt x="5531" y="9004"/>
                </a:cubicBezTo>
                <a:cubicBezTo>
                  <a:pt x="6309" y="9127"/>
                  <a:pt x="7078" y="9153"/>
                  <a:pt x="7863" y="9153"/>
                </a:cubicBezTo>
                <a:cubicBezTo>
                  <a:pt x="8091" y="9153"/>
                  <a:pt x="8307" y="9167"/>
                  <a:pt x="8533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09800" y="4375080"/>
            <a:ext cx="1946160" cy="46080"/>
          </a:xfrm>
          <a:custGeom>
            <a:avLst/>
            <a:gdLst/>
            <a:ahLst/>
            <a:rect l="l" t="t" r="r" b="b"/>
            <a:pathLst>
              <a:path w="5408" h="125">
                <a:moveTo>
                  <a:pt x="2803" y="12278"/>
                </a:moveTo>
                <a:cubicBezTo>
                  <a:pt x="2812" y="12277"/>
                  <a:pt x="2973" y="12254"/>
                  <a:pt x="3001" y="12254"/>
                </a:cubicBezTo>
                <a:cubicBezTo>
                  <a:pt x="3753" y="12245"/>
                  <a:pt x="4507" y="12218"/>
                  <a:pt x="5259" y="12204"/>
                </a:cubicBezTo>
                <a:cubicBezTo>
                  <a:pt x="6177" y="12186"/>
                  <a:pt x="7095" y="12131"/>
                  <a:pt x="8012" y="12179"/>
                </a:cubicBezTo>
                <a:cubicBezTo>
                  <a:pt x="8402" y="12199"/>
                  <a:pt x="8133" y="12199"/>
                  <a:pt x="8012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4: Solving Multiplicat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Multiplica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o solve a multiplication equation divide each side by the number that the variable is multiplied b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ince the variable was multiplied by a number, you must divide (inverse operation) by the same number to get back to the variable by itself.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494160" y="48769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n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56520" y="60199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ide both sides b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6760" y="4500720"/>
            <a:ext cx="795240" cy="500040"/>
          </a:xfrm>
          <a:custGeom>
            <a:avLst/>
            <a:gdLst/>
            <a:ahLst/>
            <a:rect l="l" t="t" r="r" b="b"/>
            <a:pathLst>
              <a:path w="2209" h="1390">
                <a:moveTo>
                  <a:pt x="17363" y="12923"/>
                </a:moveTo>
                <a:cubicBezTo>
                  <a:pt x="17371" y="12923"/>
                  <a:pt x="17380" y="12923"/>
                  <a:pt x="17388" y="12923"/>
                </a:cubicBezTo>
                <a:cubicBezTo>
                  <a:pt x="17444" y="12904"/>
                  <a:pt x="17348" y="12926"/>
                  <a:pt x="17289" y="12923"/>
                </a:cubicBezTo>
                <a:cubicBezTo>
                  <a:pt x="17216" y="12919"/>
                  <a:pt x="17125" y="12891"/>
                  <a:pt x="17090" y="12874"/>
                </a:cubicBezTo>
                <a:cubicBezTo>
                  <a:pt x="17082" y="12874"/>
                  <a:pt x="17074" y="12874"/>
                  <a:pt x="17066" y="12874"/>
                </a:cubicBezTo>
                <a:cubicBezTo>
                  <a:pt x="17066" y="13042"/>
                  <a:pt x="17083" y="13203"/>
                  <a:pt x="17090" y="13370"/>
                </a:cubicBezTo>
                <a:cubicBezTo>
                  <a:pt x="17090" y="13378"/>
                  <a:pt x="17090" y="13387"/>
                  <a:pt x="17090" y="13395"/>
                </a:cubicBezTo>
                <a:cubicBezTo>
                  <a:pt x="17090" y="13323"/>
                  <a:pt x="17143" y="13271"/>
                  <a:pt x="17214" y="13246"/>
                </a:cubicBezTo>
                <a:cubicBezTo>
                  <a:pt x="17413" y="13174"/>
                  <a:pt x="17556" y="13386"/>
                  <a:pt x="17462" y="13568"/>
                </a:cubicBezTo>
                <a:cubicBezTo>
                  <a:pt x="17381" y="13726"/>
                  <a:pt x="17188" y="13746"/>
                  <a:pt x="17041" y="13692"/>
                </a:cubicBezTo>
                <a:cubicBezTo>
                  <a:pt x="17016" y="13667"/>
                  <a:pt x="17008" y="13659"/>
                  <a:pt x="16991" y="13643"/>
                </a:cubicBezTo>
              </a:path>
              <a:path w="2209" h="1390">
                <a:moveTo>
                  <a:pt x="17859" y="12551"/>
                </a:moveTo>
                <a:cubicBezTo>
                  <a:pt x="17859" y="12525"/>
                  <a:pt x="17675" y="12950"/>
                  <a:pt x="17661" y="12998"/>
                </a:cubicBezTo>
                <a:cubicBezTo>
                  <a:pt x="17577" y="13278"/>
                  <a:pt x="17576" y="13566"/>
                  <a:pt x="17735" y="13816"/>
                </a:cubicBezTo>
                <a:cubicBezTo>
                  <a:pt x="17749" y="13838"/>
                  <a:pt x="17828" y="13887"/>
                  <a:pt x="17835" y="13891"/>
                </a:cubicBezTo>
                <a:cubicBezTo>
                  <a:pt x="17843" y="13891"/>
                  <a:pt x="17851" y="13891"/>
                  <a:pt x="17859" y="13891"/>
                </a:cubicBezTo>
              </a:path>
              <a:path w="2209" h="1390">
                <a:moveTo>
                  <a:pt x="17909" y="13022"/>
                </a:moveTo>
                <a:cubicBezTo>
                  <a:pt x="17909" y="12998"/>
                  <a:pt x="17909" y="12989"/>
                  <a:pt x="17909" y="12973"/>
                </a:cubicBezTo>
                <a:cubicBezTo>
                  <a:pt x="17895" y="13073"/>
                  <a:pt x="17868" y="13170"/>
                  <a:pt x="17859" y="13271"/>
                </a:cubicBezTo>
                <a:cubicBezTo>
                  <a:pt x="17949" y="13258"/>
                  <a:pt x="18031" y="13224"/>
                  <a:pt x="18107" y="13246"/>
                </a:cubicBezTo>
              </a:path>
              <a:path w="2209" h="1390">
                <a:moveTo>
                  <a:pt x="18157" y="12898"/>
                </a:moveTo>
                <a:cubicBezTo>
                  <a:pt x="18186" y="13146"/>
                  <a:pt x="18182" y="13392"/>
                  <a:pt x="18182" y="13643"/>
                </a:cubicBezTo>
                <a:cubicBezTo>
                  <a:pt x="18182" y="13675"/>
                  <a:pt x="18182" y="13675"/>
                  <a:pt x="18182" y="13618"/>
                </a:cubicBezTo>
              </a:path>
              <a:path w="2209" h="1390">
                <a:moveTo>
                  <a:pt x="18380" y="12502"/>
                </a:moveTo>
                <a:cubicBezTo>
                  <a:pt x="18525" y="12886"/>
                  <a:pt x="18586" y="13230"/>
                  <a:pt x="18504" y="13643"/>
                </a:cubicBezTo>
                <a:cubicBezTo>
                  <a:pt x="18488" y="13722"/>
                  <a:pt x="18291" y="14036"/>
                  <a:pt x="18380" y="13767"/>
                </a:cubicBezTo>
              </a:path>
              <a:path w="2209" h="1390">
                <a:moveTo>
                  <a:pt x="18876" y="13122"/>
                </a:moveTo>
                <a:cubicBezTo>
                  <a:pt x="18987" y="13090"/>
                  <a:pt x="19083" y="13072"/>
                  <a:pt x="19199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88040" y="4660920"/>
            <a:ext cx="1224000" cy="893880"/>
          </a:xfrm>
          <a:custGeom>
            <a:avLst/>
            <a:gdLst/>
            <a:ahLst/>
            <a:rect l="l" t="t" r="r" b="b"/>
            <a:pathLst>
              <a:path w="3399" h="2482">
                <a:moveTo>
                  <a:pt x="19496" y="13122"/>
                </a:moveTo>
                <a:cubicBezTo>
                  <a:pt x="19530" y="13054"/>
                  <a:pt x="19682" y="12957"/>
                  <a:pt x="19769" y="12948"/>
                </a:cubicBezTo>
                <a:cubicBezTo>
                  <a:pt x="19802" y="12956"/>
                  <a:pt x="19836" y="12965"/>
                  <a:pt x="19869" y="12973"/>
                </a:cubicBezTo>
                <a:cubicBezTo>
                  <a:pt x="19885" y="13240"/>
                  <a:pt x="19774" y="13414"/>
                  <a:pt x="19596" y="13618"/>
                </a:cubicBezTo>
                <a:cubicBezTo>
                  <a:pt x="19534" y="13690"/>
                  <a:pt x="19426" y="13810"/>
                  <a:pt x="19372" y="13791"/>
                </a:cubicBezTo>
                <a:cubicBezTo>
                  <a:pt x="19459" y="13699"/>
                  <a:pt x="19593" y="13516"/>
                  <a:pt x="19720" y="13643"/>
                </a:cubicBezTo>
                <a:cubicBezTo>
                  <a:pt x="19883" y="13806"/>
                  <a:pt x="19859" y="13791"/>
                  <a:pt x="20067" y="13643"/>
                </a:cubicBezTo>
              </a:path>
              <a:path w="3399" h="2482">
                <a:moveTo>
                  <a:pt x="20439" y="13022"/>
                </a:moveTo>
                <a:cubicBezTo>
                  <a:pt x="20243" y="13135"/>
                  <a:pt x="20071" y="13345"/>
                  <a:pt x="20067" y="13593"/>
                </a:cubicBezTo>
                <a:cubicBezTo>
                  <a:pt x="20084" y="13634"/>
                  <a:pt x="20100" y="13676"/>
                  <a:pt x="20117" y="13717"/>
                </a:cubicBezTo>
                <a:cubicBezTo>
                  <a:pt x="20396" y="13696"/>
                  <a:pt x="20681" y="13537"/>
                  <a:pt x="20588" y="13171"/>
                </a:cubicBezTo>
                <a:cubicBezTo>
                  <a:pt x="20546" y="13005"/>
                  <a:pt x="20315" y="13002"/>
                  <a:pt x="20315" y="13122"/>
                </a:cubicBezTo>
              </a:path>
              <a:path w="3399" h="2482">
                <a:moveTo>
                  <a:pt x="17363" y="13891"/>
                </a:moveTo>
                <a:cubicBezTo>
                  <a:pt x="17374" y="13969"/>
                  <a:pt x="17383" y="14035"/>
                  <a:pt x="17388" y="14114"/>
                </a:cubicBezTo>
                <a:cubicBezTo>
                  <a:pt x="17556" y="14095"/>
                  <a:pt x="17709" y="14015"/>
                  <a:pt x="17884" y="14015"/>
                </a:cubicBezTo>
                <a:cubicBezTo>
                  <a:pt x="18021" y="14015"/>
                  <a:pt x="17996" y="14043"/>
                  <a:pt x="18058" y="14064"/>
                </a:cubicBezTo>
                <a:cubicBezTo>
                  <a:pt x="18037" y="13983"/>
                  <a:pt x="18036" y="13813"/>
                  <a:pt x="18033" y="13816"/>
                </a:cubicBezTo>
                <a:cubicBezTo>
                  <a:pt x="17992" y="13857"/>
                  <a:pt x="17989" y="13887"/>
                  <a:pt x="18033" y="13940"/>
                </a:cubicBezTo>
              </a:path>
              <a:path w="3399" h="2482">
                <a:moveTo>
                  <a:pt x="17388" y="14808"/>
                </a:moveTo>
                <a:cubicBezTo>
                  <a:pt x="17426" y="14694"/>
                  <a:pt x="17449" y="14704"/>
                  <a:pt x="17562" y="14660"/>
                </a:cubicBezTo>
                <a:cubicBezTo>
                  <a:pt x="17761" y="14912"/>
                  <a:pt x="17697" y="15223"/>
                  <a:pt x="17338" y="15379"/>
                </a:cubicBezTo>
                <a:cubicBezTo>
                  <a:pt x="17289" y="15379"/>
                  <a:pt x="17239" y="15379"/>
                  <a:pt x="17190" y="15379"/>
                </a:cubicBezTo>
                <a:cubicBezTo>
                  <a:pt x="17232" y="15135"/>
                  <a:pt x="17363" y="14960"/>
                  <a:pt x="17636" y="15156"/>
                </a:cubicBezTo>
                <a:cubicBezTo>
                  <a:pt x="17712" y="15251"/>
                  <a:pt x="17745" y="15256"/>
                  <a:pt x="17735" y="15329"/>
                </a:cubicBezTo>
              </a:path>
              <a:path w="3399" h="2482">
                <a:moveTo>
                  <a:pt x="18058" y="14684"/>
                </a:moveTo>
                <a:cubicBezTo>
                  <a:pt x="17966" y="14785"/>
                  <a:pt x="17578" y="15236"/>
                  <a:pt x="17959" y="15304"/>
                </a:cubicBezTo>
                <a:cubicBezTo>
                  <a:pt x="18216" y="15350"/>
                  <a:pt x="18451" y="14915"/>
                  <a:pt x="18207" y="14759"/>
                </a:cubicBezTo>
                <a:cubicBezTo>
                  <a:pt x="18116" y="14759"/>
                  <a:pt x="18042" y="14759"/>
                  <a:pt x="18107" y="14759"/>
                </a:cubicBezTo>
              </a:path>
              <a:path w="3399" h="2482">
                <a:moveTo>
                  <a:pt x="18678" y="15056"/>
                </a:moveTo>
                <a:cubicBezTo>
                  <a:pt x="18827" y="15056"/>
                  <a:pt x="18877" y="15056"/>
                  <a:pt x="18976" y="15056"/>
                </a:cubicBezTo>
              </a:path>
              <a:path w="3399" h="2482">
                <a:moveTo>
                  <a:pt x="19298" y="14734"/>
                </a:moveTo>
                <a:cubicBezTo>
                  <a:pt x="19494" y="14685"/>
                  <a:pt x="19705" y="14687"/>
                  <a:pt x="19720" y="14982"/>
                </a:cubicBezTo>
                <a:cubicBezTo>
                  <a:pt x="19740" y="15364"/>
                  <a:pt x="19404" y="15386"/>
                  <a:pt x="19199" y="15230"/>
                </a:cubicBezTo>
                <a:cubicBezTo>
                  <a:pt x="19327" y="15071"/>
                  <a:pt x="19456" y="15163"/>
                  <a:pt x="19621" y="15280"/>
                </a:cubicBezTo>
                <a:cubicBezTo>
                  <a:pt x="19637" y="15296"/>
                  <a:pt x="19654" y="15313"/>
                  <a:pt x="19670" y="15329"/>
                </a:cubicBezTo>
              </a:path>
              <a:path w="3399" h="2482">
                <a:moveTo>
                  <a:pt x="20092" y="14784"/>
                </a:moveTo>
                <a:cubicBezTo>
                  <a:pt x="19944" y="14974"/>
                  <a:pt x="19897" y="15065"/>
                  <a:pt x="19844" y="15304"/>
                </a:cubicBezTo>
                <a:cubicBezTo>
                  <a:pt x="20045" y="15459"/>
                  <a:pt x="20287" y="15466"/>
                  <a:pt x="20464" y="15205"/>
                </a:cubicBezTo>
                <a:cubicBezTo>
                  <a:pt x="20628" y="14963"/>
                  <a:pt x="20383" y="14822"/>
                  <a:pt x="2019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0240" y="4803840"/>
            <a:ext cx="3921120" cy="1751040"/>
          </a:xfrm>
          <a:custGeom>
            <a:avLst/>
            <a:gdLst/>
            <a:ahLst/>
            <a:rect l="l" t="t" r="r" b="b"/>
            <a:pathLst>
              <a:path w="10891" h="4863">
                <a:moveTo>
                  <a:pt x="18926" y="13345"/>
                </a:moveTo>
                <a:cubicBezTo>
                  <a:pt x="19040" y="13370"/>
                  <a:pt x="19109" y="13365"/>
                  <a:pt x="19224" y="13345"/>
                </a:cubicBezTo>
              </a:path>
              <a:path w="10891" h="4863">
                <a:moveTo>
                  <a:pt x="18653" y="14808"/>
                </a:moveTo>
                <a:cubicBezTo>
                  <a:pt x="18784" y="14762"/>
                  <a:pt x="18950" y="14689"/>
                  <a:pt x="19075" y="14784"/>
                </a:cubicBezTo>
                <a:cubicBezTo>
                  <a:pt x="19067" y="14792"/>
                  <a:pt x="19058" y="14800"/>
                  <a:pt x="19050" y="14808"/>
                </a:cubicBezTo>
              </a:path>
              <a:path w="10891" h="4863">
                <a:moveTo>
                  <a:pt x="18976" y="15056"/>
                </a:moveTo>
                <a:lnTo>
                  <a:pt x="18976" y="15056"/>
                </a:lnTo>
              </a:path>
              <a:path w="10891" h="4863">
                <a:moveTo>
                  <a:pt x="8334" y="18207"/>
                </a:moveTo>
                <a:lnTo>
                  <a:pt x="8334" y="182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6000" y="5348160"/>
            <a:ext cx="554040" cy="46080"/>
          </a:xfrm>
          <a:custGeom>
            <a:avLst/>
            <a:gdLst/>
            <a:ahLst/>
            <a:rect l="l" t="t" r="r" b="b"/>
            <a:pathLst>
              <a:path w="1539" h="125">
                <a:moveTo>
                  <a:pt x="9599" y="14982"/>
                </a:moveTo>
                <a:cubicBezTo>
                  <a:pt x="9655" y="14963"/>
                  <a:pt x="9621" y="14957"/>
                  <a:pt x="9723" y="14957"/>
                </a:cubicBezTo>
                <a:cubicBezTo>
                  <a:pt x="9911" y="14957"/>
                  <a:pt x="10081" y="14945"/>
                  <a:pt x="10269" y="14957"/>
                </a:cubicBezTo>
                <a:cubicBezTo>
                  <a:pt x="10409" y="14966"/>
                  <a:pt x="10579" y="14935"/>
                  <a:pt x="10716" y="14908"/>
                </a:cubicBezTo>
                <a:cubicBezTo>
                  <a:pt x="10825" y="14887"/>
                  <a:pt x="10959" y="14912"/>
                  <a:pt x="11063" y="14883"/>
                </a:cubicBezTo>
                <a:cubicBezTo>
                  <a:pt x="11110" y="14870"/>
                  <a:pt x="11192" y="14858"/>
                  <a:pt x="11063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75080" y="5303880"/>
            <a:ext cx="527040" cy="54000"/>
          </a:xfrm>
          <a:custGeom>
            <a:avLst/>
            <a:gdLst/>
            <a:ahLst/>
            <a:rect l="l" t="t" r="r" b="b"/>
            <a:pathLst>
              <a:path w="1465" h="150">
                <a:moveTo>
                  <a:pt x="12154" y="14883"/>
                </a:moveTo>
                <a:cubicBezTo>
                  <a:pt x="12267" y="14874"/>
                  <a:pt x="12388" y="14873"/>
                  <a:pt x="12502" y="14858"/>
                </a:cubicBezTo>
                <a:cubicBezTo>
                  <a:pt x="12641" y="14840"/>
                  <a:pt x="12785" y="14830"/>
                  <a:pt x="12923" y="14808"/>
                </a:cubicBezTo>
                <a:cubicBezTo>
                  <a:pt x="13047" y="14788"/>
                  <a:pt x="13170" y="14763"/>
                  <a:pt x="13295" y="14759"/>
                </a:cubicBezTo>
                <a:cubicBezTo>
                  <a:pt x="13383" y="14756"/>
                  <a:pt x="13457" y="14739"/>
                  <a:pt x="13543" y="14734"/>
                </a:cubicBezTo>
                <a:cubicBezTo>
                  <a:pt x="13568" y="14733"/>
                  <a:pt x="13593" y="14734"/>
                  <a:pt x="13618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25920" y="5473800"/>
            <a:ext cx="1332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0393" y="15205"/>
                </a:moveTo>
                <a:cubicBezTo>
                  <a:pt x="10289" y="15205"/>
                  <a:pt x="10141" y="15155"/>
                  <a:pt x="10120" y="15280"/>
                </a:cubicBezTo>
                <a:cubicBezTo>
                  <a:pt x="10109" y="15343"/>
                  <a:pt x="10117" y="15382"/>
                  <a:pt x="10145" y="15429"/>
                </a:cubicBezTo>
                <a:cubicBezTo>
                  <a:pt x="10235" y="15393"/>
                  <a:pt x="10248" y="15319"/>
                  <a:pt x="10368" y="15379"/>
                </a:cubicBezTo>
                <a:cubicBezTo>
                  <a:pt x="10500" y="15446"/>
                  <a:pt x="10441" y="15637"/>
                  <a:pt x="10344" y="15701"/>
                </a:cubicBezTo>
                <a:cubicBezTo>
                  <a:pt x="10283" y="15741"/>
                  <a:pt x="10129" y="15769"/>
                  <a:pt x="10071" y="15701"/>
                </a:cubicBezTo>
                <a:cubicBezTo>
                  <a:pt x="10071" y="15693"/>
                  <a:pt x="10071" y="15685"/>
                  <a:pt x="10071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73720" y="5429160"/>
            <a:ext cx="179280" cy="206640"/>
          </a:xfrm>
          <a:custGeom>
            <a:avLst/>
            <a:gdLst/>
            <a:ahLst/>
            <a:rect l="l" t="t" r="r" b="b"/>
            <a:pathLst>
              <a:path w="497" h="572">
                <a:moveTo>
                  <a:pt x="12898" y="15081"/>
                </a:moveTo>
                <a:cubicBezTo>
                  <a:pt x="12985" y="15081"/>
                  <a:pt x="12785" y="15113"/>
                  <a:pt x="12700" y="15131"/>
                </a:cubicBezTo>
                <a:cubicBezTo>
                  <a:pt x="12548" y="15164"/>
                  <a:pt x="12593" y="15136"/>
                  <a:pt x="12551" y="15280"/>
                </a:cubicBezTo>
                <a:cubicBezTo>
                  <a:pt x="12532" y="15337"/>
                  <a:pt x="12523" y="15344"/>
                  <a:pt x="12526" y="15379"/>
                </a:cubicBezTo>
                <a:cubicBezTo>
                  <a:pt x="12604" y="15340"/>
                  <a:pt x="12662" y="15270"/>
                  <a:pt x="12750" y="15280"/>
                </a:cubicBezTo>
                <a:cubicBezTo>
                  <a:pt x="12855" y="15292"/>
                  <a:pt x="12938" y="15464"/>
                  <a:pt x="12874" y="15553"/>
                </a:cubicBezTo>
                <a:cubicBezTo>
                  <a:pt x="12779" y="15685"/>
                  <a:pt x="12557" y="15681"/>
                  <a:pt x="12452" y="15577"/>
                </a:cubicBezTo>
                <a:cubicBezTo>
                  <a:pt x="12452" y="15553"/>
                  <a:pt x="12452" y="15545"/>
                  <a:pt x="12427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52920" y="4822920"/>
            <a:ext cx="125280" cy="955440"/>
          </a:xfrm>
          <a:custGeom>
            <a:avLst/>
            <a:gdLst/>
            <a:ahLst/>
            <a:rect l="l" t="t" r="r" b="b"/>
            <a:pathLst>
              <a:path w="348" h="2655">
                <a:moveTo>
                  <a:pt x="10344" y="13643"/>
                </a:moveTo>
                <a:cubicBezTo>
                  <a:pt x="10358" y="13668"/>
                  <a:pt x="10365" y="13684"/>
                  <a:pt x="10368" y="13742"/>
                </a:cubicBezTo>
                <a:cubicBezTo>
                  <a:pt x="10377" y="13932"/>
                  <a:pt x="10373" y="14130"/>
                  <a:pt x="10344" y="14312"/>
                </a:cubicBezTo>
                <a:cubicBezTo>
                  <a:pt x="10276" y="14732"/>
                  <a:pt x="10385" y="15186"/>
                  <a:pt x="10319" y="15602"/>
                </a:cubicBezTo>
                <a:cubicBezTo>
                  <a:pt x="10313" y="15642"/>
                  <a:pt x="10319" y="15883"/>
                  <a:pt x="10319" y="15701"/>
                </a:cubicBezTo>
                <a:cubicBezTo>
                  <a:pt x="10319" y="15426"/>
                  <a:pt x="10317" y="15154"/>
                  <a:pt x="10294" y="14883"/>
                </a:cubicBezTo>
                <a:cubicBezTo>
                  <a:pt x="10283" y="14749"/>
                  <a:pt x="10290" y="14646"/>
                  <a:pt x="10294" y="14511"/>
                </a:cubicBezTo>
                <a:cubicBezTo>
                  <a:pt x="10298" y="14377"/>
                  <a:pt x="10332" y="14246"/>
                  <a:pt x="10344" y="14114"/>
                </a:cubicBezTo>
                <a:cubicBezTo>
                  <a:pt x="10353" y="14021"/>
                  <a:pt x="10377" y="13952"/>
                  <a:pt x="10418" y="13866"/>
                </a:cubicBezTo>
                <a:cubicBezTo>
                  <a:pt x="10463" y="13772"/>
                  <a:pt x="10479" y="13625"/>
                  <a:pt x="10492" y="13519"/>
                </a:cubicBezTo>
                <a:cubicBezTo>
                  <a:pt x="10492" y="13486"/>
                  <a:pt x="10492" y="13469"/>
                  <a:pt x="10492" y="13444"/>
                </a:cubicBezTo>
                <a:cubicBezTo>
                  <a:pt x="10492" y="13308"/>
                  <a:pt x="10478" y="13588"/>
                  <a:pt x="10468" y="13618"/>
                </a:cubicBezTo>
                <a:cubicBezTo>
                  <a:pt x="10410" y="13801"/>
                  <a:pt x="10378" y="13970"/>
                  <a:pt x="10368" y="14163"/>
                </a:cubicBezTo>
                <a:cubicBezTo>
                  <a:pt x="10358" y="14358"/>
                  <a:pt x="10368" y="14565"/>
                  <a:pt x="10344" y="14759"/>
                </a:cubicBezTo>
                <a:cubicBezTo>
                  <a:pt x="10326" y="14906"/>
                  <a:pt x="10338" y="15058"/>
                  <a:pt x="10319" y="15205"/>
                </a:cubicBezTo>
                <a:cubicBezTo>
                  <a:pt x="10300" y="15349"/>
                  <a:pt x="10315" y="15458"/>
                  <a:pt x="10319" y="15602"/>
                </a:cubicBezTo>
                <a:cubicBezTo>
                  <a:pt x="10319" y="15687"/>
                  <a:pt x="10325" y="15707"/>
                  <a:pt x="10294" y="15751"/>
                </a:cubicBezTo>
                <a:cubicBezTo>
                  <a:pt x="10294" y="15773"/>
                  <a:pt x="10315" y="15887"/>
                  <a:pt x="10294" y="15825"/>
                </a:cubicBezTo>
                <a:cubicBezTo>
                  <a:pt x="10244" y="15674"/>
                  <a:pt x="10253" y="15463"/>
                  <a:pt x="10244" y="15304"/>
                </a:cubicBezTo>
                <a:cubicBezTo>
                  <a:pt x="10236" y="15159"/>
                  <a:pt x="10205" y="14976"/>
                  <a:pt x="10220" y="14833"/>
                </a:cubicBezTo>
                <a:cubicBezTo>
                  <a:pt x="10233" y="14714"/>
                  <a:pt x="10244" y="14608"/>
                  <a:pt x="10244" y="14486"/>
                </a:cubicBezTo>
                <a:cubicBezTo>
                  <a:pt x="10244" y="14337"/>
                  <a:pt x="10200" y="14190"/>
                  <a:pt x="10220" y="14039"/>
                </a:cubicBezTo>
                <a:cubicBezTo>
                  <a:pt x="10237" y="13909"/>
                  <a:pt x="10269" y="13801"/>
                  <a:pt x="10269" y="13667"/>
                </a:cubicBezTo>
                <a:cubicBezTo>
                  <a:pt x="10269" y="13625"/>
                  <a:pt x="10276" y="13578"/>
                  <a:pt x="10294" y="13543"/>
                </a:cubicBezTo>
                <a:cubicBezTo>
                  <a:pt x="10302" y="13535"/>
                  <a:pt x="10311" y="13527"/>
                  <a:pt x="10319" y="13519"/>
                </a:cubicBezTo>
                <a:cubicBezTo>
                  <a:pt x="10319" y="13820"/>
                  <a:pt x="10304" y="14112"/>
                  <a:pt x="10269" y="14412"/>
                </a:cubicBezTo>
                <a:cubicBezTo>
                  <a:pt x="10242" y="14642"/>
                  <a:pt x="10208" y="14876"/>
                  <a:pt x="10195" y="15106"/>
                </a:cubicBezTo>
                <a:cubicBezTo>
                  <a:pt x="10185" y="15276"/>
                  <a:pt x="10190" y="15458"/>
                  <a:pt x="10170" y="15627"/>
                </a:cubicBezTo>
                <a:cubicBezTo>
                  <a:pt x="10159" y="15720"/>
                  <a:pt x="10145" y="15805"/>
                  <a:pt x="10145" y="15900"/>
                </a:cubicBezTo>
                <a:cubicBezTo>
                  <a:pt x="10145" y="15954"/>
                  <a:pt x="10163" y="15996"/>
                  <a:pt x="10170" y="16049"/>
                </a:cubicBezTo>
                <a:cubicBezTo>
                  <a:pt x="10190" y="15989"/>
                  <a:pt x="10204" y="15917"/>
                  <a:pt x="10220" y="15850"/>
                </a:cubicBezTo>
                <a:cubicBezTo>
                  <a:pt x="10266" y="15660"/>
                  <a:pt x="10221" y="15885"/>
                  <a:pt x="10269" y="15900"/>
                </a:cubicBezTo>
                <a:cubicBezTo>
                  <a:pt x="10340" y="15923"/>
                  <a:pt x="10251" y="15752"/>
                  <a:pt x="10244" y="15677"/>
                </a:cubicBezTo>
                <a:cubicBezTo>
                  <a:pt x="10238" y="15609"/>
                  <a:pt x="10230" y="15548"/>
                  <a:pt x="10220" y="15478"/>
                </a:cubicBezTo>
                <a:cubicBezTo>
                  <a:pt x="10194" y="15287"/>
                  <a:pt x="10195" y="15101"/>
                  <a:pt x="1019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68840" y="58752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0468" y="16421"/>
                </a:moveTo>
                <a:cubicBezTo>
                  <a:pt x="10468" y="16343"/>
                  <a:pt x="10503" y="16517"/>
                  <a:pt x="10517" y="16594"/>
                </a:cubicBezTo>
                <a:cubicBezTo>
                  <a:pt x="10518" y="16601"/>
                  <a:pt x="10567" y="16898"/>
                  <a:pt x="10567" y="16842"/>
                </a:cubicBezTo>
                <a:cubicBezTo>
                  <a:pt x="10557" y="16737"/>
                  <a:pt x="10545" y="16653"/>
                  <a:pt x="10567" y="16545"/>
                </a:cubicBezTo>
                <a:cubicBezTo>
                  <a:pt x="10580" y="16478"/>
                  <a:pt x="10587" y="16398"/>
                  <a:pt x="10641" y="16371"/>
                </a:cubicBezTo>
                <a:cubicBezTo>
                  <a:pt x="10709" y="16337"/>
                  <a:pt x="10783" y="16296"/>
                  <a:pt x="10864" y="16321"/>
                </a:cubicBezTo>
                <a:cubicBezTo>
                  <a:pt x="10903" y="16333"/>
                  <a:pt x="10959" y="16463"/>
                  <a:pt x="10964" y="16495"/>
                </a:cubicBezTo>
                <a:cubicBezTo>
                  <a:pt x="10976" y="16571"/>
                  <a:pt x="10983" y="16668"/>
                  <a:pt x="10988" y="16743"/>
                </a:cubicBezTo>
                <a:cubicBezTo>
                  <a:pt x="10991" y="16797"/>
                  <a:pt x="10998" y="16805"/>
                  <a:pt x="11038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2240" y="5929200"/>
            <a:ext cx="108000" cy="17640"/>
          </a:xfrm>
          <a:custGeom>
            <a:avLst/>
            <a:gdLst/>
            <a:ahLst/>
            <a:rect l="l" t="t" r="r" b="b"/>
            <a:pathLst>
              <a:path w="299" h="51">
                <a:moveTo>
                  <a:pt x="11286" y="16520"/>
                </a:moveTo>
                <a:cubicBezTo>
                  <a:pt x="11367" y="16504"/>
                  <a:pt x="11450" y="16484"/>
                  <a:pt x="11534" y="16470"/>
                </a:cubicBezTo>
                <a:cubicBezTo>
                  <a:pt x="11559" y="16470"/>
                  <a:pt x="11567" y="16470"/>
                  <a:pt x="11584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98960" y="6018120"/>
            <a:ext cx="8892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1385" y="16718"/>
                </a:moveTo>
                <a:cubicBezTo>
                  <a:pt x="11468" y="16718"/>
                  <a:pt x="11550" y="16718"/>
                  <a:pt x="11633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76800" y="5857920"/>
            <a:ext cx="125280" cy="11592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11881" y="16297"/>
                </a:moveTo>
                <a:cubicBezTo>
                  <a:pt x="11889" y="16289"/>
                  <a:pt x="11898" y="16280"/>
                  <a:pt x="11906" y="16272"/>
                </a:cubicBezTo>
                <a:cubicBezTo>
                  <a:pt x="12028" y="16272"/>
                  <a:pt x="11950" y="16471"/>
                  <a:pt x="11931" y="16545"/>
                </a:cubicBezTo>
                <a:cubicBezTo>
                  <a:pt x="11923" y="16561"/>
                  <a:pt x="11914" y="16578"/>
                  <a:pt x="11906" y="16594"/>
                </a:cubicBezTo>
                <a:cubicBezTo>
                  <a:pt x="12014" y="16581"/>
                  <a:pt x="12120" y="16545"/>
                  <a:pt x="12229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67160" y="5759280"/>
            <a:ext cx="17640" cy="339840"/>
          </a:xfrm>
          <a:custGeom>
            <a:avLst/>
            <a:gdLst/>
            <a:ahLst/>
            <a:rect l="l" t="t" r="r" b="b"/>
            <a:pathLst>
              <a:path w="51" h="944">
                <a:moveTo>
                  <a:pt x="12179" y="15999"/>
                </a:moveTo>
                <a:cubicBezTo>
                  <a:pt x="12179" y="16209"/>
                  <a:pt x="12176" y="16410"/>
                  <a:pt x="12154" y="16619"/>
                </a:cubicBezTo>
                <a:cubicBezTo>
                  <a:pt x="12141" y="16743"/>
                  <a:pt x="12129" y="17017"/>
                  <a:pt x="12129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16280" y="5626080"/>
            <a:ext cx="285840" cy="3920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12824" y="16272"/>
                </a:moveTo>
                <a:cubicBezTo>
                  <a:pt x="12878" y="16402"/>
                  <a:pt x="12940" y="16530"/>
                  <a:pt x="12973" y="16669"/>
                </a:cubicBezTo>
                <a:cubicBezTo>
                  <a:pt x="12973" y="16685"/>
                  <a:pt x="12973" y="16702"/>
                  <a:pt x="12973" y="16718"/>
                </a:cubicBezTo>
                <a:cubicBezTo>
                  <a:pt x="13048" y="16524"/>
                  <a:pt x="13075" y="16318"/>
                  <a:pt x="13196" y="16123"/>
                </a:cubicBezTo>
                <a:cubicBezTo>
                  <a:pt x="13330" y="15907"/>
                  <a:pt x="13674" y="15495"/>
                  <a:pt x="1356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5x = 3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26 = 2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4m = 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27720" y="1071720"/>
            <a:ext cx="339480" cy="571320"/>
          </a:xfrm>
          <a:custGeom>
            <a:avLst/>
            <a:gdLst/>
            <a:ahLst/>
            <a:rect l="l" t="t" r="r" b="b"/>
            <a:pathLst>
              <a:path w="944" h="1588">
                <a:moveTo>
                  <a:pt x="13146" y="3001"/>
                </a:moveTo>
                <a:cubicBezTo>
                  <a:pt x="13321" y="3030"/>
                  <a:pt x="13396" y="3033"/>
                  <a:pt x="13519" y="2977"/>
                </a:cubicBezTo>
              </a:path>
              <a:path w="944" h="1588">
                <a:moveTo>
                  <a:pt x="12626" y="4291"/>
                </a:moveTo>
                <a:cubicBezTo>
                  <a:pt x="12748" y="4255"/>
                  <a:pt x="12781" y="4223"/>
                  <a:pt x="12898" y="4266"/>
                </a:cubicBezTo>
              </a:path>
              <a:path w="944" h="1588">
                <a:moveTo>
                  <a:pt x="12576" y="4564"/>
                </a:moveTo>
                <a:cubicBezTo>
                  <a:pt x="12784" y="4538"/>
                  <a:pt x="12860" y="4527"/>
                  <a:pt x="1299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776160"/>
            <a:ext cx="1608120" cy="1135080"/>
          </a:xfrm>
          <a:custGeom>
            <a:avLst/>
            <a:gdLst/>
            <a:ahLst/>
            <a:rect l="l" t="t" r="r" b="b"/>
            <a:pathLst>
              <a:path w="4466" h="3151">
                <a:moveTo>
                  <a:pt x="2753" y="3373"/>
                </a:moveTo>
                <a:cubicBezTo>
                  <a:pt x="2825" y="3338"/>
                  <a:pt x="3078" y="3379"/>
                  <a:pt x="3175" y="3373"/>
                </a:cubicBezTo>
                <a:cubicBezTo>
                  <a:pt x="3449" y="3357"/>
                  <a:pt x="3720" y="3310"/>
                  <a:pt x="3994" y="3299"/>
                </a:cubicBezTo>
                <a:cubicBezTo>
                  <a:pt x="4003" y="3299"/>
                  <a:pt x="4084" y="3299"/>
                  <a:pt x="4018" y="3299"/>
                </a:cubicBezTo>
              </a:path>
              <a:path w="4466" h="3151">
                <a:moveTo>
                  <a:pt x="5507" y="3324"/>
                </a:moveTo>
                <a:cubicBezTo>
                  <a:pt x="5573" y="3290"/>
                  <a:pt x="6010" y="3323"/>
                  <a:pt x="6152" y="3324"/>
                </a:cubicBezTo>
                <a:cubicBezTo>
                  <a:pt x="6319" y="3326"/>
                  <a:pt x="6522" y="3307"/>
                  <a:pt x="6672" y="3324"/>
                </a:cubicBezTo>
                <a:cubicBezTo>
                  <a:pt x="6713" y="3329"/>
                  <a:pt x="6697" y="3275"/>
                  <a:pt x="6697" y="3324"/>
                </a:cubicBezTo>
              </a:path>
              <a:path w="4466" h="3151">
                <a:moveTo>
                  <a:pt x="3423" y="3646"/>
                </a:moveTo>
                <a:cubicBezTo>
                  <a:pt x="3506" y="3618"/>
                  <a:pt x="3371" y="3617"/>
                  <a:pt x="3349" y="3621"/>
                </a:cubicBezTo>
                <a:cubicBezTo>
                  <a:pt x="3222" y="3642"/>
                  <a:pt x="3214" y="3636"/>
                  <a:pt x="3200" y="3770"/>
                </a:cubicBezTo>
                <a:cubicBezTo>
                  <a:pt x="3200" y="3828"/>
                  <a:pt x="3200" y="3837"/>
                  <a:pt x="3200" y="3870"/>
                </a:cubicBezTo>
                <a:cubicBezTo>
                  <a:pt x="3305" y="3849"/>
                  <a:pt x="3395" y="3776"/>
                  <a:pt x="3497" y="3870"/>
                </a:cubicBezTo>
                <a:cubicBezTo>
                  <a:pt x="3652" y="4013"/>
                  <a:pt x="3440" y="4178"/>
                  <a:pt x="3299" y="4167"/>
                </a:cubicBezTo>
                <a:cubicBezTo>
                  <a:pt x="3256" y="4145"/>
                  <a:pt x="3244" y="4142"/>
                  <a:pt x="3225" y="4118"/>
                </a:cubicBezTo>
              </a:path>
              <a:path w="4466" h="3151">
                <a:moveTo>
                  <a:pt x="6201" y="3522"/>
                </a:moveTo>
                <a:cubicBezTo>
                  <a:pt x="6272" y="3498"/>
                  <a:pt x="6126" y="3508"/>
                  <a:pt x="6052" y="3522"/>
                </a:cubicBezTo>
                <a:cubicBezTo>
                  <a:pt x="5996" y="3532"/>
                  <a:pt x="5864" y="3543"/>
                  <a:pt x="5854" y="3621"/>
                </a:cubicBezTo>
                <a:cubicBezTo>
                  <a:pt x="5848" y="3665"/>
                  <a:pt x="5854" y="3722"/>
                  <a:pt x="5854" y="3770"/>
                </a:cubicBezTo>
                <a:cubicBezTo>
                  <a:pt x="5970" y="3751"/>
                  <a:pt x="6083" y="3654"/>
                  <a:pt x="6201" y="3721"/>
                </a:cubicBezTo>
                <a:cubicBezTo>
                  <a:pt x="6432" y="3852"/>
                  <a:pt x="6004" y="4029"/>
                  <a:pt x="5928" y="4043"/>
                </a:cubicBezTo>
                <a:cubicBezTo>
                  <a:pt x="5867" y="4043"/>
                  <a:pt x="5851" y="4052"/>
                  <a:pt x="5829" y="4018"/>
                </a:cubicBezTo>
              </a:path>
              <a:path w="4466" h="3151">
                <a:moveTo>
                  <a:pt x="3225" y="2307"/>
                </a:moveTo>
                <a:cubicBezTo>
                  <a:pt x="3245" y="2300"/>
                  <a:pt x="3246" y="2258"/>
                  <a:pt x="3249" y="2332"/>
                </a:cubicBezTo>
                <a:cubicBezTo>
                  <a:pt x="3258" y="2577"/>
                  <a:pt x="3329" y="2807"/>
                  <a:pt x="3349" y="3051"/>
                </a:cubicBezTo>
                <a:cubicBezTo>
                  <a:pt x="3361" y="3200"/>
                  <a:pt x="3373" y="3347"/>
                  <a:pt x="3373" y="3497"/>
                </a:cubicBezTo>
                <a:cubicBezTo>
                  <a:pt x="3373" y="3640"/>
                  <a:pt x="3349" y="3775"/>
                  <a:pt x="3349" y="3919"/>
                </a:cubicBezTo>
                <a:cubicBezTo>
                  <a:pt x="3349" y="3969"/>
                  <a:pt x="3349" y="4018"/>
                  <a:pt x="3349" y="4068"/>
                </a:cubicBezTo>
                <a:cubicBezTo>
                  <a:pt x="3345" y="4109"/>
                  <a:pt x="3309" y="4129"/>
                  <a:pt x="3324" y="4167"/>
                </a:cubicBezTo>
                <a:cubicBezTo>
                  <a:pt x="3356" y="4247"/>
                  <a:pt x="3340" y="4055"/>
                  <a:pt x="3349" y="3969"/>
                </a:cubicBezTo>
                <a:cubicBezTo>
                  <a:pt x="3370" y="3764"/>
                  <a:pt x="3384" y="3578"/>
                  <a:pt x="3349" y="3373"/>
                </a:cubicBezTo>
                <a:cubicBezTo>
                  <a:pt x="3322" y="3214"/>
                  <a:pt x="3324" y="3064"/>
                  <a:pt x="3324" y="2902"/>
                </a:cubicBezTo>
                <a:cubicBezTo>
                  <a:pt x="3324" y="2724"/>
                  <a:pt x="3329" y="2555"/>
                  <a:pt x="3349" y="2381"/>
                </a:cubicBezTo>
                <a:cubicBezTo>
                  <a:pt x="3357" y="2309"/>
                  <a:pt x="3340" y="2241"/>
                  <a:pt x="3324" y="2183"/>
                </a:cubicBezTo>
                <a:cubicBezTo>
                  <a:pt x="3324" y="2175"/>
                  <a:pt x="3324" y="2166"/>
                  <a:pt x="3324" y="2158"/>
                </a:cubicBezTo>
                <a:cubicBezTo>
                  <a:pt x="3334" y="2347"/>
                  <a:pt x="3328" y="2512"/>
                  <a:pt x="3324" y="2704"/>
                </a:cubicBezTo>
                <a:cubicBezTo>
                  <a:pt x="3318" y="3004"/>
                  <a:pt x="3314" y="3299"/>
                  <a:pt x="3299" y="3597"/>
                </a:cubicBezTo>
                <a:cubicBezTo>
                  <a:pt x="3293" y="3722"/>
                  <a:pt x="3274" y="3844"/>
                  <a:pt x="3274" y="3969"/>
                </a:cubicBezTo>
                <a:cubicBezTo>
                  <a:pt x="3274" y="4027"/>
                  <a:pt x="3274" y="4084"/>
                  <a:pt x="3274" y="4142"/>
                </a:cubicBezTo>
                <a:cubicBezTo>
                  <a:pt x="3312" y="3978"/>
                  <a:pt x="3338" y="3791"/>
                  <a:pt x="3349" y="3621"/>
                </a:cubicBezTo>
                <a:cubicBezTo>
                  <a:pt x="3362" y="3404"/>
                  <a:pt x="3348" y="3167"/>
                  <a:pt x="3324" y="2952"/>
                </a:cubicBezTo>
                <a:cubicBezTo>
                  <a:pt x="3302" y="2755"/>
                  <a:pt x="3317" y="2579"/>
                  <a:pt x="3324" y="2381"/>
                </a:cubicBezTo>
                <a:cubicBezTo>
                  <a:pt x="3327" y="2300"/>
                  <a:pt x="3319" y="2340"/>
                  <a:pt x="3299" y="2307"/>
                </a:cubicBezTo>
              </a:path>
              <a:path w="4466" h="3151">
                <a:moveTo>
                  <a:pt x="3448" y="4564"/>
                </a:moveTo>
                <a:cubicBezTo>
                  <a:pt x="3591" y="4646"/>
                  <a:pt x="3661" y="4829"/>
                  <a:pt x="3721" y="4986"/>
                </a:cubicBezTo>
                <a:cubicBezTo>
                  <a:pt x="3740" y="5063"/>
                  <a:pt x="3733" y="5080"/>
                  <a:pt x="3770" y="5110"/>
                </a:cubicBezTo>
              </a:path>
              <a:path w="4466" h="3151">
                <a:moveTo>
                  <a:pt x="3820" y="4465"/>
                </a:moveTo>
                <a:cubicBezTo>
                  <a:pt x="3787" y="4594"/>
                  <a:pt x="3704" y="4757"/>
                  <a:pt x="3646" y="4887"/>
                </a:cubicBezTo>
                <a:cubicBezTo>
                  <a:pt x="3600" y="4989"/>
                  <a:pt x="3572" y="5027"/>
                  <a:pt x="3572" y="5135"/>
                </a:cubicBezTo>
                <a:cubicBezTo>
                  <a:pt x="3572" y="5159"/>
                  <a:pt x="3572" y="5167"/>
                  <a:pt x="3572" y="5135"/>
                </a:cubicBezTo>
              </a:path>
              <a:path w="4466" h="3151">
                <a:moveTo>
                  <a:pt x="4366" y="4787"/>
                </a:moveTo>
                <a:cubicBezTo>
                  <a:pt x="4380" y="4743"/>
                  <a:pt x="4487" y="4750"/>
                  <a:pt x="4539" y="4738"/>
                </a:cubicBezTo>
                <a:cubicBezTo>
                  <a:pt x="4613" y="4719"/>
                  <a:pt x="4620" y="4711"/>
                  <a:pt x="4663" y="4713"/>
                </a:cubicBezTo>
              </a:path>
              <a:path w="4466" h="3151">
                <a:moveTo>
                  <a:pt x="4341" y="5060"/>
                </a:moveTo>
                <a:cubicBezTo>
                  <a:pt x="4427" y="5060"/>
                  <a:pt x="4504" y="5041"/>
                  <a:pt x="4589" y="5035"/>
                </a:cubicBezTo>
                <a:cubicBezTo>
                  <a:pt x="4597" y="5035"/>
                  <a:pt x="4606" y="5035"/>
                  <a:pt x="4614" y="5035"/>
                </a:cubicBezTo>
              </a:path>
              <a:path w="4466" h="3151">
                <a:moveTo>
                  <a:pt x="5209" y="4465"/>
                </a:moveTo>
                <a:cubicBezTo>
                  <a:pt x="5255" y="4480"/>
                  <a:pt x="5234" y="4556"/>
                  <a:pt x="5234" y="4614"/>
                </a:cubicBezTo>
                <a:cubicBezTo>
                  <a:pt x="5234" y="4730"/>
                  <a:pt x="5244" y="4475"/>
                  <a:pt x="5259" y="4415"/>
                </a:cubicBezTo>
                <a:cubicBezTo>
                  <a:pt x="5406" y="4415"/>
                  <a:pt x="5496" y="4404"/>
                  <a:pt x="5631" y="4366"/>
                </a:cubicBezTo>
                <a:cubicBezTo>
                  <a:pt x="5639" y="4366"/>
                  <a:pt x="5647" y="4366"/>
                  <a:pt x="5655" y="4366"/>
                </a:cubicBezTo>
                <a:cubicBezTo>
                  <a:pt x="5623" y="4628"/>
                  <a:pt x="5525" y="4877"/>
                  <a:pt x="5482" y="5135"/>
                </a:cubicBezTo>
                <a:cubicBezTo>
                  <a:pt x="5462" y="5255"/>
                  <a:pt x="5465" y="5258"/>
                  <a:pt x="5482" y="5308"/>
                </a:cubicBezTo>
              </a:path>
              <a:path w="4466" h="3151">
                <a:moveTo>
                  <a:pt x="6400" y="4366"/>
                </a:moveTo>
                <a:cubicBezTo>
                  <a:pt x="6394" y="4404"/>
                  <a:pt x="6448" y="4613"/>
                  <a:pt x="6474" y="4688"/>
                </a:cubicBezTo>
                <a:cubicBezTo>
                  <a:pt x="6491" y="4729"/>
                  <a:pt x="6507" y="4771"/>
                  <a:pt x="6524" y="4812"/>
                </a:cubicBezTo>
                <a:cubicBezTo>
                  <a:pt x="6716" y="4339"/>
                  <a:pt x="6864" y="4029"/>
                  <a:pt x="7218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40120" y="795240"/>
            <a:ext cx="1544760" cy="973080"/>
          </a:xfrm>
          <a:custGeom>
            <a:avLst/>
            <a:gdLst/>
            <a:ahLst/>
            <a:rect l="l" t="t" r="r" b="b"/>
            <a:pathLst>
              <a:path w="4292" h="2704">
                <a:moveTo>
                  <a:pt x="11261" y="2654"/>
                </a:moveTo>
                <a:cubicBezTo>
                  <a:pt x="11238" y="2584"/>
                  <a:pt x="11030" y="2644"/>
                  <a:pt x="10964" y="2629"/>
                </a:cubicBezTo>
                <a:cubicBezTo>
                  <a:pt x="10859" y="2605"/>
                  <a:pt x="10891" y="2580"/>
                  <a:pt x="10815" y="2580"/>
                </a:cubicBezTo>
                <a:cubicBezTo>
                  <a:pt x="10794" y="2724"/>
                  <a:pt x="10753" y="2856"/>
                  <a:pt x="10740" y="3001"/>
                </a:cubicBezTo>
                <a:cubicBezTo>
                  <a:pt x="10800" y="2959"/>
                  <a:pt x="10928" y="2865"/>
                  <a:pt x="11013" y="2902"/>
                </a:cubicBezTo>
                <a:cubicBezTo>
                  <a:pt x="11156" y="2965"/>
                  <a:pt x="11260" y="3246"/>
                  <a:pt x="11137" y="3373"/>
                </a:cubicBezTo>
                <a:cubicBezTo>
                  <a:pt x="11044" y="3469"/>
                  <a:pt x="10754" y="3426"/>
                  <a:pt x="10666" y="3349"/>
                </a:cubicBezTo>
                <a:cubicBezTo>
                  <a:pt x="10666" y="3324"/>
                  <a:pt x="10666" y="3316"/>
                  <a:pt x="10691" y="3324"/>
                </a:cubicBezTo>
              </a:path>
              <a:path w="4292" h="2704">
                <a:moveTo>
                  <a:pt x="11931" y="2232"/>
                </a:moveTo>
                <a:cubicBezTo>
                  <a:pt x="11742" y="2421"/>
                  <a:pt x="11611" y="2796"/>
                  <a:pt x="11584" y="3076"/>
                </a:cubicBezTo>
                <a:cubicBezTo>
                  <a:pt x="11576" y="3158"/>
                  <a:pt x="11644" y="3549"/>
                  <a:pt x="11782" y="3547"/>
                </a:cubicBezTo>
                <a:cubicBezTo>
                  <a:pt x="11782" y="3539"/>
                  <a:pt x="11782" y="3530"/>
                  <a:pt x="11782" y="3522"/>
                </a:cubicBezTo>
              </a:path>
              <a:path w="4292" h="2704">
                <a:moveTo>
                  <a:pt x="11956" y="2753"/>
                </a:moveTo>
                <a:cubicBezTo>
                  <a:pt x="11864" y="2634"/>
                  <a:pt x="12183" y="2681"/>
                  <a:pt x="12204" y="2679"/>
                </a:cubicBezTo>
                <a:cubicBezTo>
                  <a:pt x="12298" y="2670"/>
                  <a:pt x="12347" y="2654"/>
                  <a:pt x="12427" y="2654"/>
                </a:cubicBezTo>
                <a:cubicBezTo>
                  <a:pt x="12402" y="2856"/>
                  <a:pt x="12308" y="3031"/>
                  <a:pt x="12254" y="3225"/>
                </a:cubicBezTo>
                <a:cubicBezTo>
                  <a:pt x="12254" y="3266"/>
                  <a:pt x="12254" y="3274"/>
                  <a:pt x="12254" y="3299"/>
                </a:cubicBezTo>
              </a:path>
              <a:path w="4292" h="2704">
                <a:moveTo>
                  <a:pt x="12601" y="2208"/>
                </a:moveTo>
                <a:cubicBezTo>
                  <a:pt x="12675" y="2467"/>
                  <a:pt x="12799" y="2692"/>
                  <a:pt x="12799" y="2977"/>
                </a:cubicBezTo>
                <a:cubicBezTo>
                  <a:pt x="12799" y="3007"/>
                  <a:pt x="12727" y="3551"/>
                  <a:pt x="12551" y="3497"/>
                </a:cubicBezTo>
                <a:cubicBezTo>
                  <a:pt x="12551" y="3489"/>
                  <a:pt x="12551" y="3481"/>
                  <a:pt x="12551" y="3473"/>
                </a:cubicBezTo>
              </a:path>
              <a:path w="4292" h="2704">
                <a:moveTo>
                  <a:pt x="13196" y="2704"/>
                </a:moveTo>
                <a:cubicBezTo>
                  <a:pt x="13247" y="2665"/>
                  <a:pt x="13455" y="2674"/>
                  <a:pt x="13543" y="2704"/>
                </a:cubicBezTo>
                <a:cubicBezTo>
                  <a:pt x="13543" y="2712"/>
                  <a:pt x="13543" y="2721"/>
                  <a:pt x="13543" y="2729"/>
                </a:cubicBezTo>
              </a:path>
              <a:path w="4292" h="2704">
                <a:moveTo>
                  <a:pt x="13891" y="2679"/>
                </a:moveTo>
                <a:cubicBezTo>
                  <a:pt x="13962" y="2694"/>
                  <a:pt x="14152" y="2770"/>
                  <a:pt x="14163" y="2853"/>
                </a:cubicBezTo>
                <a:cubicBezTo>
                  <a:pt x="14183" y="3009"/>
                  <a:pt x="13934" y="3045"/>
                  <a:pt x="13841" y="3076"/>
                </a:cubicBezTo>
                <a:cubicBezTo>
                  <a:pt x="13976" y="3047"/>
                  <a:pt x="14243" y="3040"/>
                  <a:pt x="14163" y="3274"/>
                </a:cubicBezTo>
                <a:cubicBezTo>
                  <a:pt x="14081" y="3516"/>
                  <a:pt x="13513" y="3398"/>
                  <a:pt x="13543" y="3324"/>
                </a:cubicBezTo>
                <a:cubicBezTo>
                  <a:pt x="13601" y="3266"/>
                  <a:pt x="13659" y="3208"/>
                  <a:pt x="13717" y="3150"/>
                </a:cubicBezTo>
              </a:path>
              <a:path w="4292" h="2704">
                <a:moveTo>
                  <a:pt x="14908" y="2604"/>
                </a:moveTo>
                <a:cubicBezTo>
                  <a:pt x="14794" y="2645"/>
                  <a:pt x="14563" y="2680"/>
                  <a:pt x="14486" y="2778"/>
                </a:cubicBezTo>
                <a:cubicBezTo>
                  <a:pt x="14444" y="2831"/>
                  <a:pt x="14402" y="2917"/>
                  <a:pt x="14387" y="2977"/>
                </a:cubicBezTo>
                <a:cubicBezTo>
                  <a:pt x="14542" y="3002"/>
                  <a:pt x="14823" y="2939"/>
                  <a:pt x="14932" y="3076"/>
                </a:cubicBezTo>
                <a:cubicBezTo>
                  <a:pt x="15149" y="3350"/>
                  <a:pt x="14531" y="3494"/>
                  <a:pt x="14387" y="3448"/>
                </a:cubicBezTo>
                <a:cubicBezTo>
                  <a:pt x="14346" y="3407"/>
                  <a:pt x="14304" y="3365"/>
                  <a:pt x="14263" y="3324"/>
                </a:cubicBezTo>
              </a:path>
              <a:path w="4292" h="2704">
                <a:moveTo>
                  <a:pt x="11063" y="3547"/>
                </a:moveTo>
                <a:cubicBezTo>
                  <a:pt x="11042" y="3655"/>
                  <a:pt x="11022" y="3761"/>
                  <a:pt x="11013" y="3870"/>
                </a:cubicBezTo>
                <a:cubicBezTo>
                  <a:pt x="11328" y="3797"/>
                  <a:pt x="11605" y="3795"/>
                  <a:pt x="11931" y="3795"/>
                </a:cubicBezTo>
                <a:cubicBezTo>
                  <a:pt x="12005" y="3795"/>
                  <a:pt x="12014" y="3795"/>
                  <a:pt x="12055" y="3795"/>
                </a:cubicBezTo>
                <a:cubicBezTo>
                  <a:pt x="12067" y="3679"/>
                  <a:pt x="12090" y="3563"/>
                  <a:pt x="12105" y="3448"/>
                </a:cubicBezTo>
              </a:path>
              <a:path w="4292" h="2704">
                <a:moveTo>
                  <a:pt x="11212" y="4142"/>
                </a:moveTo>
                <a:cubicBezTo>
                  <a:pt x="11146" y="4121"/>
                  <a:pt x="11267" y="4061"/>
                  <a:pt x="11336" y="4068"/>
                </a:cubicBezTo>
                <a:cubicBezTo>
                  <a:pt x="11377" y="4085"/>
                  <a:pt x="11419" y="4101"/>
                  <a:pt x="11460" y="4118"/>
                </a:cubicBezTo>
                <a:cubicBezTo>
                  <a:pt x="11400" y="4323"/>
                  <a:pt x="11389" y="4353"/>
                  <a:pt x="11212" y="4465"/>
                </a:cubicBezTo>
                <a:cubicBezTo>
                  <a:pt x="11192" y="4404"/>
                  <a:pt x="11319" y="4306"/>
                  <a:pt x="11410" y="4415"/>
                </a:cubicBezTo>
                <a:cubicBezTo>
                  <a:pt x="11623" y="4670"/>
                  <a:pt x="11295" y="4835"/>
                  <a:pt x="11088" y="4887"/>
                </a:cubicBezTo>
                <a:cubicBezTo>
                  <a:pt x="10849" y="4947"/>
                  <a:pt x="10973" y="4758"/>
                  <a:pt x="11013" y="4663"/>
                </a:cubicBezTo>
              </a:path>
              <a:path w="4292" h="2704">
                <a:moveTo>
                  <a:pt x="12030" y="4192"/>
                </a:moveTo>
                <a:cubicBezTo>
                  <a:pt x="11942" y="4186"/>
                  <a:pt x="11714" y="4111"/>
                  <a:pt x="11658" y="4167"/>
                </a:cubicBezTo>
                <a:cubicBezTo>
                  <a:pt x="11624" y="4202"/>
                  <a:pt x="11605" y="4472"/>
                  <a:pt x="11609" y="4514"/>
                </a:cubicBezTo>
                <a:cubicBezTo>
                  <a:pt x="11617" y="4531"/>
                  <a:pt x="11625" y="4547"/>
                  <a:pt x="11633" y="4564"/>
                </a:cubicBezTo>
                <a:cubicBezTo>
                  <a:pt x="11861" y="4413"/>
                  <a:pt x="11953" y="4464"/>
                  <a:pt x="12179" y="4564"/>
                </a:cubicBezTo>
                <a:cubicBezTo>
                  <a:pt x="12133" y="4749"/>
                  <a:pt x="11875" y="5116"/>
                  <a:pt x="11609" y="4887"/>
                </a:cubicBezTo>
                <a:cubicBezTo>
                  <a:pt x="11578" y="4699"/>
                  <a:pt x="11602" y="4628"/>
                  <a:pt x="11807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71720" y="2089080"/>
            <a:ext cx="1911240" cy="1652760"/>
          </a:xfrm>
          <a:custGeom>
            <a:avLst/>
            <a:gdLst/>
            <a:ahLst/>
            <a:rect l="l" t="t" r="r" b="b"/>
            <a:pathLst>
              <a:path w="5309" h="4590">
                <a:moveTo>
                  <a:pt x="8285" y="5804"/>
                </a:moveTo>
                <a:cubicBezTo>
                  <a:pt x="8285" y="5812"/>
                  <a:pt x="8285" y="5821"/>
                  <a:pt x="8285" y="5829"/>
                </a:cubicBezTo>
              </a:path>
              <a:path w="5309" h="4590">
                <a:moveTo>
                  <a:pt x="5631" y="8409"/>
                </a:moveTo>
                <a:cubicBezTo>
                  <a:pt x="5814" y="8371"/>
                  <a:pt x="6011" y="8330"/>
                  <a:pt x="6201" y="8310"/>
                </a:cubicBezTo>
                <a:cubicBezTo>
                  <a:pt x="6471" y="8282"/>
                  <a:pt x="6749" y="8253"/>
                  <a:pt x="7020" y="8235"/>
                </a:cubicBezTo>
                <a:cubicBezTo>
                  <a:pt x="7028" y="8235"/>
                  <a:pt x="7037" y="8235"/>
                  <a:pt x="7045" y="8235"/>
                </a:cubicBezTo>
              </a:path>
              <a:path w="5309" h="4590">
                <a:moveTo>
                  <a:pt x="5978" y="8632"/>
                </a:moveTo>
                <a:cubicBezTo>
                  <a:pt x="6064" y="8546"/>
                  <a:pt x="6150" y="8521"/>
                  <a:pt x="6276" y="8508"/>
                </a:cubicBezTo>
                <a:cubicBezTo>
                  <a:pt x="6305" y="8714"/>
                  <a:pt x="6214" y="8875"/>
                  <a:pt x="6102" y="9054"/>
                </a:cubicBezTo>
                <a:cubicBezTo>
                  <a:pt x="6048" y="9127"/>
                  <a:pt x="6023" y="9193"/>
                  <a:pt x="6028" y="9128"/>
                </a:cubicBezTo>
                <a:cubicBezTo>
                  <a:pt x="6159" y="9012"/>
                  <a:pt x="6185" y="9008"/>
                  <a:pt x="6325" y="9103"/>
                </a:cubicBezTo>
                <a:cubicBezTo>
                  <a:pt x="6474" y="9204"/>
                  <a:pt x="6505" y="9106"/>
                  <a:pt x="6648" y="9054"/>
                </a:cubicBezTo>
                <a:cubicBezTo>
                  <a:pt x="6640" y="9062"/>
                  <a:pt x="6631" y="9071"/>
                  <a:pt x="6623" y="9079"/>
                </a:cubicBezTo>
              </a:path>
              <a:path w="5309" h="4590">
                <a:moveTo>
                  <a:pt x="3001" y="8434"/>
                </a:moveTo>
                <a:cubicBezTo>
                  <a:pt x="2952" y="8358"/>
                  <a:pt x="3520" y="8359"/>
                  <a:pt x="3522" y="8359"/>
                </a:cubicBezTo>
                <a:cubicBezTo>
                  <a:pt x="3605" y="8353"/>
                  <a:pt x="4260" y="8230"/>
                  <a:pt x="4341" y="8285"/>
                </a:cubicBezTo>
                <a:cubicBezTo>
                  <a:pt x="4349" y="8301"/>
                  <a:pt x="4358" y="8318"/>
                  <a:pt x="4366" y="8334"/>
                </a:cubicBezTo>
              </a:path>
              <a:path w="5309" h="4590">
                <a:moveTo>
                  <a:pt x="3497" y="8533"/>
                </a:moveTo>
                <a:cubicBezTo>
                  <a:pt x="3546" y="8468"/>
                  <a:pt x="3656" y="8448"/>
                  <a:pt x="3746" y="8434"/>
                </a:cubicBezTo>
                <a:cubicBezTo>
                  <a:pt x="3781" y="8652"/>
                  <a:pt x="3648" y="8824"/>
                  <a:pt x="3522" y="9004"/>
                </a:cubicBezTo>
                <a:cubicBezTo>
                  <a:pt x="3433" y="9116"/>
                  <a:pt x="3407" y="9143"/>
                  <a:pt x="3373" y="9227"/>
                </a:cubicBezTo>
                <a:cubicBezTo>
                  <a:pt x="3405" y="9133"/>
                  <a:pt x="3464" y="9036"/>
                  <a:pt x="3547" y="8979"/>
                </a:cubicBezTo>
                <a:cubicBezTo>
                  <a:pt x="3626" y="8925"/>
                  <a:pt x="3764" y="9085"/>
                  <a:pt x="3894" y="9054"/>
                </a:cubicBezTo>
                <a:cubicBezTo>
                  <a:pt x="3958" y="9039"/>
                  <a:pt x="4083" y="8979"/>
                  <a:pt x="4018" y="8979"/>
                </a:cubicBezTo>
              </a:path>
              <a:path w="5309" h="4590">
                <a:moveTo>
                  <a:pt x="6028" y="7193"/>
                </a:moveTo>
                <a:cubicBezTo>
                  <a:pt x="6072" y="7284"/>
                  <a:pt x="6060" y="7341"/>
                  <a:pt x="6077" y="7441"/>
                </a:cubicBezTo>
                <a:cubicBezTo>
                  <a:pt x="6130" y="7748"/>
                  <a:pt x="6257" y="8053"/>
                  <a:pt x="6300" y="8359"/>
                </a:cubicBezTo>
                <a:cubicBezTo>
                  <a:pt x="6324" y="8531"/>
                  <a:pt x="6289" y="8713"/>
                  <a:pt x="6276" y="8880"/>
                </a:cubicBezTo>
                <a:cubicBezTo>
                  <a:pt x="6274" y="8900"/>
                  <a:pt x="6300" y="9079"/>
                  <a:pt x="6251" y="9079"/>
                </a:cubicBezTo>
                <a:cubicBezTo>
                  <a:pt x="6251" y="9071"/>
                  <a:pt x="6251" y="9062"/>
                  <a:pt x="6251" y="9054"/>
                </a:cubicBezTo>
                <a:cubicBezTo>
                  <a:pt x="6226" y="8837"/>
                  <a:pt x="6238" y="8628"/>
                  <a:pt x="6226" y="8409"/>
                </a:cubicBezTo>
                <a:cubicBezTo>
                  <a:pt x="6211" y="8140"/>
                  <a:pt x="6137" y="7881"/>
                  <a:pt x="6127" y="7615"/>
                </a:cubicBezTo>
                <a:cubicBezTo>
                  <a:pt x="6123" y="7511"/>
                  <a:pt x="6143" y="7418"/>
                  <a:pt x="6152" y="7317"/>
                </a:cubicBezTo>
                <a:cubicBezTo>
                  <a:pt x="6202" y="7575"/>
                  <a:pt x="6199" y="7847"/>
                  <a:pt x="6201" y="8111"/>
                </a:cubicBezTo>
                <a:cubicBezTo>
                  <a:pt x="6204" y="8421"/>
                  <a:pt x="6238" y="8722"/>
                  <a:pt x="6201" y="9029"/>
                </a:cubicBezTo>
                <a:cubicBezTo>
                  <a:pt x="6201" y="9149"/>
                  <a:pt x="6184" y="9129"/>
                  <a:pt x="6176" y="9054"/>
                </a:cubicBezTo>
                <a:cubicBezTo>
                  <a:pt x="6145" y="8745"/>
                  <a:pt x="6172" y="8421"/>
                  <a:pt x="6152" y="8111"/>
                </a:cubicBezTo>
                <a:cubicBezTo>
                  <a:pt x="6134" y="7830"/>
                  <a:pt x="6086" y="7549"/>
                  <a:pt x="6077" y="7268"/>
                </a:cubicBezTo>
                <a:cubicBezTo>
                  <a:pt x="6077" y="7243"/>
                  <a:pt x="6077" y="7235"/>
                  <a:pt x="6077" y="7218"/>
                </a:cubicBezTo>
              </a:path>
              <a:path w="5309" h="4590">
                <a:moveTo>
                  <a:pt x="5779" y="9897"/>
                </a:moveTo>
                <a:cubicBezTo>
                  <a:pt x="5779" y="10050"/>
                  <a:pt x="5787" y="10193"/>
                  <a:pt x="5804" y="10344"/>
                </a:cubicBezTo>
                <a:cubicBezTo>
                  <a:pt x="5804" y="10352"/>
                  <a:pt x="5804" y="10360"/>
                  <a:pt x="5804" y="10368"/>
                </a:cubicBezTo>
                <a:cubicBezTo>
                  <a:pt x="5783" y="10222"/>
                  <a:pt x="5786" y="10071"/>
                  <a:pt x="5804" y="9922"/>
                </a:cubicBezTo>
                <a:cubicBezTo>
                  <a:pt x="5822" y="9777"/>
                  <a:pt x="5841" y="9759"/>
                  <a:pt x="5953" y="9699"/>
                </a:cubicBezTo>
                <a:cubicBezTo>
                  <a:pt x="6098" y="9757"/>
                  <a:pt x="6077" y="9880"/>
                  <a:pt x="6102" y="10046"/>
                </a:cubicBezTo>
                <a:cubicBezTo>
                  <a:pt x="6127" y="10212"/>
                  <a:pt x="6143" y="10245"/>
                  <a:pt x="6300" y="10220"/>
                </a:cubicBezTo>
              </a:path>
              <a:path w="5309" h="4590">
                <a:moveTo>
                  <a:pt x="4936" y="9847"/>
                </a:moveTo>
                <a:cubicBezTo>
                  <a:pt x="4872" y="9847"/>
                  <a:pt x="5080" y="9828"/>
                  <a:pt x="5110" y="9823"/>
                </a:cubicBezTo>
                <a:cubicBezTo>
                  <a:pt x="5135" y="9823"/>
                  <a:pt x="5143" y="9823"/>
                  <a:pt x="5159" y="9823"/>
                </a:cubicBezTo>
              </a:path>
              <a:path w="5309" h="4590">
                <a:moveTo>
                  <a:pt x="4911" y="10021"/>
                </a:moveTo>
                <a:cubicBezTo>
                  <a:pt x="5007" y="10021"/>
                  <a:pt x="5068" y="9993"/>
                  <a:pt x="5159" y="9971"/>
                </a:cubicBezTo>
                <a:cubicBezTo>
                  <a:pt x="5167" y="9971"/>
                  <a:pt x="5176" y="9971"/>
                  <a:pt x="5184" y="9971"/>
                </a:cubicBezTo>
              </a:path>
              <a:path w="5309" h="4590">
                <a:moveTo>
                  <a:pt x="3746" y="9649"/>
                </a:moveTo>
                <a:cubicBezTo>
                  <a:pt x="3746" y="9559"/>
                  <a:pt x="3747" y="10088"/>
                  <a:pt x="3746" y="10096"/>
                </a:cubicBezTo>
                <a:cubicBezTo>
                  <a:pt x="3738" y="10204"/>
                  <a:pt x="3721" y="10287"/>
                  <a:pt x="3721" y="10393"/>
                </a:cubicBezTo>
              </a:path>
              <a:path w="5309" h="4590">
                <a:moveTo>
                  <a:pt x="4142" y="9624"/>
                </a:moveTo>
                <a:cubicBezTo>
                  <a:pt x="4168" y="9498"/>
                  <a:pt x="4274" y="9441"/>
                  <a:pt x="4390" y="9401"/>
                </a:cubicBezTo>
                <a:cubicBezTo>
                  <a:pt x="4571" y="9339"/>
                  <a:pt x="4379" y="9766"/>
                  <a:pt x="4366" y="9798"/>
                </a:cubicBezTo>
                <a:cubicBezTo>
                  <a:pt x="4349" y="9806"/>
                  <a:pt x="4333" y="9815"/>
                  <a:pt x="4316" y="9823"/>
                </a:cubicBezTo>
                <a:cubicBezTo>
                  <a:pt x="4316" y="9731"/>
                  <a:pt x="4448" y="9659"/>
                  <a:pt x="4539" y="9723"/>
                </a:cubicBezTo>
                <a:cubicBezTo>
                  <a:pt x="4737" y="9862"/>
                  <a:pt x="4551" y="10206"/>
                  <a:pt x="4366" y="10244"/>
                </a:cubicBezTo>
                <a:cubicBezTo>
                  <a:pt x="4316" y="10254"/>
                  <a:pt x="4241" y="10205"/>
                  <a:pt x="4192" y="10195"/>
                </a:cubicBezTo>
              </a:path>
              <a:path w="5309" h="4590">
                <a:moveTo>
                  <a:pt x="6722" y="9823"/>
                </a:moveTo>
                <a:cubicBezTo>
                  <a:pt x="6808" y="9909"/>
                  <a:pt x="6859" y="9960"/>
                  <a:pt x="6945" y="10046"/>
                </a:cubicBezTo>
                <a:cubicBezTo>
                  <a:pt x="6978" y="10079"/>
                  <a:pt x="7012" y="10112"/>
                  <a:pt x="7045" y="10145"/>
                </a:cubicBezTo>
                <a:cubicBezTo>
                  <a:pt x="7233" y="9737"/>
                  <a:pt x="7340" y="9428"/>
                  <a:pt x="7665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27240" y="2340000"/>
            <a:ext cx="920880" cy="749160"/>
          </a:xfrm>
          <a:custGeom>
            <a:avLst/>
            <a:gdLst/>
            <a:ahLst/>
            <a:rect l="l" t="t" r="r" b="b"/>
            <a:pathLst>
              <a:path w="2556" h="2084">
                <a:moveTo>
                  <a:pt x="9699" y="7615"/>
                </a:moveTo>
                <a:cubicBezTo>
                  <a:pt x="9660" y="7628"/>
                  <a:pt x="9655" y="7693"/>
                  <a:pt x="9624" y="7739"/>
                </a:cubicBezTo>
                <a:cubicBezTo>
                  <a:pt x="9647" y="7684"/>
                  <a:pt x="9744" y="7480"/>
                  <a:pt x="9847" y="7541"/>
                </a:cubicBezTo>
                <a:cubicBezTo>
                  <a:pt x="10124" y="7705"/>
                  <a:pt x="9691" y="8164"/>
                  <a:pt x="9550" y="8260"/>
                </a:cubicBezTo>
                <a:cubicBezTo>
                  <a:pt x="9509" y="8268"/>
                  <a:pt x="9467" y="8277"/>
                  <a:pt x="9426" y="8285"/>
                </a:cubicBezTo>
                <a:cubicBezTo>
                  <a:pt x="9370" y="8104"/>
                  <a:pt x="9471" y="8018"/>
                  <a:pt x="9674" y="8111"/>
                </a:cubicBezTo>
                <a:cubicBezTo>
                  <a:pt x="9803" y="8196"/>
                  <a:pt x="9835" y="8212"/>
                  <a:pt x="9897" y="8285"/>
                </a:cubicBezTo>
              </a:path>
              <a:path w="2556" h="2084">
                <a:moveTo>
                  <a:pt x="10170" y="7466"/>
                </a:moveTo>
                <a:cubicBezTo>
                  <a:pt x="10144" y="7624"/>
                  <a:pt x="10077" y="7779"/>
                  <a:pt x="10046" y="7938"/>
                </a:cubicBezTo>
                <a:cubicBezTo>
                  <a:pt x="10010" y="8118"/>
                  <a:pt x="10010" y="8305"/>
                  <a:pt x="10244" y="8310"/>
                </a:cubicBezTo>
                <a:cubicBezTo>
                  <a:pt x="10395" y="8314"/>
                  <a:pt x="10634" y="8179"/>
                  <a:pt x="10641" y="8012"/>
                </a:cubicBezTo>
                <a:cubicBezTo>
                  <a:pt x="10625" y="8004"/>
                  <a:pt x="10608" y="7995"/>
                  <a:pt x="10592" y="7987"/>
                </a:cubicBezTo>
                <a:cubicBezTo>
                  <a:pt x="10370" y="7944"/>
                  <a:pt x="10293" y="8057"/>
                  <a:pt x="10244" y="8285"/>
                </a:cubicBezTo>
                <a:cubicBezTo>
                  <a:pt x="10244" y="8336"/>
                  <a:pt x="10245" y="8355"/>
                  <a:pt x="10269" y="8384"/>
                </a:cubicBezTo>
              </a:path>
              <a:path w="2556" h="2084">
                <a:moveTo>
                  <a:pt x="9103" y="8582"/>
                </a:moveTo>
                <a:cubicBezTo>
                  <a:pt x="9103" y="8330"/>
                  <a:pt x="9134" y="8009"/>
                  <a:pt x="9128" y="7739"/>
                </a:cubicBezTo>
                <a:cubicBezTo>
                  <a:pt x="9126" y="7649"/>
                  <a:pt x="9045" y="7459"/>
                  <a:pt x="9153" y="7392"/>
                </a:cubicBezTo>
                <a:cubicBezTo>
                  <a:pt x="9347" y="7272"/>
                  <a:pt x="9696" y="7318"/>
                  <a:pt x="9897" y="7317"/>
                </a:cubicBezTo>
                <a:cubicBezTo>
                  <a:pt x="10255" y="7314"/>
                  <a:pt x="10608" y="7314"/>
                  <a:pt x="10964" y="7293"/>
                </a:cubicBezTo>
                <a:cubicBezTo>
                  <a:pt x="10956" y="7293"/>
                  <a:pt x="10947" y="7293"/>
                  <a:pt x="10939" y="7293"/>
                </a:cubicBezTo>
              </a:path>
              <a:path w="2556" h="2084">
                <a:moveTo>
                  <a:pt x="8731" y="7590"/>
                </a:moveTo>
                <a:cubicBezTo>
                  <a:pt x="8674" y="7623"/>
                  <a:pt x="8669" y="7631"/>
                  <a:pt x="8607" y="7640"/>
                </a:cubicBezTo>
                <a:cubicBezTo>
                  <a:pt x="8607" y="7580"/>
                  <a:pt x="8694" y="7429"/>
                  <a:pt x="8756" y="7541"/>
                </a:cubicBezTo>
                <a:cubicBezTo>
                  <a:pt x="8900" y="7803"/>
                  <a:pt x="8601" y="8012"/>
                  <a:pt x="8434" y="8136"/>
                </a:cubicBezTo>
                <a:cubicBezTo>
                  <a:pt x="8426" y="8144"/>
                  <a:pt x="8417" y="8153"/>
                  <a:pt x="8409" y="8161"/>
                </a:cubicBezTo>
                <a:cubicBezTo>
                  <a:pt x="8468" y="7983"/>
                  <a:pt x="8584" y="8018"/>
                  <a:pt x="8731" y="8111"/>
                </a:cubicBezTo>
                <a:cubicBezTo>
                  <a:pt x="8803" y="8156"/>
                  <a:pt x="8788" y="8182"/>
                  <a:pt x="8756" y="8235"/>
                </a:cubicBezTo>
              </a:path>
              <a:path w="2556" h="2084">
                <a:moveTo>
                  <a:pt x="9699" y="6623"/>
                </a:moveTo>
                <a:cubicBezTo>
                  <a:pt x="9707" y="6615"/>
                  <a:pt x="9715" y="6606"/>
                  <a:pt x="9723" y="6598"/>
                </a:cubicBezTo>
                <a:cubicBezTo>
                  <a:pt x="9723" y="6758"/>
                  <a:pt x="9677" y="7005"/>
                  <a:pt x="9699" y="7144"/>
                </a:cubicBezTo>
                <a:cubicBezTo>
                  <a:pt x="9707" y="7152"/>
                  <a:pt x="9715" y="7161"/>
                  <a:pt x="9723" y="7169"/>
                </a:cubicBezTo>
              </a:path>
              <a:path w="2556" h="2084">
                <a:moveTo>
                  <a:pt x="10145" y="6623"/>
                </a:moveTo>
                <a:cubicBezTo>
                  <a:pt x="10238" y="6530"/>
                  <a:pt x="10268" y="6499"/>
                  <a:pt x="10393" y="6524"/>
                </a:cubicBezTo>
                <a:cubicBezTo>
                  <a:pt x="10375" y="6675"/>
                  <a:pt x="10354" y="6737"/>
                  <a:pt x="10244" y="6846"/>
                </a:cubicBezTo>
                <a:cubicBezTo>
                  <a:pt x="10246" y="6794"/>
                  <a:pt x="10432" y="6752"/>
                  <a:pt x="10418" y="6921"/>
                </a:cubicBezTo>
                <a:cubicBezTo>
                  <a:pt x="10405" y="7083"/>
                  <a:pt x="10261" y="7138"/>
                  <a:pt x="10145" y="7119"/>
                </a:cubicBezTo>
                <a:cubicBezTo>
                  <a:pt x="10102" y="7112"/>
                  <a:pt x="10135" y="7108"/>
                  <a:pt x="10096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32200" y="1482840"/>
            <a:ext cx="428760" cy="2761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3320" y="4192"/>
                </a:moveTo>
                <a:cubicBezTo>
                  <a:pt x="13394" y="4148"/>
                  <a:pt x="13603" y="4122"/>
                  <a:pt x="13643" y="4242"/>
                </a:cubicBezTo>
                <a:cubicBezTo>
                  <a:pt x="13676" y="4343"/>
                  <a:pt x="13402" y="4396"/>
                  <a:pt x="13345" y="4415"/>
                </a:cubicBezTo>
                <a:cubicBezTo>
                  <a:pt x="13460" y="4438"/>
                  <a:pt x="13680" y="4490"/>
                  <a:pt x="13643" y="4663"/>
                </a:cubicBezTo>
                <a:cubicBezTo>
                  <a:pt x="13573" y="4990"/>
                  <a:pt x="13219" y="4919"/>
                  <a:pt x="13146" y="4713"/>
                </a:cubicBezTo>
              </a:path>
              <a:path w="1192" h="770">
                <a:moveTo>
                  <a:pt x="14337" y="4118"/>
                </a:moveTo>
                <a:cubicBezTo>
                  <a:pt x="14230" y="4131"/>
                  <a:pt x="14043" y="4094"/>
                  <a:pt x="13990" y="4192"/>
                </a:cubicBezTo>
                <a:cubicBezTo>
                  <a:pt x="13940" y="4284"/>
                  <a:pt x="13915" y="4350"/>
                  <a:pt x="13841" y="4415"/>
                </a:cubicBezTo>
                <a:cubicBezTo>
                  <a:pt x="13976" y="4466"/>
                  <a:pt x="14140" y="4439"/>
                  <a:pt x="14263" y="4539"/>
                </a:cubicBezTo>
                <a:cubicBezTo>
                  <a:pt x="14560" y="4779"/>
                  <a:pt x="13890" y="4849"/>
                  <a:pt x="13816" y="4837"/>
                </a:cubicBezTo>
                <a:cubicBezTo>
                  <a:pt x="13758" y="4812"/>
                  <a:pt x="13701" y="4787"/>
                  <a:pt x="13643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84880" y="2554200"/>
            <a:ext cx="482400" cy="303480"/>
          </a:xfrm>
          <a:custGeom>
            <a:avLst/>
            <a:gdLst/>
            <a:ahLst/>
            <a:rect l="l" t="t" r="r" b="b"/>
            <a:pathLst>
              <a:path w="1341" h="845">
                <a:moveTo>
                  <a:pt x="15304" y="7342"/>
                </a:moveTo>
                <a:cubicBezTo>
                  <a:pt x="15281" y="7293"/>
                  <a:pt x="15263" y="7378"/>
                  <a:pt x="15255" y="7417"/>
                </a:cubicBezTo>
                <a:cubicBezTo>
                  <a:pt x="15255" y="7337"/>
                  <a:pt x="15267" y="7205"/>
                  <a:pt x="15379" y="7193"/>
                </a:cubicBezTo>
                <a:cubicBezTo>
                  <a:pt x="15776" y="7149"/>
                  <a:pt x="15526" y="7620"/>
                  <a:pt x="15404" y="7739"/>
                </a:cubicBezTo>
                <a:cubicBezTo>
                  <a:pt x="15197" y="7884"/>
                  <a:pt x="15165" y="7934"/>
                  <a:pt x="15007" y="7938"/>
                </a:cubicBezTo>
                <a:cubicBezTo>
                  <a:pt x="14992" y="7742"/>
                  <a:pt x="15211" y="7602"/>
                  <a:pt x="15453" y="7689"/>
                </a:cubicBezTo>
                <a:cubicBezTo>
                  <a:pt x="15516" y="7752"/>
                  <a:pt x="15533" y="7762"/>
                  <a:pt x="15553" y="7813"/>
                </a:cubicBezTo>
              </a:path>
              <a:path w="1341" h="845">
                <a:moveTo>
                  <a:pt x="15850" y="7094"/>
                </a:moveTo>
                <a:cubicBezTo>
                  <a:pt x="15826" y="7286"/>
                  <a:pt x="15720" y="7497"/>
                  <a:pt x="15726" y="7689"/>
                </a:cubicBezTo>
                <a:cubicBezTo>
                  <a:pt x="15743" y="7730"/>
                  <a:pt x="15759" y="7772"/>
                  <a:pt x="15776" y="7813"/>
                </a:cubicBezTo>
                <a:cubicBezTo>
                  <a:pt x="16095" y="7869"/>
                  <a:pt x="16159" y="7778"/>
                  <a:pt x="16297" y="7491"/>
                </a:cubicBezTo>
                <a:cubicBezTo>
                  <a:pt x="16145" y="7448"/>
                  <a:pt x="15954" y="7515"/>
                  <a:pt x="15974" y="7739"/>
                </a:cubicBezTo>
                <a:cubicBezTo>
                  <a:pt x="16030" y="7822"/>
                  <a:pt x="16056" y="7840"/>
                  <a:pt x="16123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8720" y="2276640"/>
            <a:ext cx="6135480" cy="3457440"/>
          </a:xfrm>
          <a:custGeom>
            <a:avLst/>
            <a:gdLst/>
            <a:ahLst/>
            <a:rect l="l" t="t" r="r" b="b"/>
            <a:pathLst>
              <a:path w="17042" h="9601">
                <a:moveTo>
                  <a:pt x="5507" y="13866"/>
                </a:moveTo>
                <a:lnTo>
                  <a:pt x="5507" y="13866"/>
                </a:lnTo>
              </a:path>
              <a:path w="17042" h="9601">
                <a:moveTo>
                  <a:pt x="16520" y="7243"/>
                </a:moveTo>
                <a:cubicBezTo>
                  <a:pt x="16650" y="7197"/>
                  <a:pt x="16764" y="7140"/>
                  <a:pt x="16892" y="7193"/>
                </a:cubicBezTo>
              </a:path>
              <a:path w="17042" h="9601">
                <a:moveTo>
                  <a:pt x="16495" y="7516"/>
                </a:moveTo>
                <a:cubicBezTo>
                  <a:pt x="16638" y="7500"/>
                  <a:pt x="16778" y="7489"/>
                  <a:pt x="16917" y="7466"/>
                </a:cubicBezTo>
              </a:path>
              <a:path w="17042" h="9601">
                <a:moveTo>
                  <a:pt x="19521" y="6325"/>
                </a:moveTo>
                <a:cubicBezTo>
                  <a:pt x="19877" y="6796"/>
                  <a:pt x="20405" y="7266"/>
                  <a:pt x="19844" y="7813"/>
                </a:cubicBezTo>
                <a:cubicBezTo>
                  <a:pt x="19609" y="7941"/>
                  <a:pt x="19560" y="8003"/>
                  <a:pt x="19397" y="7913"/>
                </a:cubicBezTo>
              </a:path>
              <a:path w="17042" h="9601">
                <a:moveTo>
                  <a:pt x="16619" y="9550"/>
                </a:moveTo>
                <a:cubicBezTo>
                  <a:pt x="16768" y="9481"/>
                  <a:pt x="16909" y="9423"/>
                  <a:pt x="17066" y="9376"/>
                </a:cubicBezTo>
              </a:path>
              <a:path w="17042" h="9601">
                <a:moveTo>
                  <a:pt x="16768" y="9872"/>
                </a:moveTo>
                <a:cubicBezTo>
                  <a:pt x="16978" y="9809"/>
                  <a:pt x="17033" y="9813"/>
                  <a:pt x="17115" y="9699"/>
                </a:cubicBezTo>
              </a:path>
              <a:path w="17042" h="9601">
                <a:moveTo>
                  <a:pt x="17115" y="9699"/>
                </a:moveTo>
                <a:lnTo>
                  <a:pt x="17115" y="9699"/>
                </a:lnTo>
              </a:path>
              <a:path w="17042" h="9601">
                <a:moveTo>
                  <a:pt x="3225" y="13246"/>
                </a:moveTo>
                <a:cubicBezTo>
                  <a:pt x="3217" y="13246"/>
                  <a:pt x="3208" y="13246"/>
                  <a:pt x="3200" y="13246"/>
                </a:cubicBezTo>
                <a:cubicBezTo>
                  <a:pt x="3200" y="13190"/>
                  <a:pt x="3193" y="13203"/>
                  <a:pt x="3150" y="13171"/>
                </a:cubicBezTo>
              </a:path>
              <a:path w="17042" h="9601">
                <a:moveTo>
                  <a:pt x="3101" y="13146"/>
                </a:moveTo>
                <a:cubicBezTo>
                  <a:pt x="3076" y="13146"/>
                  <a:pt x="3068" y="13146"/>
                  <a:pt x="3051" y="13146"/>
                </a:cubicBezTo>
              </a:path>
              <a:path w="17042" h="9601">
                <a:moveTo>
                  <a:pt x="5581" y="13370"/>
                </a:moveTo>
                <a:cubicBezTo>
                  <a:pt x="5687" y="13299"/>
                  <a:pt x="5130" y="13406"/>
                  <a:pt x="5854" y="13271"/>
                </a:cubicBezTo>
                <a:cubicBezTo>
                  <a:pt x="6377" y="13173"/>
                  <a:pt x="6898" y="13085"/>
                  <a:pt x="7417" y="12973"/>
                </a:cubicBezTo>
                <a:cubicBezTo>
                  <a:pt x="7534" y="12953"/>
                  <a:pt x="7555" y="12959"/>
                  <a:pt x="7615" y="12923"/>
                </a:cubicBezTo>
              </a:path>
              <a:path w="17042" h="9601">
                <a:moveTo>
                  <a:pt x="6251" y="13320"/>
                </a:moveTo>
                <a:cubicBezTo>
                  <a:pt x="6251" y="13466"/>
                  <a:pt x="6201" y="13606"/>
                  <a:pt x="6152" y="13742"/>
                </a:cubicBezTo>
                <a:cubicBezTo>
                  <a:pt x="6144" y="13758"/>
                  <a:pt x="6135" y="13775"/>
                  <a:pt x="6127" y="13791"/>
                </a:cubicBezTo>
                <a:cubicBezTo>
                  <a:pt x="6306" y="13781"/>
                  <a:pt x="6478" y="13689"/>
                  <a:pt x="6648" y="13593"/>
                </a:cubicBezTo>
              </a:path>
              <a:path w="17042" h="9601">
                <a:moveTo>
                  <a:pt x="6648" y="13295"/>
                </a:moveTo>
                <a:cubicBezTo>
                  <a:pt x="6599" y="13567"/>
                  <a:pt x="6560" y="13837"/>
                  <a:pt x="6548" y="14114"/>
                </a:cubicBezTo>
                <a:cubicBezTo>
                  <a:pt x="6548" y="14139"/>
                  <a:pt x="6548" y="14147"/>
                  <a:pt x="6548" y="14114"/>
                </a:cubicBezTo>
              </a:path>
              <a:path w="17042" h="9601">
                <a:moveTo>
                  <a:pt x="11509" y="11683"/>
                </a:moveTo>
                <a:cubicBezTo>
                  <a:pt x="11511" y="11727"/>
                  <a:pt x="11538" y="12217"/>
                  <a:pt x="11683" y="12030"/>
                </a:cubicBezTo>
                <a:cubicBezTo>
                  <a:pt x="11716" y="11956"/>
                  <a:pt x="11749" y="11881"/>
                  <a:pt x="11782" y="11807"/>
                </a:cubicBezTo>
              </a:path>
              <a:path w="17042" h="9601">
                <a:moveTo>
                  <a:pt x="11609" y="12750"/>
                </a:moveTo>
                <a:cubicBezTo>
                  <a:pt x="11620" y="12832"/>
                  <a:pt x="11633" y="12886"/>
                  <a:pt x="11683" y="12948"/>
                </a:cubicBezTo>
                <a:cubicBezTo>
                  <a:pt x="11763" y="12908"/>
                  <a:pt x="11790" y="12868"/>
                  <a:pt x="11782" y="12774"/>
                </a:cubicBezTo>
              </a:path>
              <a:path w="17042" h="9601">
                <a:moveTo>
                  <a:pt x="10244" y="13146"/>
                </a:moveTo>
                <a:cubicBezTo>
                  <a:pt x="10377" y="13130"/>
                  <a:pt x="10489" y="13093"/>
                  <a:pt x="10616" y="13047"/>
                </a:cubicBezTo>
              </a:path>
              <a:path w="17042" h="9601">
                <a:moveTo>
                  <a:pt x="6003" y="15106"/>
                </a:moveTo>
                <a:cubicBezTo>
                  <a:pt x="5949" y="15195"/>
                  <a:pt x="5951" y="15574"/>
                  <a:pt x="5978" y="15701"/>
                </a:cubicBezTo>
                <a:cubicBezTo>
                  <a:pt x="6039" y="15983"/>
                  <a:pt x="6248" y="15941"/>
                  <a:pt x="6424" y="15801"/>
                </a:cubicBezTo>
                <a:cubicBezTo>
                  <a:pt x="6483" y="15754"/>
                  <a:pt x="6704" y="15429"/>
                  <a:pt x="6548" y="15354"/>
                </a:cubicBezTo>
                <a:cubicBezTo>
                  <a:pt x="6515" y="15354"/>
                  <a:pt x="6482" y="15354"/>
                  <a:pt x="6449" y="15354"/>
                </a:cubicBezTo>
                <a:cubicBezTo>
                  <a:pt x="6325" y="15554"/>
                  <a:pt x="6303" y="15643"/>
                  <a:pt x="6400" y="15875"/>
                </a:cubicBezTo>
              </a:path>
              <a:path w="17042" h="9601">
                <a:moveTo>
                  <a:pt x="3125" y="13246"/>
                </a:moveTo>
                <a:cubicBezTo>
                  <a:pt x="3329" y="13236"/>
                  <a:pt x="3518" y="13202"/>
                  <a:pt x="3721" y="13171"/>
                </a:cubicBezTo>
                <a:cubicBezTo>
                  <a:pt x="4080" y="13117"/>
                  <a:pt x="4424" y="13028"/>
                  <a:pt x="4787" y="13022"/>
                </a:cubicBezTo>
                <a:cubicBezTo>
                  <a:pt x="5076" y="13017"/>
                  <a:pt x="4883" y="13021"/>
                  <a:pt x="4961" y="13047"/>
                </a:cubicBezTo>
              </a:path>
              <a:path w="17042" h="9601">
                <a:moveTo>
                  <a:pt x="3522" y="13419"/>
                </a:moveTo>
                <a:cubicBezTo>
                  <a:pt x="3567" y="13524"/>
                  <a:pt x="3545" y="13703"/>
                  <a:pt x="3497" y="13816"/>
                </a:cubicBezTo>
                <a:cubicBezTo>
                  <a:pt x="3489" y="13816"/>
                  <a:pt x="3481" y="13816"/>
                  <a:pt x="3473" y="13816"/>
                </a:cubicBezTo>
                <a:cubicBezTo>
                  <a:pt x="3588" y="13803"/>
                  <a:pt x="3686" y="13759"/>
                  <a:pt x="3795" y="13742"/>
                </a:cubicBezTo>
                <a:cubicBezTo>
                  <a:pt x="3803" y="13742"/>
                  <a:pt x="3812" y="13742"/>
                  <a:pt x="3820" y="13742"/>
                </a:cubicBezTo>
              </a:path>
              <a:path w="17042" h="9601">
                <a:moveTo>
                  <a:pt x="3795" y="13320"/>
                </a:moveTo>
                <a:cubicBezTo>
                  <a:pt x="3755" y="13617"/>
                  <a:pt x="3758" y="13950"/>
                  <a:pt x="3696" y="14238"/>
                </a:cubicBezTo>
                <a:cubicBezTo>
                  <a:pt x="3688" y="14238"/>
                  <a:pt x="3679" y="14238"/>
                  <a:pt x="3671" y="14238"/>
                </a:cubicBezTo>
              </a:path>
              <a:path w="17042" h="9601">
                <a:moveTo>
                  <a:pt x="3349" y="12303"/>
                </a:moveTo>
                <a:cubicBezTo>
                  <a:pt x="3413" y="12496"/>
                  <a:pt x="3443" y="12648"/>
                  <a:pt x="3473" y="12849"/>
                </a:cubicBezTo>
                <a:cubicBezTo>
                  <a:pt x="3540" y="13291"/>
                  <a:pt x="3584" y="13742"/>
                  <a:pt x="3621" y="14188"/>
                </a:cubicBezTo>
                <a:cubicBezTo>
                  <a:pt x="3621" y="14230"/>
                  <a:pt x="3621" y="14238"/>
                  <a:pt x="3621" y="14263"/>
                </a:cubicBezTo>
                <a:cubicBezTo>
                  <a:pt x="3582" y="14015"/>
                  <a:pt x="3510" y="13726"/>
                  <a:pt x="3473" y="13469"/>
                </a:cubicBezTo>
                <a:cubicBezTo>
                  <a:pt x="3426" y="13137"/>
                  <a:pt x="3379" y="12807"/>
                  <a:pt x="3324" y="12477"/>
                </a:cubicBezTo>
                <a:cubicBezTo>
                  <a:pt x="3310" y="12393"/>
                  <a:pt x="3352" y="12593"/>
                  <a:pt x="3373" y="12675"/>
                </a:cubicBezTo>
                <a:cubicBezTo>
                  <a:pt x="3487" y="13114"/>
                  <a:pt x="3601" y="13566"/>
                  <a:pt x="3671" y="14015"/>
                </a:cubicBezTo>
                <a:cubicBezTo>
                  <a:pt x="3671" y="14089"/>
                  <a:pt x="3671" y="14098"/>
                  <a:pt x="3671" y="14139"/>
                </a:cubicBezTo>
                <a:cubicBezTo>
                  <a:pt x="3587" y="13813"/>
                  <a:pt x="3558" y="13517"/>
                  <a:pt x="3547" y="13171"/>
                </a:cubicBezTo>
                <a:cubicBezTo>
                  <a:pt x="3539" y="12903"/>
                  <a:pt x="3546" y="12682"/>
                  <a:pt x="3497" y="12427"/>
                </a:cubicBezTo>
              </a:path>
              <a:path w="17042" h="9601">
                <a:moveTo>
                  <a:pt x="4068" y="15007"/>
                </a:moveTo>
                <a:cubicBezTo>
                  <a:pt x="4094" y="14930"/>
                  <a:pt x="4145" y="15078"/>
                  <a:pt x="4167" y="15156"/>
                </a:cubicBezTo>
                <a:cubicBezTo>
                  <a:pt x="4209" y="15321"/>
                  <a:pt x="4217" y="15354"/>
                  <a:pt x="4242" y="15453"/>
                </a:cubicBezTo>
                <a:cubicBezTo>
                  <a:pt x="4169" y="15338"/>
                  <a:pt x="4111" y="15174"/>
                  <a:pt x="4142" y="15032"/>
                </a:cubicBezTo>
                <a:cubicBezTo>
                  <a:pt x="4159" y="14999"/>
                  <a:pt x="4175" y="14965"/>
                  <a:pt x="4192" y="14932"/>
                </a:cubicBezTo>
                <a:cubicBezTo>
                  <a:pt x="4392" y="14900"/>
                  <a:pt x="4438" y="15024"/>
                  <a:pt x="4514" y="15205"/>
                </a:cubicBezTo>
                <a:cubicBezTo>
                  <a:pt x="4551" y="15316"/>
                  <a:pt x="4539" y="15336"/>
                  <a:pt x="4589" y="15379"/>
                </a:cubicBezTo>
                <a:cubicBezTo>
                  <a:pt x="4517" y="15175"/>
                  <a:pt x="4497" y="15054"/>
                  <a:pt x="4589" y="14858"/>
                </a:cubicBezTo>
                <a:cubicBezTo>
                  <a:pt x="4842" y="14872"/>
                  <a:pt x="4897" y="15054"/>
                  <a:pt x="4961" y="15304"/>
                </a:cubicBezTo>
                <a:cubicBezTo>
                  <a:pt x="4961" y="15321"/>
                  <a:pt x="4961" y="15337"/>
                  <a:pt x="4961" y="15354"/>
                </a:cubicBezTo>
              </a:path>
              <a:path w="17042" h="9601">
                <a:moveTo>
                  <a:pt x="5234" y="15106"/>
                </a:moveTo>
                <a:cubicBezTo>
                  <a:pt x="5280" y="15106"/>
                  <a:pt x="5470" y="15068"/>
                  <a:pt x="5482" y="15081"/>
                </a:cubicBezTo>
                <a:cubicBezTo>
                  <a:pt x="5482" y="15098"/>
                  <a:pt x="5482" y="15114"/>
                  <a:pt x="5482" y="15131"/>
                </a:cubicBezTo>
              </a:path>
              <a:path w="17042" h="9601">
                <a:moveTo>
                  <a:pt x="5234" y="15404"/>
                </a:moveTo>
                <a:cubicBezTo>
                  <a:pt x="5343" y="15393"/>
                  <a:pt x="5445" y="15379"/>
                  <a:pt x="5556" y="15379"/>
                </a:cubicBezTo>
                <a:cubicBezTo>
                  <a:pt x="5564" y="15379"/>
                  <a:pt x="5573" y="15379"/>
                  <a:pt x="5581" y="15379"/>
                </a:cubicBezTo>
              </a:path>
              <a:path w="17042" h="9601">
                <a:moveTo>
                  <a:pt x="16049" y="12328"/>
                </a:moveTo>
                <a:cubicBezTo>
                  <a:pt x="15975" y="12786"/>
                  <a:pt x="15873" y="13222"/>
                  <a:pt x="16073" y="13667"/>
                </a:cubicBezTo>
                <a:cubicBezTo>
                  <a:pt x="16134" y="13748"/>
                  <a:pt x="16138" y="13792"/>
                  <a:pt x="16197" y="13742"/>
                </a:cubicBezTo>
              </a:path>
              <a:path w="17042" h="9601">
                <a:moveTo>
                  <a:pt x="16520" y="12477"/>
                </a:moveTo>
                <a:cubicBezTo>
                  <a:pt x="16820" y="12797"/>
                  <a:pt x="17031" y="13067"/>
                  <a:pt x="16818" y="13519"/>
                </a:cubicBezTo>
                <a:cubicBezTo>
                  <a:pt x="16721" y="13615"/>
                  <a:pt x="16693" y="13647"/>
                  <a:pt x="16594" y="13643"/>
                </a:cubicBezTo>
              </a:path>
              <a:path w="17042" h="9601">
                <a:moveTo>
                  <a:pt x="17140" y="12774"/>
                </a:moveTo>
                <a:cubicBezTo>
                  <a:pt x="17258" y="12748"/>
                  <a:pt x="17367" y="12732"/>
                  <a:pt x="17487" y="12725"/>
                </a:cubicBezTo>
              </a:path>
              <a:path w="17042" h="9601">
                <a:moveTo>
                  <a:pt x="17140" y="12973"/>
                </a:moveTo>
                <a:cubicBezTo>
                  <a:pt x="17376" y="12913"/>
                  <a:pt x="17479" y="12881"/>
                  <a:pt x="17636" y="12799"/>
                </a:cubicBezTo>
              </a:path>
              <a:path w="17042" h="9601">
                <a:moveTo>
                  <a:pt x="18380" y="12477"/>
                </a:moveTo>
                <a:cubicBezTo>
                  <a:pt x="18474" y="12757"/>
                  <a:pt x="18491" y="12802"/>
                  <a:pt x="18752" y="12700"/>
                </a:cubicBezTo>
              </a:path>
              <a:path w="17042" h="9601">
                <a:moveTo>
                  <a:pt x="3373" y="12650"/>
                </a:moveTo>
                <a:cubicBezTo>
                  <a:pt x="3372" y="12640"/>
                  <a:pt x="3340" y="12462"/>
                  <a:pt x="3373" y="12502"/>
                </a:cubicBezTo>
                <a:cubicBezTo>
                  <a:pt x="3531" y="12694"/>
                  <a:pt x="3601" y="13011"/>
                  <a:pt x="3671" y="13246"/>
                </a:cubicBezTo>
                <a:cubicBezTo>
                  <a:pt x="3725" y="13428"/>
                  <a:pt x="3713" y="13749"/>
                  <a:pt x="3795" y="13915"/>
                </a:cubicBezTo>
                <a:cubicBezTo>
                  <a:pt x="3795" y="13856"/>
                  <a:pt x="3792" y="13830"/>
                  <a:pt x="3770" y="13791"/>
                </a:cubicBezTo>
                <a:cubicBezTo>
                  <a:pt x="3748" y="13378"/>
                  <a:pt x="3645" y="13000"/>
                  <a:pt x="3547" y="12601"/>
                </a:cubicBezTo>
                <a:cubicBezTo>
                  <a:pt x="3510" y="12452"/>
                  <a:pt x="3581" y="12745"/>
                  <a:pt x="3597" y="12898"/>
                </a:cubicBezTo>
                <a:cubicBezTo>
                  <a:pt x="3636" y="13268"/>
                  <a:pt x="3621" y="13643"/>
                  <a:pt x="3621" y="14015"/>
                </a:cubicBezTo>
                <a:cubicBezTo>
                  <a:pt x="3621" y="14339"/>
                  <a:pt x="3615" y="13368"/>
                  <a:pt x="3572" y="13047"/>
                </a:cubicBezTo>
                <a:cubicBezTo>
                  <a:pt x="3542" y="12824"/>
                  <a:pt x="3511" y="12599"/>
                  <a:pt x="3473" y="12378"/>
                </a:cubicBezTo>
                <a:cubicBezTo>
                  <a:pt x="3521" y="12719"/>
                  <a:pt x="3539" y="13052"/>
                  <a:pt x="3572" y="13395"/>
                </a:cubicBezTo>
                <a:cubicBezTo>
                  <a:pt x="3594" y="13619"/>
                  <a:pt x="3631" y="13840"/>
                  <a:pt x="3646" y="14064"/>
                </a:cubicBezTo>
                <a:cubicBezTo>
                  <a:pt x="3599" y="13709"/>
                  <a:pt x="3546" y="13353"/>
                  <a:pt x="3497" y="12998"/>
                </a:cubicBezTo>
                <a:cubicBezTo>
                  <a:pt x="3459" y="12726"/>
                  <a:pt x="3349" y="11974"/>
                  <a:pt x="3448" y="12229"/>
                </a:cubicBezTo>
                <a:cubicBezTo>
                  <a:pt x="3623" y="12677"/>
                  <a:pt x="3603" y="13222"/>
                  <a:pt x="3646" y="13692"/>
                </a:cubicBezTo>
                <a:cubicBezTo>
                  <a:pt x="3654" y="13733"/>
                  <a:pt x="3663" y="13775"/>
                  <a:pt x="3671" y="13816"/>
                </a:cubicBezTo>
                <a:cubicBezTo>
                  <a:pt x="3671" y="14100"/>
                  <a:pt x="3611" y="13353"/>
                  <a:pt x="3572" y="13072"/>
                </a:cubicBezTo>
                <a:cubicBezTo>
                  <a:pt x="3537" y="12821"/>
                  <a:pt x="3466" y="12286"/>
                  <a:pt x="3547" y="12526"/>
                </a:cubicBezTo>
                <a:cubicBezTo>
                  <a:pt x="3686" y="12939"/>
                  <a:pt x="3671" y="13360"/>
                  <a:pt x="3696" y="13791"/>
                </a:cubicBezTo>
                <a:cubicBezTo>
                  <a:pt x="3696" y="13951"/>
                  <a:pt x="3696" y="14134"/>
                  <a:pt x="3696" y="13915"/>
                </a:cubicBezTo>
                <a:cubicBezTo>
                  <a:pt x="3696" y="13590"/>
                  <a:pt x="3683" y="13304"/>
                  <a:pt x="3572" y="12998"/>
                </a:cubicBezTo>
                <a:cubicBezTo>
                  <a:pt x="3516" y="12859"/>
                  <a:pt x="3495" y="12803"/>
                  <a:pt x="3473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75000" y="3751200"/>
            <a:ext cx="1117800" cy="1392480"/>
          </a:xfrm>
          <a:custGeom>
            <a:avLst/>
            <a:gdLst/>
            <a:ahLst/>
            <a:rect l="l" t="t" r="r" b="b"/>
            <a:pathLst>
              <a:path w="3102" h="3871">
                <a:moveTo>
                  <a:pt x="10939" y="12005"/>
                </a:moveTo>
                <a:cubicBezTo>
                  <a:pt x="10984" y="11983"/>
                  <a:pt x="11100" y="11884"/>
                  <a:pt x="11137" y="11857"/>
                </a:cubicBezTo>
                <a:cubicBezTo>
                  <a:pt x="11336" y="11951"/>
                  <a:pt x="11637" y="12340"/>
                  <a:pt x="11237" y="12502"/>
                </a:cubicBezTo>
                <a:cubicBezTo>
                  <a:pt x="11010" y="12594"/>
                  <a:pt x="10912" y="12390"/>
                  <a:pt x="10864" y="12254"/>
                </a:cubicBezTo>
                <a:cubicBezTo>
                  <a:pt x="11045" y="12245"/>
                  <a:pt x="11127" y="12242"/>
                  <a:pt x="11261" y="12378"/>
                </a:cubicBezTo>
              </a:path>
              <a:path w="3102" h="3871">
                <a:moveTo>
                  <a:pt x="11757" y="11584"/>
                </a:moveTo>
                <a:cubicBezTo>
                  <a:pt x="11729" y="11883"/>
                  <a:pt x="11730" y="12202"/>
                  <a:pt x="11633" y="12477"/>
                </a:cubicBezTo>
              </a:path>
              <a:path w="3102" h="3871">
                <a:moveTo>
                  <a:pt x="10393" y="12898"/>
                </a:moveTo>
                <a:cubicBezTo>
                  <a:pt x="10362" y="12597"/>
                  <a:pt x="10356" y="12293"/>
                  <a:pt x="10269" y="12005"/>
                </a:cubicBezTo>
                <a:cubicBezTo>
                  <a:pt x="10250" y="11948"/>
                  <a:pt x="10241" y="11941"/>
                  <a:pt x="10244" y="11906"/>
                </a:cubicBezTo>
                <a:cubicBezTo>
                  <a:pt x="10476" y="11825"/>
                  <a:pt x="10713" y="11710"/>
                  <a:pt x="10939" y="11609"/>
                </a:cubicBezTo>
                <a:cubicBezTo>
                  <a:pt x="11355" y="11424"/>
                  <a:pt x="11967" y="11036"/>
                  <a:pt x="12452" y="11162"/>
                </a:cubicBezTo>
                <a:cubicBezTo>
                  <a:pt x="12492" y="11162"/>
                  <a:pt x="12490" y="11173"/>
                  <a:pt x="12427" y="11212"/>
                </a:cubicBezTo>
              </a:path>
              <a:path w="3102" h="3871">
                <a:moveTo>
                  <a:pt x="9401" y="12179"/>
                </a:moveTo>
                <a:cubicBezTo>
                  <a:pt x="9401" y="12298"/>
                  <a:pt x="9383" y="12417"/>
                  <a:pt x="9401" y="12526"/>
                </a:cubicBezTo>
                <a:cubicBezTo>
                  <a:pt x="9482" y="12514"/>
                  <a:pt x="9789" y="12496"/>
                  <a:pt x="9847" y="12427"/>
                </a:cubicBezTo>
                <a:cubicBezTo>
                  <a:pt x="9855" y="12394"/>
                  <a:pt x="9864" y="12361"/>
                  <a:pt x="9872" y="12328"/>
                </a:cubicBezTo>
              </a:path>
              <a:path w="3102" h="3871">
                <a:moveTo>
                  <a:pt x="9748" y="12005"/>
                </a:moveTo>
                <a:cubicBezTo>
                  <a:pt x="9748" y="12160"/>
                  <a:pt x="9657" y="12710"/>
                  <a:pt x="9773" y="12824"/>
                </a:cubicBezTo>
                <a:cubicBezTo>
                  <a:pt x="9781" y="12816"/>
                  <a:pt x="9790" y="12807"/>
                  <a:pt x="9798" y="12799"/>
                </a:cubicBezTo>
              </a:path>
              <a:path w="3102" h="3871">
                <a:moveTo>
                  <a:pt x="11286" y="10716"/>
                </a:moveTo>
                <a:cubicBezTo>
                  <a:pt x="11249" y="10631"/>
                  <a:pt x="11271" y="10660"/>
                  <a:pt x="11286" y="10592"/>
                </a:cubicBezTo>
                <a:cubicBezTo>
                  <a:pt x="11303" y="10513"/>
                  <a:pt x="11353" y="10476"/>
                  <a:pt x="11410" y="10418"/>
                </a:cubicBezTo>
                <a:cubicBezTo>
                  <a:pt x="11400" y="10630"/>
                  <a:pt x="11311" y="10904"/>
                  <a:pt x="11361" y="11112"/>
                </a:cubicBezTo>
                <a:cubicBezTo>
                  <a:pt x="11377" y="11129"/>
                  <a:pt x="11394" y="11145"/>
                  <a:pt x="11410" y="11162"/>
                </a:cubicBezTo>
                <a:cubicBezTo>
                  <a:pt x="11542" y="11162"/>
                  <a:pt x="11784" y="11094"/>
                  <a:pt x="11757" y="10889"/>
                </a:cubicBezTo>
                <a:cubicBezTo>
                  <a:pt x="11741" y="10881"/>
                  <a:pt x="11724" y="10872"/>
                  <a:pt x="11708" y="10864"/>
                </a:cubicBezTo>
                <a:cubicBezTo>
                  <a:pt x="11531" y="10866"/>
                  <a:pt x="11484" y="11111"/>
                  <a:pt x="11509" y="11286"/>
                </a:cubicBezTo>
                <a:cubicBezTo>
                  <a:pt x="11518" y="11348"/>
                  <a:pt x="11602" y="11448"/>
                  <a:pt x="11633" y="11385"/>
                </a:cubicBezTo>
                <a:cubicBezTo>
                  <a:pt x="11633" y="11361"/>
                  <a:pt x="11633" y="11353"/>
                  <a:pt x="11658" y="11361"/>
                </a:cubicBezTo>
              </a:path>
              <a:path w="3102" h="3871">
                <a:moveTo>
                  <a:pt x="11261" y="12824"/>
                </a:moveTo>
                <a:cubicBezTo>
                  <a:pt x="11245" y="12824"/>
                  <a:pt x="11228" y="12824"/>
                  <a:pt x="11212" y="12824"/>
                </a:cubicBezTo>
                <a:cubicBezTo>
                  <a:pt x="11141" y="12800"/>
                  <a:pt x="11279" y="12728"/>
                  <a:pt x="11336" y="12824"/>
                </a:cubicBezTo>
                <a:cubicBezTo>
                  <a:pt x="11522" y="13137"/>
                  <a:pt x="11190" y="13316"/>
                  <a:pt x="10964" y="13345"/>
                </a:cubicBezTo>
                <a:cubicBezTo>
                  <a:pt x="11058" y="13174"/>
                  <a:pt x="11215" y="13048"/>
                  <a:pt x="11435" y="13196"/>
                </a:cubicBezTo>
                <a:cubicBezTo>
                  <a:pt x="11443" y="13213"/>
                  <a:pt x="11452" y="13229"/>
                  <a:pt x="11460" y="13246"/>
                </a:cubicBezTo>
              </a:path>
              <a:path w="3102" h="3871">
                <a:moveTo>
                  <a:pt x="12030" y="13866"/>
                </a:moveTo>
                <a:cubicBezTo>
                  <a:pt x="12032" y="13770"/>
                  <a:pt x="11791" y="14120"/>
                  <a:pt x="11782" y="14213"/>
                </a:cubicBezTo>
                <a:cubicBezTo>
                  <a:pt x="11799" y="14238"/>
                  <a:pt x="11815" y="14263"/>
                  <a:pt x="11832" y="14288"/>
                </a:cubicBezTo>
                <a:cubicBezTo>
                  <a:pt x="12023" y="14165"/>
                  <a:pt x="12340" y="14020"/>
                  <a:pt x="12005" y="13915"/>
                </a:cubicBezTo>
                <a:cubicBezTo>
                  <a:pt x="11972" y="13907"/>
                  <a:pt x="11939" y="13899"/>
                  <a:pt x="11906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7760" y="4348080"/>
            <a:ext cx="26820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14337" y="12105"/>
                </a:moveTo>
                <a:cubicBezTo>
                  <a:pt x="14337" y="12302"/>
                  <a:pt x="14390" y="12485"/>
                  <a:pt x="14436" y="12675"/>
                </a:cubicBezTo>
                <a:cubicBezTo>
                  <a:pt x="14467" y="12803"/>
                  <a:pt x="14496" y="12787"/>
                  <a:pt x="14387" y="12799"/>
                </a:cubicBezTo>
              </a:path>
              <a:path w="745" h="894">
                <a:moveTo>
                  <a:pt x="14213" y="12551"/>
                </a:moveTo>
                <a:cubicBezTo>
                  <a:pt x="14258" y="12515"/>
                  <a:pt x="14454" y="12344"/>
                  <a:pt x="14536" y="12303"/>
                </a:cubicBezTo>
              </a:path>
              <a:path w="745" h="894">
                <a:moveTo>
                  <a:pt x="14486" y="12080"/>
                </a:moveTo>
                <a:cubicBezTo>
                  <a:pt x="14366" y="12334"/>
                  <a:pt x="14310" y="12631"/>
                  <a:pt x="14188" y="12874"/>
                </a:cubicBezTo>
                <a:cubicBezTo>
                  <a:pt x="14157" y="12936"/>
                  <a:pt x="14085" y="12802"/>
                  <a:pt x="14039" y="12750"/>
                </a:cubicBezTo>
              </a:path>
              <a:path w="745" h="894">
                <a:moveTo>
                  <a:pt x="13965" y="12551"/>
                </a:moveTo>
                <a:cubicBezTo>
                  <a:pt x="14218" y="12531"/>
                  <a:pt x="14348" y="12597"/>
                  <a:pt x="14585" y="12675"/>
                </a:cubicBezTo>
                <a:cubicBezTo>
                  <a:pt x="14610" y="12675"/>
                  <a:pt x="14618" y="12675"/>
                  <a:pt x="14635" y="12675"/>
                </a:cubicBezTo>
              </a:path>
              <a:path w="745" h="894">
                <a:moveTo>
                  <a:pt x="14039" y="12353"/>
                </a:moveTo>
                <a:cubicBezTo>
                  <a:pt x="14250" y="12441"/>
                  <a:pt x="14464" y="12539"/>
                  <a:pt x="14684" y="12601"/>
                </a:cubicBezTo>
                <a:cubicBezTo>
                  <a:pt x="14692" y="12601"/>
                  <a:pt x="14701" y="12601"/>
                  <a:pt x="14709" y="12601"/>
                </a:cubicBezTo>
              </a:path>
              <a:path w="745" h="894">
                <a:moveTo>
                  <a:pt x="14536" y="12179"/>
                </a:moveTo>
                <a:cubicBezTo>
                  <a:pt x="14686" y="12075"/>
                  <a:pt x="14430" y="12456"/>
                  <a:pt x="14362" y="12626"/>
                </a:cubicBezTo>
                <a:cubicBezTo>
                  <a:pt x="14312" y="12750"/>
                  <a:pt x="14215" y="12845"/>
                  <a:pt x="14288" y="12898"/>
                </a:cubicBezTo>
              </a:path>
              <a:path w="745" h="894">
                <a:moveTo>
                  <a:pt x="14139" y="12254"/>
                </a:moveTo>
                <a:cubicBezTo>
                  <a:pt x="14100" y="12223"/>
                  <a:pt x="14050" y="12213"/>
                  <a:pt x="14039" y="12179"/>
                </a:cubicBezTo>
                <a:cubicBezTo>
                  <a:pt x="14156" y="12383"/>
                  <a:pt x="14376" y="12565"/>
                  <a:pt x="14511" y="12774"/>
                </a:cubicBezTo>
                <a:cubicBezTo>
                  <a:pt x="14571" y="12894"/>
                  <a:pt x="14573" y="12922"/>
                  <a:pt x="14635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40120" y="2384280"/>
            <a:ext cx="3152880" cy="3303720"/>
          </a:xfrm>
          <a:custGeom>
            <a:avLst/>
            <a:gdLst/>
            <a:ahLst/>
            <a:rect l="l" t="t" r="r" b="b"/>
            <a:pathLst>
              <a:path w="8757" h="9179">
                <a:moveTo>
                  <a:pt x="17388" y="7094"/>
                </a:moveTo>
                <a:cubicBezTo>
                  <a:pt x="17523" y="7007"/>
                  <a:pt x="17576" y="6986"/>
                  <a:pt x="17735" y="6970"/>
                </a:cubicBezTo>
                <a:cubicBezTo>
                  <a:pt x="17810" y="7310"/>
                  <a:pt x="17546" y="7488"/>
                  <a:pt x="17314" y="7764"/>
                </a:cubicBezTo>
                <a:cubicBezTo>
                  <a:pt x="17281" y="7805"/>
                  <a:pt x="17247" y="7847"/>
                  <a:pt x="17214" y="7888"/>
                </a:cubicBezTo>
                <a:cubicBezTo>
                  <a:pt x="17281" y="7863"/>
                  <a:pt x="17499" y="7744"/>
                  <a:pt x="17636" y="7739"/>
                </a:cubicBezTo>
                <a:cubicBezTo>
                  <a:pt x="17842" y="7731"/>
                  <a:pt x="17852" y="7867"/>
                  <a:pt x="17983" y="7689"/>
                </a:cubicBezTo>
              </a:path>
              <a:path w="8757" h="9179">
                <a:moveTo>
                  <a:pt x="18331" y="6623"/>
                </a:moveTo>
                <a:cubicBezTo>
                  <a:pt x="18156" y="7045"/>
                  <a:pt x="17865" y="7528"/>
                  <a:pt x="18083" y="7987"/>
                </a:cubicBezTo>
                <a:cubicBezTo>
                  <a:pt x="18159" y="8146"/>
                  <a:pt x="18191" y="8127"/>
                  <a:pt x="18256" y="8062"/>
                </a:cubicBezTo>
              </a:path>
              <a:path w="8757" h="9179">
                <a:moveTo>
                  <a:pt x="18579" y="7069"/>
                </a:moveTo>
                <a:cubicBezTo>
                  <a:pt x="18571" y="7334"/>
                  <a:pt x="18549" y="8128"/>
                  <a:pt x="18529" y="7863"/>
                </a:cubicBezTo>
                <a:cubicBezTo>
                  <a:pt x="18529" y="7805"/>
                  <a:pt x="18529" y="7747"/>
                  <a:pt x="18529" y="7689"/>
                </a:cubicBezTo>
              </a:path>
              <a:path w="8757" h="9179">
                <a:moveTo>
                  <a:pt x="18876" y="7094"/>
                </a:moveTo>
                <a:cubicBezTo>
                  <a:pt x="18937" y="7069"/>
                  <a:pt x="19305" y="6887"/>
                  <a:pt x="19273" y="7069"/>
                </a:cubicBezTo>
                <a:cubicBezTo>
                  <a:pt x="19195" y="7174"/>
                  <a:pt x="19165" y="7211"/>
                  <a:pt x="19075" y="7243"/>
                </a:cubicBezTo>
                <a:cubicBezTo>
                  <a:pt x="19067" y="7251"/>
                  <a:pt x="19058" y="7260"/>
                  <a:pt x="19050" y="7268"/>
                </a:cubicBezTo>
                <a:cubicBezTo>
                  <a:pt x="19162" y="7281"/>
                  <a:pt x="19516" y="7300"/>
                  <a:pt x="19422" y="7516"/>
                </a:cubicBezTo>
                <a:cubicBezTo>
                  <a:pt x="19306" y="7783"/>
                  <a:pt x="18963" y="7726"/>
                  <a:pt x="18827" y="7590"/>
                </a:cubicBezTo>
              </a:path>
              <a:path w="8757" h="9179">
                <a:moveTo>
                  <a:pt x="17537" y="8012"/>
                </a:moveTo>
                <a:cubicBezTo>
                  <a:pt x="17549" y="8128"/>
                  <a:pt x="17553" y="8283"/>
                  <a:pt x="17587" y="8384"/>
                </a:cubicBezTo>
                <a:cubicBezTo>
                  <a:pt x="17940" y="8276"/>
                  <a:pt x="18205" y="8206"/>
                  <a:pt x="18579" y="8235"/>
                </a:cubicBezTo>
                <a:cubicBezTo>
                  <a:pt x="18671" y="8242"/>
                  <a:pt x="18725" y="8264"/>
                  <a:pt x="18802" y="8285"/>
                </a:cubicBezTo>
                <a:cubicBezTo>
                  <a:pt x="18799" y="8183"/>
                  <a:pt x="18760" y="7715"/>
                  <a:pt x="18752" y="7813"/>
                </a:cubicBezTo>
                <a:cubicBezTo>
                  <a:pt x="18752" y="7871"/>
                  <a:pt x="18752" y="7929"/>
                  <a:pt x="18752" y="7987"/>
                </a:cubicBezTo>
              </a:path>
              <a:path w="8757" h="9179">
                <a:moveTo>
                  <a:pt x="17636" y="9351"/>
                </a:moveTo>
                <a:cubicBezTo>
                  <a:pt x="17703" y="9189"/>
                  <a:pt x="17962" y="9317"/>
                  <a:pt x="18033" y="9426"/>
                </a:cubicBezTo>
                <a:cubicBezTo>
                  <a:pt x="18241" y="9745"/>
                  <a:pt x="17754" y="9817"/>
                  <a:pt x="17587" y="9823"/>
                </a:cubicBezTo>
                <a:cubicBezTo>
                  <a:pt x="17713" y="9609"/>
                  <a:pt x="17893" y="9583"/>
                  <a:pt x="18132" y="9699"/>
                </a:cubicBezTo>
                <a:cubicBezTo>
                  <a:pt x="18149" y="9715"/>
                  <a:pt x="18165" y="9732"/>
                  <a:pt x="18182" y="9748"/>
                </a:cubicBezTo>
              </a:path>
              <a:path w="8757" h="9179">
                <a:moveTo>
                  <a:pt x="18306" y="9178"/>
                </a:moveTo>
                <a:cubicBezTo>
                  <a:pt x="18330" y="9369"/>
                  <a:pt x="18424" y="9877"/>
                  <a:pt x="18752" y="9575"/>
                </a:cubicBezTo>
                <a:cubicBezTo>
                  <a:pt x="18834" y="9412"/>
                  <a:pt x="18877" y="9385"/>
                  <a:pt x="18827" y="9277"/>
                </a:cubicBezTo>
                <a:cubicBezTo>
                  <a:pt x="18635" y="9408"/>
                  <a:pt x="18617" y="9458"/>
                  <a:pt x="18554" y="9699"/>
                </a:cubicBezTo>
              </a:path>
              <a:path w="8757" h="9179">
                <a:moveTo>
                  <a:pt x="15429" y="9500"/>
                </a:moveTo>
                <a:cubicBezTo>
                  <a:pt x="15575" y="9329"/>
                  <a:pt x="15791" y="9561"/>
                  <a:pt x="15801" y="9748"/>
                </a:cubicBezTo>
                <a:cubicBezTo>
                  <a:pt x="15820" y="10112"/>
                  <a:pt x="15475" y="10198"/>
                  <a:pt x="15255" y="10071"/>
                </a:cubicBezTo>
                <a:cubicBezTo>
                  <a:pt x="15468" y="9817"/>
                  <a:pt x="15574" y="9900"/>
                  <a:pt x="15825" y="10120"/>
                </a:cubicBezTo>
                <a:cubicBezTo>
                  <a:pt x="15842" y="10137"/>
                  <a:pt x="15858" y="10153"/>
                  <a:pt x="15875" y="10170"/>
                </a:cubicBezTo>
              </a:path>
              <a:path w="8757" h="9179">
                <a:moveTo>
                  <a:pt x="15949" y="9376"/>
                </a:moveTo>
                <a:cubicBezTo>
                  <a:pt x="15961" y="9491"/>
                  <a:pt x="15943" y="10192"/>
                  <a:pt x="16173" y="10120"/>
                </a:cubicBezTo>
                <a:cubicBezTo>
                  <a:pt x="16326" y="9992"/>
                  <a:pt x="16377" y="9945"/>
                  <a:pt x="16396" y="9798"/>
                </a:cubicBezTo>
                <a:cubicBezTo>
                  <a:pt x="16396" y="9781"/>
                  <a:pt x="16396" y="9765"/>
                  <a:pt x="16396" y="9748"/>
                </a:cubicBezTo>
                <a:cubicBezTo>
                  <a:pt x="16238" y="9929"/>
                  <a:pt x="16156" y="10095"/>
                  <a:pt x="16421" y="10096"/>
                </a:cubicBezTo>
              </a:path>
              <a:path w="8757" h="9179">
                <a:moveTo>
                  <a:pt x="11807" y="12626"/>
                </a:moveTo>
                <a:cubicBezTo>
                  <a:pt x="11807" y="12833"/>
                  <a:pt x="11807" y="13039"/>
                  <a:pt x="11807" y="13246"/>
                </a:cubicBezTo>
              </a:path>
              <a:path w="8757" h="9179">
                <a:moveTo>
                  <a:pt x="10666" y="13841"/>
                </a:moveTo>
                <a:cubicBezTo>
                  <a:pt x="11207" y="13656"/>
                  <a:pt x="11742" y="13439"/>
                  <a:pt x="12303" y="13320"/>
                </a:cubicBezTo>
                <a:cubicBezTo>
                  <a:pt x="12386" y="13320"/>
                  <a:pt x="12370" y="13320"/>
                  <a:pt x="12204" y="13320"/>
                </a:cubicBezTo>
              </a:path>
              <a:path w="8757" h="9179">
                <a:moveTo>
                  <a:pt x="15478" y="12799"/>
                </a:moveTo>
                <a:cubicBezTo>
                  <a:pt x="15478" y="12681"/>
                  <a:pt x="15451" y="12981"/>
                  <a:pt x="15429" y="13097"/>
                </a:cubicBezTo>
                <a:cubicBezTo>
                  <a:pt x="15411" y="13205"/>
                  <a:pt x="15403" y="13212"/>
                  <a:pt x="15404" y="13271"/>
                </a:cubicBezTo>
                <a:cubicBezTo>
                  <a:pt x="15517" y="13112"/>
                  <a:pt x="15618" y="13146"/>
                  <a:pt x="15801" y="13146"/>
                </a:cubicBezTo>
                <a:cubicBezTo>
                  <a:pt x="15809" y="13146"/>
                  <a:pt x="15817" y="13146"/>
                  <a:pt x="15825" y="13146"/>
                </a:cubicBezTo>
              </a:path>
              <a:path w="8757" h="9179">
                <a:moveTo>
                  <a:pt x="15701" y="12576"/>
                </a:moveTo>
                <a:cubicBezTo>
                  <a:pt x="15709" y="12907"/>
                  <a:pt x="15726" y="13236"/>
                  <a:pt x="15726" y="13568"/>
                </a:cubicBezTo>
                <a:cubicBezTo>
                  <a:pt x="15726" y="13585"/>
                  <a:pt x="15726" y="13601"/>
                  <a:pt x="15726" y="13618"/>
                </a:cubicBezTo>
              </a:path>
              <a:path w="8757" h="9179">
                <a:moveTo>
                  <a:pt x="16297" y="12650"/>
                </a:moveTo>
                <a:cubicBezTo>
                  <a:pt x="16242" y="12851"/>
                  <a:pt x="16113" y="13248"/>
                  <a:pt x="16272" y="13444"/>
                </a:cubicBezTo>
                <a:cubicBezTo>
                  <a:pt x="16305" y="13452"/>
                  <a:pt x="16338" y="13461"/>
                  <a:pt x="16371" y="13469"/>
                </a:cubicBezTo>
                <a:cubicBezTo>
                  <a:pt x="16545" y="13304"/>
                  <a:pt x="16569" y="13291"/>
                  <a:pt x="16570" y="13047"/>
                </a:cubicBezTo>
                <a:cubicBezTo>
                  <a:pt x="16347" y="13091"/>
                  <a:pt x="16364" y="13242"/>
                  <a:pt x="16470" y="13444"/>
                </a:cubicBezTo>
              </a:path>
              <a:path w="8757" h="9179">
                <a:moveTo>
                  <a:pt x="17859" y="12502"/>
                </a:moveTo>
                <a:cubicBezTo>
                  <a:pt x="18171" y="12502"/>
                  <a:pt x="18451" y="12641"/>
                  <a:pt x="18157" y="12998"/>
                </a:cubicBezTo>
                <a:cubicBezTo>
                  <a:pt x="17982" y="13107"/>
                  <a:pt x="17943" y="13153"/>
                  <a:pt x="17810" y="13097"/>
                </a:cubicBezTo>
                <a:cubicBezTo>
                  <a:pt x="17824" y="12835"/>
                  <a:pt x="17975" y="12863"/>
                  <a:pt x="18207" y="12973"/>
                </a:cubicBezTo>
                <a:cubicBezTo>
                  <a:pt x="18232" y="12989"/>
                  <a:pt x="18256" y="13006"/>
                  <a:pt x="18281" y="13022"/>
                </a:cubicBezTo>
              </a:path>
              <a:path w="8757" h="9179">
                <a:moveTo>
                  <a:pt x="18827" y="12204"/>
                </a:moveTo>
                <a:cubicBezTo>
                  <a:pt x="18827" y="12515"/>
                  <a:pt x="18861" y="12822"/>
                  <a:pt x="18752" y="13097"/>
                </a:cubicBezTo>
              </a:path>
              <a:path w="8757" h="9179">
                <a:moveTo>
                  <a:pt x="15503" y="14114"/>
                </a:moveTo>
                <a:cubicBezTo>
                  <a:pt x="15532" y="14228"/>
                  <a:pt x="15562" y="14385"/>
                  <a:pt x="15602" y="14486"/>
                </a:cubicBezTo>
                <a:cubicBezTo>
                  <a:pt x="15819" y="14382"/>
                  <a:pt x="16015" y="14221"/>
                  <a:pt x="16272" y="14312"/>
                </a:cubicBezTo>
                <a:cubicBezTo>
                  <a:pt x="16383" y="14351"/>
                  <a:pt x="16281" y="14286"/>
                  <a:pt x="16222" y="14114"/>
                </a:cubicBezTo>
                <a:cubicBezTo>
                  <a:pt x="16221" y="14110"/>
                  <a:pt x="16115" y="13645"/>
                  <a:pt x="16173" y="13990"/>
                </a:cubicBezTo>
              </a:path>
              <a:path w="8757" h="9179">
                <a:moveTo>
                  <a:pt x="15751" y="15379"/>
                </a:moveTo>
                <a:cubicBezTo>
                  <a:pt x="15852" y="15141"/>
                  <a:pt x="15974" y="15212"/>
                  <a:pt x="16173" y="15255"/>
                </a:cubicBezTo>
                <a:cubicBezTo>
                  <a:pt x="16232" y="15613"/>
                  <a:pt x="16160" y="15690"/>
                  <a:pt x="15801" y="15801"/>
                </a:cubicBezTo>
                <a:cubicBezTo>
                  <a:pt x="15927" y="15517"/>
                  <a:pt x="16026" y="15497"/>
                  <a:pt x="16272" y="15677"/>
                </a:cubicBezTo>
                <a:cubicBezTo>
                  <a:pt x="16280" y="15685"/>
                  <a:pt x="16289" y="15693"/>
                  <a:pt x="16297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02200" y="5286240"/>
            <a:ext cx="822600" cy="366840"/>
          </a:xfrm>
          <a:custGeom>
            <a:avLst/>
            <a:gdLst/>
            <a:ahLst/>
            <a:rect l="l" t="t" r="r" b="b"/>
            <a:pathLst>
              <a:path w="2283" h="1018">
                <a:moveTo>
                  <a:pt x="16396" y="15255"/>
                </a:moveTo>
                <a:cubicBezTo>
                  <a:pt x="16492" y="15600"/>
                  <a:pt x="16532" y="15370"/>
                  <a:pt x="16594" y="15106"/>
                </a:cubicBezTo>
              </a:path>
              <a:path w="2283" h="1018">
                <a:moveTo>
                  <a:pt x="16594" y="15007"/>
                </a:moveTo>
                <a:cubicBezTo>
                  <a:pt x="16621" y="15240"/>
                  <a:pt x="16653" y="15469"/>
                  <a:pt x="16669" y="15701"/>
                </a:cubicBezTo>
              </a:path>
              <a:path w="2283" h="1018">
                <a:moveTo>
                  <a:pt x="16669" y="15701"/>
                </a:moveTo>
                <a:lnTo>
                  <a:pt x="16669" y="15701"/>
                </a:lnTo>
              </a:path>
              <a:path w="2283" h="1018">
                <a:moveTo>
                  <a:pt x="17016" y="15230"/>
                </a:moveTo>
                <a:cubicBezTo>
                  <a:pt x="17174" y="15188"/>
                  <a:pt x="17325" y="15149"/>
                  <a:pt x="17487" y="15131"/>
                </a:cubicBezTo>
              </a:path>
              <a:path w="2283" h="1018">
                <a:moveTo>
                  <a:pt x="17090" y="15453"/>
                </a:moveTo>
                <a:cubicBezTo>
                  <a:pt x="17338" y="15371"/>
                  <a:pt x="17437" y="15338"/>
                  <a:pt x="17611" y="15280"/>
                </a:cubicBezTo>
              </a:path>
              <a:path w="2283" h="1018">
                <a:moveTo>
                  <a:pt x="17611" y="15280"/>
                </a:moveTo>
                <a:lnTo>
                  <a:pt x="17611" y="15280"/>
                </a:lnTo>
              </a:path>
              <a:path w="2283" h="1018">
                <a:moveTo>
                  <a:pt x="18182" y="14908"/>
                </a:moveTo>
                <a:cubicBezTo>
                  <a:pt x="18228" y="15014"/>
                  <a:pt x="18358" y="15326"/>
                  <a:pt x="18529" y="15131"/>
                </a:cubicBezTo>
                <a:cubicBezTo>
                  <a:pt x="18562" y="15057"/>
                  <a:pt x="18595" y="14982"/>
                  <a:pt x="18628" y="14908"/>
                </a:cubicBezTo>
              </a:path>
              <a:path w="2283" h="1018">
                <a:moveTo>
                  <a:pt x="18604" y="14684"/>
                </a:moveTo>
                <a:cubicBezTo>
                  <a:pt x="18642" y="14907"/>
                  <a:pt x="18751" y="15230"/>
                  <a:pt x="18604" y="15379"/>
                </a:cubicBezTo>
              </a:path>
              <a:path w="2283" h="1018">
                <a:moveTo>
                  <a:pt x="18604" y="15379"/>
                </a:moveTo>
                <a:lnTo>
                  <a:pt x="18604" y="153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96040" y="5384880"/>
            <a:ext cx="241200" cy="231840"/>
          </a:xfrm>
          <a:custGeom>
            <a:avLst/>
            <a:gdLst/>
            <a:ahLst/>
            <a:rect l="l" t="t" r="r" b="b"/>
            <a:pathLst>
              <a:path w="671" h="646">
                <a:moveTo>
                  <a:pt x="17636" y="15007"/>
                </a:moveTo>
                <a:cubicBezTo>
                  <a:pt x="17824" y="14953"/>
                  <a:pt x="17896" y="14938"/>
                  <a:pt x="18033" y="14982"/>
                </a:cubicBezTo>
                <a:cubicBezTo>
                  <a:pt x="18175" y="15350"/>
                  <a:pt x="18064" y="15586"/>
                  <a:pt x="17587" y="15602"/>
                </a:cubicBezTo>
                <a:cubicBezTo>
                  <a:pt x="17554" y="15586"/>
                  <a:pt x="17520" y="15569"/>
                  <a:pt x="17487" y="15553"/>
                </a:cubicBezTo>
                <a:cubicBezTo>
                  <a:pt x="17708" y="15373"/>
                  <a:pt x="17829" y="15313"/>
                  <a:pt x="18107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5187960"/>
            <a:ext cx="303120" cy="571320"/>
          </a:xfrm>
          <a:custGeom>
            <a:avLst/>
            <a:gdLst/>
            <a:ahLst/>
            <a:rect l="l" t="t" r="r" b="b"/>
            <a:pathLst>
              <a:path w="844" h="1588">
                <a:moveTo>
                  <a:pt x="6970" y="15701"/>
                </a:moveTo>
                <a:cubicBezTo>
                  <a:pt x="7073" y="15830"/>
                  <a:pt x="7110" y="15877"/>
                  <a:pt x="7169" y="15974"/>
                </a:cubicBezTo>
                <a:cubicBezTo>
                  <a:pt x="7314" y="15999"/>
                  <a:pt x="7474" y="14893"/>
                  <a:pt x="7491" y="14858"/>
                </a:cubicBezTo>
                <a:cubicBezTo>
                  <a:pt x="7598" y="14709"/>
                  <a:pt x="7706" y="14561"/>
                  <a:pt x="781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2200" y="4456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895" y="12378"/>
                </a:moveTo>
                <a:lnTo>
                  <a:pt x="22895" y="123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36 = 9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2.5n =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60 = 5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52360" y="1152360"/>
            <a:ext cx="490680" cy="303480"/>
          </a:xfrm>
          <a:custGeom>
            <a:avLst/>
            <a:gdLst/>
            <a:ahLst/>
            <a:rect l="l" t="t" r="r" b="b"/>
            <a:pathLst>
              <a:path w="1365" h="844">
                <a:moveTo>
                  <a:pt x="3200" y="3274"/>
                </a:moveTo>
                <a:cubicBezTo>
                  <a:pt x="3613" y="3228"/>
                  <a:pt x="4024" y="3205"/>
                  <a:pt x="4440" y="3200"/>
                </a:cubicBezTo>
                <a:cubicBezTo>
                  <a:pt x="4531" y="3200"/>
                  <a:pt x="4572" y="3167"/>
                  <a:pt x="4564" y="3225"/>
                </a:cubicBezTo>
              </a:path>
              <a:path w="1365" h="844">
                <a:moveTo>
                  <a:pt x="4142" y="3423"/>
                </a:moveTo>
                <a:cubicBezTo>
                  <a:pt x="3925" y="3341"/>
                  <a:pt x="3917" y="3393"/>
                  <a:pt x="3820" y="3597"/>
                </a:cubicBezTo>
                <a:cubicBezTo>
                  <a:pt x="4011" y="3682"/>
                  <a:pt x="4076" y="3555"/>
                  <a:pt x="4192" y="3398"/>
                </a:cubicBezTo>
                <a:cubicBezTo>
                  <a:pt x="4228" y="3507"/>
                  <a:pt x="4214" y="3706"/>
                  <a:pt x="4217" y="3845"/>
                </a:cubicBezTo>
                <a:cubicBezTo>
                  <a:pt x="4218" y="3911"/>
                  <a:pt x="4217" y="3977"/>
                  <a:pt x="4217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62080" y="839880"/>
            <a:ext cx="339840" cy="606240"/>
          </a:xfrm>
          <a:custGeom>
            <a:avLst/>
            <a:gdLst/>
            <a:ahLst/>
            <a:rect l="l" t="t" r="r" b="b"/>
            <a:pathLst>
              <a:path w="943" h="1687">
                <a:moveTo>
                  <a:pt x="5730" y="3448"/>
                </a:moveTo>
                <a:cubicBezTo>
                  <a:pt x="5758" y="3363"/>
                  <a:pt x="6105" y="3401"/>
                  <a:pt x="6152" y="3398"/>
                </a:cubicBezTo>
                <a:cubicBezTo>
                  <a:pt x="6268" y="3390"/>
                  <a:pt x="6587" y="3337"/>
                  <a:pt x="6672" y="3423"/>
                </a:cubicBezTo>
              </a:path>
              <a:path w="943" h="1687">
                <a:moveTo>
                  <a:pt x="6598" y="3621"/>
                </a:moveTo>
                <a:cubicBezTo>
                  <a:pt x="6444" y="3529"/>
                  <a:pt x="6393" y="3515"/>
                  <a:pt x="6201" y="3646"/>
                </a:cubicBezTo>
                <a:cubicBezTo>
                  <a:pt x="6168" y="3679"/>
                  <a:pt x="6135" y="3713"/>
                  <a:pt x="6102" y="3746"/>
                </a:cubicBezTo>
                <a:cubicBezTo>
                  <a:pt x="6292" y="3824"/>
                  <a:pt x="6365" y="3727"/>
                  <a:pt x="6499" y="3572"/>
                </a:cubicBezTo>
                <a:cubicBezTo>
                  <a:pt x="6480" y="3723"/>
                  <a:pt x="6480" y="3844"/>
                  <a:pt x="6499" y="3994"/>
                </a:cubicBezTo>
                <a:cubicBezTo>
                  <a:pt x="6499" y="4027"/>
                  <a:pt x="6490" y="4035"/>
                  <a:pt x="6449" y="4018"/>
                </a:cubicBezTo>
              </a:path>
              <a:path w="943" h="1687">
                <a:moveTo>
                  <a:pt x="5755" y="2332"/>
                </a:moveTo>
                <a:cubicBezTo>
                  <a:pt x="5816" y="2641"/>
                  <a:pt x="5905" y="2942"/>
                  <a:pt x="5978" y="3249"/>
                </a:cubicBezTo>
                <a:cubicBezTo>
                  <a:pt x="6021" y="3432"/>
                  <a:pt x="6143" y="3724"/>
                  <a:pt x="6152" y="3919"/>
                </a:cubicBezTo>
                <a:cubicBezTo>
                  <a:pt x="6144" y="3919"/>
                  <a:pt x="6135" y="3919"/>
                  <a:pt x="6127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14680" y="1697040"/>
            <a:ext cx="447480" cy="249120"/>
          </a:xfrm>
          <a:custGeom>
            <a:avLst/>
            <a:gdLst/>
            <a:ahLst/>
            <a:rect l="l" t="t" r="r" b="b"/>
            <a:pathLst>
              <a:path w="1242" h="695">
                <a:moveTo>
                  <a:pt x="5680" y="4787"/>
                </a:moveTo>
                <a:cubicBezTo>
                  <a:pt x="5784" y="4974"/>
                  <a:pt x="5878" y="5168"/>
                  <a:pt x="5978" y="5358"/>
                </a:cubicBezTo>
              </a:path>
              <a:path w="1242" h="695">
                <a:moveTo>
                  <a:pt x="6003" y="4713"/>
                </a:moveTo>
                <a:cubicBezTo>
                  <a:pt x="5845" y="4939"/>
                  <a:pt x="5688" y="5650"/>
                  <a:pt x="5556" y="5407"/>
                </a:cubicBezTo>
                <a:cubicBezTo>
                  <a:pt x="5556" y="5374"/>
                  <a:pt x="5556" y="5341"/>
                  <a:pt x="5556" y="5308"/>
                </a:cubicBezTo>
              </a:path>
              <a:path w="1242" h="695">
                <a:moveTo>
                  <a:pt x="4762" y="5184"/>
                </a:moveTo>
                <a:cubicBezTo>
                  <a:pt x="4878" y="5151"/>
                  <a:pt x="5131" y="5046"/>
                  <a:pt x="5209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6920" y="1643040"/>
            <a:ext cx="169920" cy="32220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3870" y="4688"/>
                </a:moveTo>
                <a:cubicBezTo>
                  <a:pt x="3845" y="4813"/>
                  <a:pt x="3807" y="4932"/>
                  <a:pt x="3795" y="5060"/>
                </a:cubicBezTo>
                <a:cubicBezTo>
                  <a:pt x="3975" y="5069"/>
                  <a:pt x="4134" y="5055"/>
                  <a:pt x="4266" y="4936"/>
                </a:cubicBezTo>
              </a:path>
              <a:path w="472" h="894">
                <a:moveTo>
                  <a:pt x="4142" y="4564"/>
                </a:moveTo>
                <a:cubicBezTo>
                  <a:pt x="4142" y="4862"/>
                  <a:pt x="4142" y="5159"/>
                  <a:pt x="4142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1040" y="1758960"/>
            <a:ext cx="115920" cy="190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4862" y="4936"/>
                </a:moveTo>
                <a:cubicBezTo>
                  <a:pt x="4969" y="4918"/>
                  <a:pt x="5077" y="4899"/>
                  <a:pt x="5184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62640" y="839880"/>
            <a:ext cx="1152360" cy="374400"/>
          </a:xfrm>
          <a:custGeom>
            <a:avLst/>
            <a:gdLst/>
            <a:ahLst/>
            <a:rect l="l" t="t" r="r" b="b"/>
            <a:pathLst>
              <a:path w="3201" h="1042">
                <a:moveTo>
                  <a:pt x="12675" y="2977"/>
                </a:moveTo>
                <a:cubicBezTo>
                  <a:pt x="12876" y="2948"/>
                  <a:pt x="12961" y="2932"/>
                  <a:pt x="13097" y="2877"/>
                </a:cubicBezTo>
              </a:path>
              <a:path w="3201" h="1042">
                <a:moveTo>
                  <a:pt x="13097" y="2877"/>
                </a:moveTo>
                <a:lnTo>
                  <a:pt x="13097" y="2877"/>
                </a:lnTo>
              </a:path>
              <a:path w="3201" h="1042">
                <a:moveTo>
                  <a:pt x="15602" y="2332"/>
                </a:moveTo>
                <a:cubicBezTo>
                  <a:pt x="15732" y="2565"/>
                  <a:pt x="16059" y="3031"/>
                  <a:pt x="15801" y="3299"/>
                </a:cubicBezTo>
                <a:cubicBezTo>
                  <a:pt x="15606" y="3372"/>
                  <a:pt x="15544" y="3397"/>
                  <a:pt x="15404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6120" y="965160"/>
            <a:ext cx="544680" cy="23184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10616" y="2729"/>
                </a:moveTo>
                <a:cubicBezTo>
                  <a:pt x="10651" y="2721"/>
                  <a:pt x="10992" y="2635"/>
                  <a:pt x="10988" y="2778"/>
                </a:cubicBezTo>
                <a:cubicBezTo>
                  <a:pt x="10912" y="2906"/>
                  <a:pt x="10883" y="2950"/>
                  <a:pt x="10790" y="3001"/>
                </a:cubicBezTo>
                <a:cubicBezTo>
                  <a:pt x="10773" y="3009"/>
                  <a:pt x="10757" y="3018"/>
                  <a:pt x="10740" y="3026"/>
                </a:cubicBezTo>
                <a:cubicBezTo>
                  <a:pt x="10993" y="3005"/>
                  <a:pt x="10929" y="3014"/>
                  <a:pt x="11137" y="3076"/>
                </a:cubicBezTo>
                <a:cubicBezTo>
                  <a:pt x="10924" y="3346"/>
                  <a:pt x="10769" y="3370"/>
                  <a:pt x="10517" y="3175"/>
                </a:cubicBezTo>
              </a:path>
              <a:path w="1514" h="646">
                <a:moveTo>
                  <a:pt x="11509" y="2704"/>
                </a:moveTo>
                <a:cubicBezTo>
                  <a:pt x="11497" y="2807"/>
                  <a:pt x="11416" y="3170"/>
                  <a:pt x="11609" y="3200"/>
                </a:cubicBezTo>
                <a:cubicBezTo>
                  <a:pt x="11853" y="3238"/>
                  <a:pt x="11921" y="3087"/>
                  <a:pt x="12030" y="2927"/>
                </a:cubicBezTo>
                <a:cubicBezTo>
                  <a:pt x="11969" y="2921"/>
                  <a:pt x="11468" y="3062"/>
                  <a:pt x="11633" y="3225"/>
                </a:cubicBezTo>
                <a:cubicBezTo>
                  <a:pt x="11666" y="3217"/>
                  <a:pt x="11700" y="3208"/>
                  <a:pt x="11733" y="32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973080"/>
            <a:ext cx="160200" cy="190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2502" y="2729"/>
                </a:moveTo>
                <a:cubicBezTo>
                  <a:pt x="12648" y="2711"/>
                  <a:pt x="12804" y="2718"/>
                  <a:pt x="12948" y="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83120" y="901800"/>
            <a:ext cx="581040" cy="285480"/>
          </a:xfrm>
          <a:custGeom>
            <a:avLst/>
            <a:gdLst/>
            <a:ahLst/>
            <a:rect l="l" t="t" r="r" b="b"/>
            <a:pathLst>
              <a:path w="1613" h="795">
                <a:moveTo>
                  <a:pt x="14362" y="2778"/>
                </a:moveTo>
                <a:cubicBezTo>
                  <a:pt x="14326" y="2598"/>
                  <a:pt x="14218" y="2464"/>
                  <a:pt x="14015" y="2580"/>
                </a:cubicBezTo>
                <a:cubicBezTo>
                  <a:pt x="13880" y="2715"/>
                  <a:pt x="13834" y="2744"/>
                  <a:pt x="13841" y="2877"/>
                </a:cubicBezTo>
                <a:cubicBezTo>
                  <a:pt x="14093" y="2957"/>
                  <a:pt x="14132" y="2823"/>
                  <a:pt x="14362" y="2679"/>
                </a:cubicBezTo>
                <a:cubicBezTo>
                  <a:pt x="14341" y="2844"/>
                  <a:pt x="14328" y="3009"/>
                  <a:pt x="14312" y="3175"/>
                </a:cubicBezTo>
                <a:cubicBezTo>
                  <a:pt x="14312" y="3183"/>
                  <a:pt x="14312" y="3192"/>
                  <a:pt x="14312" y="3200"/>
                </a:cubicBezTo>
              </a:path>
              <a:path w="1613" h="795">
                <a:moveTo>
                  <a:pt x="14784" y="2505"/>
                </a:moveTo>
                <a:cubicBezTo>
                  <a:pt x="14743" y="2691"/>
                  <a:pt x="14611" y="2960"/>
                  <a:pt x="14660" y="3150"/>
                </a:cubicBezTo>
                <a:cubicBezTo>
                  <a:pt x="14718" y="3374"/>
                  <a:pt x="14843" y="3275"/>
                  <a:pt x="14982" y="3225"/>
                </a:cubicBezTo>
              </a:path>
              <a:path w="1613" h="795">
                <a:moveTo>
                  <a:pt x="15081" y="2729"/>
                </a:moveTo>
                <a:cubicBezTo>
                  <a:pt x="15042" y="2788"/>
                  <a:pt x="15038" y="2800"/>
                  <a:pt x="15007" y="2828"/>
                </a:cubicBezTo>
                <a:cubicBezTo>
                  <a:pt x="15026" y="2885"/>
                  <a:pt x="15262" y="2897"/>
                  <a:pt x="15329" y="2902"/>
                </a:cubicBezTo>
                <a:cubicBezTo>
                  <a:pt x="15370" y="2902"/>
                  <a:pt x="15412" y="2902"/>
                  <a:pt x="15453" y="2902"/>
                </a:cubicBezTo>
              </a:path>
              <a:path w="1613" h="795">
                <a:moveTo>
                  <a:pt x="15354" y="2679"/>
                </a:moveTo>
                <a:cubicBezTo>
                  <a:pt x="15354" y="2861"/>
                  <a:pt x="15354" y="3043"/>
                  <a:pt x="15354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1214280"/>
            <a:ext cx="322200" cy="258840"/>
          </a:xfrm>
          <a:custGeom>
            <a:avLst/>
            <a:gdLst/>
            <a:ahLst/>
            <a:rect l="l" t="t" r="r" b="b"/>
            <a:pathLst>
              <a:path w="894" h="721">
                <a:moveTo>
                  <a:pt x="12378" y="3870"/>
                </a:moveTo>
                <a:cubicBezTo>
                  <a:pt x="12404" y="3977"/>
                  <a:pt x="12414" y="4018"/>
                  <a:pt x="12427" y="4093"/>
                </a:cubicBezTo>
                <a:cubicBezTo>
                  <a:pt x="12738" y="3938"/>
                  <a:pt x="12993" y="3598"/>
                  <a:pt x="13271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16680" y="1320840"/>
            <a:ext cx="384120" cy="2239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14362" y="3721"/>
                </a:moveTo>
                <a:cubicBezTo>
                  <a:pt x="14422" y="3706"/>
                  <a:pt x="14688" y="3589"/>
                  <a:pt x="14635" y="3770"/>
                </a:cubicBezTo>
                <a:cubicBezTo>
                  <a:pt x="14595" y="3906"/>
                  <a:pt x="14506" y="3929"/>
                  <a:pt x="14387" y="3969"/>
                </a:cubicBezTo>
                <a:cubicBezTo>
                  <a:pt x="14568" y="3939"/>
                  <a:pt x="14564" y="3916"/>
                  <a:pt x="14660" y="4043"/>
                </a:cubicBezTo>
                <a:cubicBezTo>
                  <a:pt x="14606" y="4081"/>
                  <a:pt x="14019" y="4286"/>
                  <a:pt x="14213" y="4068"/>
                </a:cubicBezTo>
                <a:cubicBezTo>
                  <a:pt x="14304" y="4002"/>
                  <a:pt x="14395" y="3936"/>
                  <a:pt x="14486" y="3870"/>
                </a:cubicBezTo>
              </a:path>
              <a:path w="1068" h="621">
                <a:moveTo>
                  <a:pt x="14908" y="3696"/>
                </a:moveTo>
                <a:cubicBezTo>
                  <a:pt x="14863" y="3853"/>
                  <a:pt x="14790" y="4058"/>
                  <a:pt x="14932" y="4192"/>
                </a:cubicBezTo>
                <a:cubicBezTo>
                  <a:pt x="15097" y="4348"/>
                  <a:pt x="15201" y="4116"/>
                  <a:pt x="15280" y="4018"/>
                </a:cubicBezTo>
                <a:cubicBezTo>
                  <a:pt x="15211" y="3815"/>
                  <a:pt x="14991" y="4217"/>
                  <a:pt x="14932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44920" y="3857760"/>
            <a:ext cx="206280" cy="27756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9971" y="10790"/>
                </a:moveTo>
                <a:cubicBezTo>
                  <a:pt x="9946" y="10810"/>
                  <a:pt x="9909" y="10847"/>
                  <a:pt x="9947" y="10790"/>
                </a:cubicBezTo>
                <a:cubicBezTo>
                  <a:pt x="10182" y="10708"/>
                  <a:pt x="10420" y="10852"/>
                  <a:pt x="10244" y="11162"/>
                </a:cubicBezTo>
                <a:cubicBezTo>
                  <a:pt x="10071" y="11336"/>
                  <a:pt x="10039" y="11398"/>
                  <a:pt x="9872" y="11385"/>
                </a:cubicBezTo>
                <a:cubicBezTo>
                  <a:pt x="9903" y="11175"/>
                  <a:pt x="10119" y="10960"/>
                  <a:pt x="10344" y="11212"/>
                </a:cubicBezTo>
                <a:cubicBezTo>
                  <a:pt x="10407" y="11359"/>
                  <a:pt x="10438" y="11389"/>
                  <a:pt x="10393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10040" y="2197080"/>
            <a:ext cx="857160" cy="1187640"/>
          </a:xfrm>
          <a:custGeom>
            <a:avLst/>
            <a:gdLst/>
            <a:ahLst/>
            <a:rect l="l" t="t" r="r" b="b"/>
            <a:pathLst>
              <a:path w="2383" h="3300">
                <a:moveTo>
                  <a:pt x="12477" y="8111"/>
                </a:moveTo>
                <a:cubicBezTo>
                  <a:pt x="12477" y="8155"/>
                  <a:pt x="12483" y="8112"/>
                  <a:pt x="12502" y="8086"/>
                </a:cubicBezTo>
                <a:cubicBezTo>
                  <a:pt x="12502" y="8206"/>
                  <a:pt x="12473" y="8315"/>
                  <a:pt x="12576" y="8409"/>
                </a:cubicBezTo>
                <a:cubicBezTo>
                  <a:pt x="12781" y="8596"/>
                  <a:pt x="13067" y="8430"/>
                  <a:pt x="13221" y="8285"/>
                </a:cubicBezTo>
                <a:cubicBezTo>
                  <a:pt x="13301" y="8210"/>
                  <a:pt x="13388" y="8066"/>
                  <a:pt x="13370" y="8012"/>
                </a:cubicBezTo>
                <a:cubicBezTo>
                  <a:pt x="13370" y="7977"/>
                  <a:pt x="13361" y="7973"/>
                  <a:pt x="13320" y="8012"/>
                </a:cubicBezTo>
              </a:path>
              <a:path w="2383" h="3300">
                <a:moveTo>
                  <a:pt x="13494" y="6722"/>
                </a:moveTo>
                <a:cubicBezTo>
                  <a:pt x="13460" y="6790"/>
                  <a:pt x="13433" y="6849"/>
                  <a:pt x="13419" y="6921"/>
                </a:cubicBezTo>
                <a:cubicBezTo>
                  <a:pt x="13464" y="6912"/>
                  <a:pt x="13565" y="6865"/>
                  <a:pt x="13519" y="6796"/>
                </a:cubicBezTo>
                <a:cubicBezTo>
                  <a:pt x="13503" y="6771"/>
                  <a:pt x="13451" y="6839"/>
                  <a:pt x="13444" y="6846"/>
                </a:cubicBezTo>
              </a:path>
              <a:path w="2383" h="3300">
                <a:moveTo>
                  <a:pt x="12973" y="7541"/>
                </a:moveTo>
                <a:cubicBezTo>
                  <a:pt x="12973" y="7416"/>
                  <a:pt x="12882" y="7448"/>
                  <a:pt x="12799" y="7565"/>
                </a:cubicBezTo>
                <a:cubicBezTo>
                  <a:pt x="12650" y="7775"/>
                  <a:pt x="12702" y="7866"/>
                  <a:pt x="12799" y="8062"/>
                </a:cubicBezTo>
                <a:cubicBezTo>
                  <a:pt x="12971" y="7968"/>
                  <a:pt x="13227" y="7754"/>
                  <a:pt x="13022" y="7516"/>
                </a:cubicBezTo>
                <a:cubicBezTo>
                  <a:pt x="12905" y="7487"/>
                  <a:pt x="12855" y="7484"/>
                  <a:pt x="12774" y="7541"/>
                </a:cubicBezTo>
              </a:path>
              <a:path w="2383" h="3300">
                <a:moveTo>
                  <a:pt x="12750" y="6375"/>
                </a:moveTo>
                <a:cubicBezTo>
                  <a:pt x="12750" y="6468"/>
                  <a:pt x="12714" y="6539"/>
                  <a:pt x="12675" y="6623"/>
                </a:cubicBezTo>
                <a:cubicBezTo>
                  <a:pt x="12813" y="6623"/>
                  <a:pt x="12915" y="6595"/>
                  <a:pt x="13047" y="6573"/>
                </a:cubicBezTo>
              </a:path>
              <a:path w="2383" h="3300">
                <a:moveTo>
                  <a:pt x="13022" y="6102"/>
                </a:moveTo>
                <a:cubicBezTo>
                  <a:pt x="13004" y="6364"/>
                  <a:pt x="13001" y="6638"/>
                  <a:pt x="12948" y="6896"/>
                </a:cubicBezTo>
                <a:cubicBezTo>
                  <a:pt x="12928" y="6936"/>
                  <a:pt x="12919" y="6942"/>
                  <a:pt x="12923" y="6970"/>
                </a:cubicBezTo>
              </a:path>
              <a:path w="2383" h="3300">
                <a:moveTo>
                  <a:pt x="11633" y="8434"/>
                </a:moveTo>
                <a:cubicBezTo>
                  <a:pt x="11576" y="8567"/>
                  <a:pt x="11521" y="8699"/>
                  <a:pt x="11460" y="8830"/>
                </a:cubicBezTo>
              </a:path>
              <a:path w="2383" h="3300">
                <a:moveTo>
                  <a:pt x="12055" y="8409"/>
                </a:moveTo>
                <a:cubicBezTo>
                  <a:pt x="11964" y="8568"/>
                  <a:pt x="11934" y="8610"/>
                  <a:pt x="11931" y="8731"/>
                </a:cubicBezTo>
                <a:cubicBezTo>
                  <a:pt x="12085" y="8745"/>
                  <a:pt x="12287" y="8612"/>
                  <a:pt x="12204" y="8409"/>
                </a:cubicBezTo>
                <a:cubicBezTo>
                  <a:pt x="12166" y="8316"/>
                  <a:pt x="12055" y="8308"/>
                  <a:pt x="12055" y="8359"/>
                </a:cubicBezTo>
              </a:path>
              <a:path w="2383" h="3300">
                <a:moveTo>
                  <a:pt x="12650" y="8359"/>
                </a:moveTo>
                <a:cubicBezTo>
                  <a:pt x="12592" y="8495"/>
                  <a:pt x="12497" y="9003"/>
                  <a:pt x="12849" y="8706"/>
                </a:cubicBezTo>
                <a:cubicBezTo>
                  <a:pt x="13300" y="8324"/>
                  <a:pt x="12616" y="8430"/>
                  <a:pt x="12477" y="8483"/>
                </a:cubicBezTo>
              </a:path>
              <a:path w="2383" h="3300">
                <a:moveTo>
                  <a:pt x="11137" y="9079"/>
                </a:moveTo>
                <a:cubicBezTo>
                  <a:pt x="11773" y="8994"/>
                  <a:pt x="12409" y="8875"/>
                  <a:pt x="13047" y="8806"/>
                </a:cubicBezTo>
                <a:cubicBezTo>
                  <a:pt x="13170" y="8806"/>
                  <a:pt x="13238" y="8788"/>
                  <a:pt x="13146" y="8855"/>
                </a:cubicBezTo>
              </a:path>
              <a:path w="2383" h="3300">
                <a:moveTo>
                  <a:pt x="12799" y="9029"/>
                </a:moveTo>
                <a:cubicBezTo>
                  <a:pt x="12705" y="9170"/>
                  <a:pt x="12674" y="9211"/>
                  <a:pt x="12675" y="9327"/>
                </a:cubicBezTo>
                <a:cubicBezTo>
                  <a:pt x="12817" y="9379"/>
                  <a:pt x="13275" y="9329"/>
                  <a:pt x="13146" y="9029"/>
                </a:cubicBezTo>
                <a:cubicBezTo>
                  <a:pt x="13009" y="8974"/>
                  <a:pt x="12954" y="8955"/>
                  <a:pt x="1284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35040" y="2687760"/>
            <a:ext cx="2617920" cy="519120"/>
          </a:xfrm>
          <a:custGeom>
            <a:avLst/>
            <a:gdLst/>
            <a:ahLst/>
            <a:rect l="l" t="t" r="r" b="b"/>
            <a:pathLst>
              <a:path w="7269" h="1440">
                <a:moveTo>
                  <a:pt x="4266" y="8855"/>
                </a:moveTo>
                <a:cubicBezTo>
                  <a:pt x="4266" y="8897"/>
                  <a:pt x="4258" y="8913"/>
                  <a:pt x="4291" y="8905"/>
                </a:cubicBezTo>
              </a:path>
              <a:path w="7269" h="1440">
                <a:moveTo>
                  <a:pt x="4291" y="8905"/>
                </a:moveTo>
                <a:lnTo>
                  <a:pt x="4291" y="8905"/>
                </a:lnTo>
              </a:path>
              <a:path w="7269" h="1440">
                <a:moveTo>
                  <a:pt x="5135" y="8359"/>
                </a:moveTo>
                <a:lnTo>
                  <a:pt x="5135" y="8359"/>
                </a:lnTo>
              </a:path>
              <a:path w="7269" h="1440">
                <a:moveTo>
                  <a:pt x="11509" y="7466"/>
                </a:moveTo>
                <a:cubicBezTo>
                  <a:pt x="11592" y="7632"/>
                  <a:pt x="11459" y="7910"/>
                  <a:pt x="11361" y="8086"/>
                </a:cubicBezTo>
                <a:cubicBezTo>
                  <a:pt x="11344" y="8103"/>
                  <a:pt x="11328" y="8119"/>
                  <a:pt x="11311" y="8136"/>
                </a:cubicBezTo>
              </a:path>
              <a:path w="7269" h="1440">
                <a:moveTo>
                  <a:pt x="10021" y="8086"/>
                </a:moveTo>
                <a:cubicBezTo>
                  <a:pt x="10021" y="8103"/>
                  <a:pt x="10021" y="8119"/>
                  <a:pt x="10021" y="8136"/>
                </a:cubicBezTo>
              </a:path>
              <a:path w="7269" h="1440">
                <a:moveTo>
                  <a:pt x="10021" y="8136"/>
                </a:moveTo>
                <a:lnTo>
                  <a:pt x="10021" y="81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98720" y="2946240"/>
            <a:ext cx="768240" cy="331920"/>
          </a:xfrm>
          <a:custGeom>
            <a:avLst/>
            <a:gdLst/>
            <a:ahLst/>
            <a:rect l="l" t="t" r="r" b="b"/>
            <a:pathLst>
              <a:path w="2134" h="918">
                <a:moveTo>
                  <a:pt x="3051" y="8285"/>
                </a:moveTo>
                <a:cubicBezTo>
                  <a:pt x="3422" y="8202"/>
                  <a:pt x="3838" y="8217"/>
                  <a:pt x="4217" y="8210"/>
                </a:cubicBezTo>
                <a:cubicBezTo>
                  <a:pt x="4508" y="8205"/>
                  <a:pt x="4889" y="8149"/>
                  <a:pt x="5184" y="8186"/>
                </a:cubicBezTo>
                <a:cubicBezTo>
                  <a:pt x="5184" y="8194"/>
                  <a:pt x="5184" y="8202"/>
                  <a:pt x="5184" y="8210"/>
                </a:cubicBezTo>
              </a:path>
              <a:path w="2134" h="918">
                <a:moveTo>
                  <a:pt x="3770" y="8682"/>
                </a:moveTo>
                <a:cubicBezTo>
                  <a:pt x="3902" y="8570"/>
                  <a:pt x="3883" y="8567"/>
                  <a:pt x="4043" y="8607"/>
                </a:cubicBezTo>
                <a:cubicBezTo>
                  <a:pt x="3999" y="8873"/>
                  <a:pt x="3903" y="9015"/>
                  <a:pt x="3597" y="9029"/>
                </a:cubicBezTo>
                <a:cubicBezTo>
                  <a:pt x="3572" y="9021"/>
                  <a:pt x="3547" y="9012"/>
                  <a:pt x="3522" y="9004"/>
                </a:cubicBezTo>
                <a:cubicBezTo>
                  <a:pt x="3645" y="8831"/>
                  <a:pt x="3792" y="8744"/>
                  <a:pt x="3969" y="8954"/>
                </a:cubicBezTo>
                <a:cubicBezTo>
                  <a:pt x="4010" y="9037"/>
                  <a:pt x="4034" y="9053"/>
                  <a:pt x="3994" y="9103"/>
                </a:cubicBezTo>
              </a:path>
              <a:path w="2134" h="918">
                <a:moveTo>
                  <a:pt x="4787" y="8434"/>
                </a:moveTo>
                <a:cubicBezTo>
                  <a:pt x="4723" y="8497"/>
                  <a:pt x="4663" y="8557"/>
                  <a:pt x="4589" y="8607"/>
                </a:cubicBezTo>
                <a:cubicBezTo>
                  <a:pt x="4724" y="8630"/>
                  <a:pt x="4834" y="8658"/>
                  <a:pt x="4911" y="8781"/>
                </a:cubicBezTo>
                <a:cubicBezTo>
                  <a:pt x="4974" y="8881"/>
                  <a:pt x="4745" y="8807"/>
                  <a:pt x="4638" y="8756"/>
                </a:cubicBezTo>
              </a:path>
              <a:path w="2134" h="918">
                <a:moveTo>
                  <a:pt x="4614" y="8508"/>
                </a:moveTo>
                <a:cubicBezTo>
                  <a:pt x="4784" y="8443"/>
                  <a:pt x="4956" y="8402"/>
                  <a:pt x="5135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68760" y="2562120"/>
            <a:ext cx="2098440" cy="563760"/>
          </a:xfrm>
          <a:custGeom>
            <a:avLst/>
            <a:gdLst/>
            <a:ahLst/>
            <a:rect l="l" t="t" r="r" b="b"/>
            <a:pathLst>
              <a:path w="5831" h="1564">
                <a:moveTo>
                  <a:pt x="7913" y="8210"/>
                </a:moveTo>
                <a:cubicBezTo>
                  <a:pt x="7834" y="8259"/>
                  <a:pt x="7760" y="8303"/>
                  <a:pt x="7689" y="8359"/>
                </a:cubicBezTo>
                <a:cubicBezTo>
                  <a:pt x="7727" y="8397"/>
                  <a:pt x="7965" y="8506"/>
                  <a:pt x="7962" y="8582"/>
                </a:cubicBezTo>
                <a:cubicBezTo>
                  <a:pt x="7953" y="8813"/>
                  <a:pt x="7738" y="8579"/>
                  <a:pt x="7714" y="8558"/>
                </a:cubicBezTo>
              </a:path>
              <a:path w="5831" h="1564">
                <a:moveTo>
                  <a:pt x="7938" y="8210"/>
                </a:moveTo>
                <a:cubicBezTo>
                  <a:pt x="8106" y="8171"/>
                  <a:pt x="8269" y="8134"/>
                  <a:pt x="8434" y="8086"/>
                </a:cubicBezTo>
              </a:path>
              <a:path w="5831" h="1564">
                <a:moveTo>
                  <a:pt x="12080" y="7491"/>
                </a:moveTo>
                <a:cubicBezTo>
                  <a:pt x="11894" y="7722"/>
                  <a:pt x="11868" y="7711"/>
                  <a:pt x="11931" y="7987"/>
                </a:cubicBezTo>
                <a:cubicBezTo>
                  <a:pt x="12122" y="8025"/>
                  <a:pt x="12684" y="7977"/>
                  <a:pt x="12427" y="7590"/>
                </a:cubicBezTo>
                <a:cubicBezTo>
                  <a:pt x="12300" y="7399"/>
                  <a:pt x="12049" y="7436"/>
                  <a:pt x="11881" y="7466"/>
                </a:cubicBezTo>
              </a:path>
              <a:path w="5831" h="1564">
                <a:moveTo>
                  <a:pt x="11112" y="8483"/>
                </a:moveTo>
                <a:cubicBezTo>
                  <a:pt x="11095" y="8285"/>
                  <a:pt x="11080" y="8086"/>
                  <a:pt x="11063" y="7888"/>
                </a:cubicBezTo>
                <a:cubicBezTo>
                  <a:pt x="11047" y="7700"/>
                  <a:pt x="11020" y="7488"/>
                  <a:pt x="11038" y="7317"/>
                </a:cubicBezTo>
                <a:cubicBezTo>
                  <a:pt x="11267" y="7276"/>
                  <a:pt x="11501" y="7241"/>
                  <a:pt x="11733" y="7218"/>
                </a:cubicBezTo>
                <a:cubicBezTo>
                  <a:pt x="12298" y="7162"/>
                  <a:pt x="12925" y="7071"/>
                  <a:pt x="13494" y="7119"/>
                </a:cubicBezTo>
                <a:cubicBezTo>
                  <a:pt x="13502" y="7127"/>
                  <a:pt x="13511" y="7136"/>
                  <a:pt x="13519" y="7144"/>
                </a:cubicBezTo>
              </a:path>
              <a:path w="5831" h="1564">
                <a:moveTo>
                  <a:pt x="9500" y="7764"/>
                </a:moveTo>
                <a:cubicBezTo>
                  <a:pt x="9404" y="7764"/>
                  <a:pt x="9615" y="7686"/>
                  <a:pt x="9699" y="7640"/>
                </a:cubicBezTo>
                <a:cubicBezTo>
                  <a:pt x="9840" y="7835"/>
                  <a:pt x="9886" y="8159"/>
                  <a:pt x="9550" y="8260"/>
                </a:cubicBezTo>
                <a:cubicBezTo>
                  <a:pt x="9398" y="8238"/>
                  <a:pt x="9349" y="8249"/>
                  <a:pt x="9327" y="8136"/>
                </a:cubicBezTo>
                <a:cubicBezTo>
                  <a:pt x="9464" y="8036"/>
                  <a:pt x="9708" y="7907"/>
                  <a:pt x="9823" y="8136"/>
                </a:cubicBezTo>
                <a:cubicBezTo>
                  <a:pt x="9823" y="8227"/>
                  <a:pt x="9823" y="8235"/>
                  <a:pt x="9823" y="8285"/>
                </a:cubicBezTo>
              </a:path>
              <a:path w="5831" h="1564">
                <a:moveTo>
                  <a:pt x="10244" y="7565"/>
                </a:moveTo>
                <a:cubicBezTo>
                  <a:pt x="10230" y="7639"/>
                  <a:pt x="10189" y="7703"/>
                  <a:pt x="10145" y="7764"/>
                </a:cubicBezTo>
                <a:cubicBezTo>
                  <a:pt x="10271" y="7764"/>
                  <a:pt x="10568" y="7714"/>
                  <a:pt x="10616" y="7888"/>
                </a:cubicBezTo>
                <a:cubicBezTo>
                  <a:pt x="10678" y="8114"/>
                  <a:pt x="10316" y="7946"/>
                  <a:pt x="10294" y="7938"/>
                </a:cubicBezTo>
              </a:path>
              <a:path w="5831" h="1564">
                <a:moveTo>
                  <a:pt x="10244" y="7516"/>
                </a:moveTo>
                <a:cubicBezTo>
                  <a:pt x="10490" y="7468"/>
                  <a:pt x="10643" y="7382"/>
                  <a:pt x="10815" y="7541"/>
                </a:cubicBezTo>
              </a:path>
              <a:path w="5831" h="1564">
                <a:moveTo>
                  <a:pt x="10021" y="8161"/>
                </a:moveTo>
                <a:cubicBezTo>
                  <a:pt x="10141" y="8185"/>
                  <a:pt x="10179" y="8330"/>
                  <a:pt x="10294" y="8359"/>
                </a:cubicBezTo>
                <a:cubicBezTo>
                  <a:pt x="10553" y="8425"/>
                  <a:pt x="10705" y="8268"/>
                  <a:pt x="10790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82880" y="3106800"/>
            <a:ext cx="4330440" cy="2278080"/>
          </a:xfrm>
          <a:custGeom>
            <a:avLst/>
            <a:gdLst/>
            <a:ahLst/>
            <a:rect l="l" t="t" r="r" b="b"/>
            <a:pathLst>
              <a:path w="12031" h="6326">
                <a:moveTo>
                  <a:pt x="7342" y="8632"/>
                </a:moveTo>
                <a:cubicBezTo>
                  <a:pt x="7350" y="8632"/>
                  <a:pt x="7359" y="8632"/>
                  <a:pt x="7367" y="8632"/>
                </a:cubicBezTo>
              </a:path>
              <a:path w="12031" h="6326">
                <a:moveTo>
                  <a:pt x="5507" y="14734"/>
                </a:moveTo>
                <a:cubicBezTo>
                  <a:pt x="5676" y="14633"/>
                  <a:pt x="5803" y="14580"/>
                  <a:pt x="6003" y="14560"/>
                </a:cubicBezTo>
              </a:path>
              <a:path w="12031" h="6326">
                <a:moveTo>
                  <a:pt x="5556" y="14957"/>
                </a:moveTo>
                <a:cubicBezTo>
                  <a:pt x="5699" y="14875"/>
                  <a:pt x="5869" y="14738"/>
                  <a:pt x="6028" y="14784"/>
                </a:cubicBezTo>
              </a:path>
              <a:path w="12031" h="6326">
                <a:moveTo>
                  <a:pt x="8855" y="12973"/>
                </a:moveTo>
                <a:cubicBezTo>
                  <a:pt x="8976" y="12944"/>
                  <a:pt x="9079" y="12929"/>
                  <a:pt x="9203" y="12923"/>
                </a:cubicBezTo>
              </a:path>
              <a:path w="12031" h="6326">
                <a:moveTo>
                  <a:pt x="10468" y="14139"/>
                </a:moveTo>
                <a:cubicBezTo>
                  <a:pt x="10398" y="14339"/>
                  <a:pt x="10349" y="14340"/>
                  <a:pt x="10468" y="14486"/>
                </a:cubicBezTo>
                <a:cubicBezTo>
                  <a:pt x="10577" y="14443"/>
                  <a:pt x="10969" y="14089"/>
                  <a:pt x="10592" y="14089"/>
                </a:cubicBezTo>
                <a:cubicBezTo>
                  <a:pt x="10534" y="14114"/>
                  <a:pt x="10476" y="14138"/>
                  <a:pt x="10418" y="14163"/>
                </a:cubicBezTo>
              </a:path>
              <a:path w="12031" h="6326">
                <a:moveTo>
                  <a:pt x="17190" y="11385"/>
                </a:moveTo>
                <a:cubicBezTo>
                  <a:pt x="17305" y="11571"/>
                  <a:pt x="17843" y="12255"/>
                  <a:pt x="17314" y="12402"/>
                </a:cubicBezTo>
                <a:cubicBezTo>
                  <a:pt x="17264" y="12386"/>
                  <a:pt x="17215" y="12369"/>
                  <a:pt x="17165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20920" y="2867040"/>
            <a:ext cx="554040" cy="303120"/>
          </a:xfrm>
          <a:custGeom>
            <a:avLst/>
            <a:gdLst/>
            <a:ahLst/>
            <a:rect l="l" t="t" r="r" b="b"/>
            <a:pathLst>
              <a:path w="1539" h="845">
                <a:moveTo>
                  <a:pt x="6474" y="8161"/>
                </a:moveTo>
                <a:cubicBezTo>
                  <a:pt x="6723" y="8140"/>
                  <a:pt x="6922" y="8122"/>
                  <a:pt x="7169" y="8086"/>
                </a:cubicBezTo>
                <a:cubicBezTo>
                  <a:pt x="7220" y="8079"/>
                  <a:pt x="7963" y="7913"/>
                  <a:pt x="7962" y="7987"/>
                </a:cubicBezTo>
              </a:path>
              <a:path w="1539" h="845">
                <a:moveTo>
                  <a:pt x="6846" y="8434"/>
                </a:moveTo>
                <a:cubicBezTo>
                  <a:pt x="6953" y="8434"/>
                  <a:pt x="7001" y="8443"/>
                  <a:pt x="7094" y="8483"/>
                </a:cubicBezTo>
                <a:cubicBezTo>
                  <a:pt x="6957" y="8757"/>
                  <a:pt x="6804" y="8760"/>
                  <a:pt x="6499" y="8781"/>
                </a:cubicBezTo>
                <a:cubicBezTo>
                  <a:pt x="6576" y="8669"/>
                  <a:pt x="6884" y="8444"/>
                  <a:pt x="7045" y="8657"/>
                </a:cubicBezTo>
                <a:cubicBezTo>
                  <a:pt x="7045" y="8742"/>
                  <a:pt x="7051" y="8762"/>
                  <a:pt x="7020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17880" y="3884760"/>
            <a:ext cx="992160" cy="1643040"/>
          </a:xfrm>
          <a:custGeom>
            <a:avLst/>
            <a:gdLst/>
            <a:ahLst/>
            <a:rect l="l" t="t" r="r" b="b"/>
            <a:pathLst>
              <a:path w="2754" h="4565">
                <a:moveTo>
                  <a:pt x="9475" y="11807"/>
                </a:moveTo>
                <a:cubicBezTo>
                  <a:pt x="9429" y="12042"/>
                  <a:pt x="9365" y="12270"/>
                  <a:pt x="9376" y="12502"/>
                </a:cubicBezTo>
                <a:cubicBezTo>
                  <a:pt x="9626" y="12452"/>
                  <a:pt x="9790" y="12385"/>
                  <a:pt x="9773" y="12129"/>
                </a:cubicBezTo>
                <a:cubicBezTo>
                  <a:pt x="9683" y="12157"/>
                  <a:pt x="9325" y="12506"/>
                  <a:pt x="9500" y="12477"/>
                </a:cubicBezTo>
                <a:cubicBezTo>
                  <a:pt x="9550" y="12444"/>
                  <a:pt x="9599" y="12411"/>
                  <a:pt x="9649" y="12378"/>
                </a:cubicBezTo>
              </a:path>
              <a:path w="2754" h="4565">
                <a:moveTo>
                  <a:pt x="10071" y="11782"/>
                </a:moveTo>
                <a:cubicBezTo>
                  <a:pt x="9938" y="12000"/>
                  <a:pt x="9932" y="12014"/>
                  <a:pt x="9996" y="12254"/>
                </a:cubicBezTo>
                <a:cubicBezTo>
                  <a:pt x="10243" y="12245"/>
                  <a:pt x="10679" y="12064"/>
                  <a:pt x="10319" y="11733"/>
                </a:cubicBezTo>
                <a:cubicBezTo>
                  <a:pt x="10104" y="11679"/>
                  <a:pt x="10023" y="11670"/>
                  <a:pt x="9897" y="11807"/>
                </a:cubicBezTo>
              </a:path>
              <a:path w="2754" h="4565">
                <a:moveTo>
                  <a:pt x="9227" y="12650"/>
                </a:moveTo>
                <a:cubicBezTo>
                  <a:pt x="9273" y="12391"/>
                  <a:pt x="9237" y="12139"/>
                  <a:pt x="9178" y="11881"/>
                </a:cubicBezTo>
                <a:cubicBezTo>
                  <a:pt x="9139" y="11748"/>
                  <a:pt x="9141" y="11727"/>
                  <a:pt x="9103" y="11658"/>
                </a:cubicBezTo>
                <a:cubicBezTo>
                  <a:pt x="9328" y="11588"/>
                  <a:pt x="9579" y="11564"/>
                  <a:pt x="9823" y="11534"/>
                </a:cubicBezTo>
                <a:cubicBezTo>
                  <a:pt x="10006" y="11512"/>
                  <a:pt x="10580" y="11337"/>
                  <a:pt x="10765" y="11385"/>
                </a:cubicBezTo>
                <a:cubicBezTo>
                  <a:pt x="10749" y="11410"/>
                  <a:pt x="10732" y="11435"/>
                  <a:pt x="10716" y="11460"/>
                </a:cubicBezTo>
              </a:path>
              <a:path w="2754" h="4565">
                <a:moveTo>
                  <a:pt x="8880" y="11906"/>
                </a:moveTo>
                <a:cubicBezTo>
                  <a:pt x="8810" y="11923"/>
                  <a:pt x="8699" y="11938"/>
                  <a:pt x="8632" y="11981"/>
                </a:cubicBezTo>
                <a:cubicBezTo>
                  <a:pt x="8592" y="12007"/>
                  <a:pt x="8571" y="12150"/>
                  <a:pt x="8558" y="12204"/>
                </a:cubicBezTo>
                <a:cubicBezTo>
                  <a:pt x="8558" y="12212"/>
                  <a:pt x="8558" y="12221"/>
                  <a:pt x="8558" y="12229"/>
                </a:cubicBezTo>
                <a:cubicBezTo>
                  <a:pt x="8686" y="12196"/>
                  <a:pt x="8897" y="12069"/>
                  <a:pt x="9004" y="12229"/>
                </a:cubicBezTo>
                <a:cubicBezTo>
                  <a:pt x="9138" y="12430"/>
                  <a:pt x="8638" y="12666"/>
                  <a:pt x="8483" y="12526"/>
                </a:cubicBezTo>
                <a:cubicBezTo>
                  <a:pt x="8450" y="12452"/>
                  <a:pt x="8417" y="12377"/>
                  <a:pt x="8384" y="12303"/>
                </a:cubicBezTo>
              </a:path>
              <a:path w="2754" h="4565">
                <a:moveTo>
                  <a:pt x="9302" y="10790"/>
                </a:moveTo>
                <a:cubicBezTo>
                  <a:pt x="9302" y="11019"/>
                  <a:pt x="9289" y="11236"/>
                  <a:pt x="9351" y="11460"/>
                </a:cubicBezTo>
                <a:cubicBezTo>
                  <a:pt x="9368" y="11485"/>
                  <a:pt x="9384" y="11509"/>
                  <a:pt x="9401" y="11534"/>
                </a:cubicBezTo>
              </a:path>
              <a:path w="2754" h="4565">
                <a:moveTo>
                  <a:pt x="9624" y="12750"/>
                </a:moveTo>
                <a:cubicBezTo>
                  <a:pt x="9610" y="12666"/>
                  <a:pt x="9505" y="12676"/>
                  <a:pt x="9426" y="12725"/>
                </a:cubicBezTo>
                <a:cubicBezTo>
                  <a:pt x="9398" y="12742"/>
                  <a:pt x="9402" y="12863"/>
                  <a:pt x="9401" y="12874"/>
                </a:cubicBezTo>
                <a:cubicBezTo>
                  <a:pt x="9528" y="12874"/>
                  <a:pt x="9636" y="12822"/>
                  <a:pt x="9748" y="12898"/>
                </a:cubicBezTo>
                <a:cubicBezTo>
                  <a:pt x="9919" y="13014"/>
                  <a:pt x="9436" y="13094"/>
                  <a:pt x="9401" y="13097"/>
                </a:cubicBezTo>
              </a:path>
              <a:path w="2754" h="4565">
                <a:moveTo>
                  <a:pt x="8954" y="13444"/>
                </a:moveTo>
                <a:cubicBezTo>
                  <a:pt x="9381" y="13276"/>
                  <a:pt x="9780" y="13145"/>
                  <a:pt x="10220" y="13047"/>
                </a:cubicBezTo>
                <a:cubicBezTo>
                  <a:pt x="10195" y="13047"/>
                  <a:pt x="10170" y="13047"/>
                  <a:pt x="10145" y="13047"/>
                </a:cubicBezTo>
              </a:path>
              <a:path w="2754" h="4565">
                <a:moveTo>
                  <a:pt x="9699" y="13519"/>
                </a:moveTo>
                <a:cubicBezTo>
                  <a:pt x="9699" y="13679"/>
                  <a:pt x="9688" y="13832"/>
                  <a:pt x="9674" y="13990"/>
                </a:cubicBezTo>
              </a:path>
              <a:path w="2754" h="4565">
                <a:moveTo>
                  <a:pt x="10517" y="13568"/>
                </a:moveTo>
                <a:cubicBezTo>
                  <a:pt x="10380" y="13677"/>
                  <a:pt x="10343" y="13736"/>
                  <a:pt x="10269" y="13891"/>
                </a:cubicBezTo>
                <a:cubicBezTo>
                  <a:pt x="10468" y="13935"/>
                  <a:pt x="10749" y="13840"/>
                  <a:pt x="10641" y="13543"/>
                </a:cubicBezTo>
                <a:cubicBezTo>
                  <a:pt x="10523" y="13425"/>
                  <a:pt x="10489" y="13385"/>
                  <a:pt x="10368" y="13395"/>
                </a:cubicBezTo>
              </a:path>
              <a:path w="2754" h="4565">
                <a:moveTo>
                  <a:pt x="9872" y="14213"/>
                </a:moveTo>
                <a:cubicBezTo>
                  <a:pt x="9864" y="14257"/>
                  <a:pt x="9812" y="14633"/>
                  <a:pt x="9823" y="14635"/>
                </a:cubicBezTo>
                <a:cubicBezTo>
                  <a:pt x="9848" y="14618"/>
                  <a:pt x="9872" y="14602"/>
                  <a:pt x="9897" y="14585"/>
                </a:cubicBezTo>
              </a:path>
              <a:path w="2754" h="4565">
                <a:moveTo>
                  <a:pt x="9624" y="14982"/>
                </a:moveTo>
                <a:cubicBezTo>
                  <a:pt x="10109" y="14845"/>
                  <a:pt x="10607" y="14643"/>
                  <a:pt x="11112" y="14610"/>
                </a:cubicBezTo>
                <a:cubicBezTo>
                  <a:pt x="11147" y="14610"/>
                  <a:pt x="11146" y="14615"/>
                  <a:pt x="11088" y="14635"/>
                </a:cubicBezTo>
              </a:path>
              <a:path w="2754" h="4565">
                <a:moveTo>
                  <a:pt x="10641" y="15056"/>
                </a:moveTo>
                <a:cubicBezTo>
                  <a:pt x="10593" y="15178"/>
                  <a:pt x="10576" y="15217"/>
                  <a:pt x="10616" y="15304"/>
                </a:cubicBezTo>
                <a:cubicBezTo>
                  <a:pt x="10728" y="15352"/>
                  <a:pt x="10958" y="15400"/>
                  <a:pt x="10939" y="15180"/>
                </a:cubicBezTo>
                <a:cubicBezTo>
                  <a:pt x="10920" y="14960"/>
                  <a:pt x="10576" y="15032"/>
                  <a:pt x="10443" y="15032"/>
                </a:cubicBezTo>
              </a:path>
              <a:path w="2754" h="4565">
                <a:moveTo>
                  <a:pt x="9252" y="14610"/>
                </a:moveTo>
                <a:cubicBezTo>
                  <a:pt x="9364" y="14550"/>
                  <a:pt x="9479" y="14507"/>
                  <a:pt x="9599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28840" y="4062240"/>
            <a:ext cx="4518000" cy="1438560"/>
          </a:xfrm>
          <a:custGeom>
            <a:avLst/>
            <a:gdLst/>
            <a:ahLst/>
            <a:rect l="l" t="t" r="r" b="b"/>
            <a:pathLst>
              <a:path w="12552" h="3995">
                <a:moveTo>
                  <a:pt x="10269" y="12675"/>
                </a:moveTo>
                <a:cubicBezTo>
                  <a:pt x="10291" y="12831"/>
                  <a:pt x="10320" y="12989"/>
                  <a:pt x="10344" y="13146"/>
                </a:cubicBezTo>
              </a:path>
              <a:path w="12552" h="3995">
                <a:moveTo>
                  <a:pt x="10071" y="13097"/>
                </a:moveTo>
                <a:cubicBezTo>
                  <a:pt x="10186" y="13168"/>
                  <a:pt x="10333" y="13279"/>
                  <a:pt x="10443" y="13122"/>
                </a:cubicBezTo>
                <a:cubicBezTo>
                  <a:pt x="10532" y="12996"/>
                  <a:pt x="10528" y="12848"/>
                  <a:pt x="10542" y="12849"/>
                </a:cubicBezTo>
              </a:path>
              <a:path w="12552" h="3995">
                <a:moveTo>
                  <a:pt x="3969" y="14610"/>
                </a:moveTo>
                <a:cubicBezTo>
                  <a:pt x="4042" y="14829"/>
                  <a:pt x="4075" y="15050"/>
                  <a:pt x="4093" y="15280"/>
                </a:cubicBezTo>
              </a:path>
              <a:path w="12552" h="3995">
                <a:moveTo>
                  <a:pt x="16197" y="11286"/>
                </a:moveTo>
                <a:cubicBezTo>
                  <a:pt x="16162" y="11552"/>
                  <a:pt x="15995" y="12075"/>
                  <a:pt x="16222" y="12303"/>
                </a:cubicBezTo>
                <a:cubicBezTo>
                  <a:pt x="16314" y="12326"/>
                  <a:pt x="16339" y="12337"/>
                  <a:pt x="16396" y="12303"/>
                </a:cubicBezTo>
              </a:path>
              <a:path w="12552" h="3995">
                <a:moveTo>
                  <a:pt x="16520" y="11733"/>
                </a:moveTo>
                <a:cubicBezTo>
                  <a:pt x="16506" y="11907"/>
                  <a:pt x="16500" y="12085"/>
                  <a:pt x="16470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7240" y="2633760"/>
            <a:ext cx="704880" cy="1716120"/>
          </a:xfrm>
          <a:custGeom>
            <a:avLst/>
            <a:gdLst/>
            <a:ahLst/>
            <a:rect l="l" t="t" r="r" b="b"/>
            <a:pathLst>
              <a:path w="1960" h="4764">
                <a:moveTo>
                  <a:pt x="16867" y="7317"/>
                </a:moveTo>
                <a:cubicBezTo>
                  <a:pt x="16773" y="7499"/>
                  <a:pt x="16689" y="7682"/>
                  <a:pt x="16594" y="7863"/>
                </a:cubicBezTo>
              </a:path>
              <a:path w="1960" h="4764">
                <a:moveTo>
                  <a:pt x="16594" y="7863"/>
                </a:moveTo>
                <a:lnTo>
                  <a:pt x="16594" y="7863"/>
                </a:lnTo>
              </a:path>
              <a:path w="1960" h="4764">
                <a:moveTo>
                  <a:pt x="14908" y="11857"/>
                </a:moveTo>
                <a:cubicBezTo>
                  <a:pt x="15049" y="11851"/>
                  <a:pt x="15188" y="11839"/>
                  <a:pt x="15329" y="11832"/>
                </a:cubicBezTo>
              </a:path>
              <a:path w="1960" h="4764">
                <a:moveTo>
                  <a:pt x="14957" y="12080"/>
                </a:moveTo>
                <a:cubicBezTo>
                  <a:pt x="15015" y="12072"/>
                  <a:pt x="15073" y="12063"/>
                  <a:pt x="15131" y="12055"/>
                </a:cubicBezTo>
              </a:path>
              <a:path w="1960" h="4764">
                <a:moveTo>
                  <a:pt x="15131" y="12055"/>
                </a:moveTo>
                <a:lnTo>
                  <a:pt x="15131" y="1205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05680" y="2982960"/>
            <a:ext cx="16164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17462" y="8310"/>
                </a:moveTo>
                <a:cubicBezTo>
                  <a:pt x="17335" y="8483"/>
                  <a:pt x="17275" y="8574"/>
                  <a:pt x="17239" y="8781"/>
                </a:cubicBezTo>
                <a:cubicBezTo>
                  <a:pt x="17440" y="8812"/>
                  <a:pt x="17753" y="8715"/>
                  <a:pt x="17686" y="8409"/>
                </a:cubicBezTo>
                <a:cubicBezTo>
                  <a:pt x="17646" y="8226"/>
                  <a:pt x="17435" y="8308"/>
                  <a:pt x="17338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45160" y="311616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8281" y="8706"/>
                </a:moveTo>
                <a:cubicBezTo>
                  <a:pt x="18262" y="8721"/>
                  <a:pt x="18093" y="8845"/>
                  <a:pt x="18256" y="8781"/>
                </a:cubicBezTo>
                <a:cubicBezTo>
                  <a:pt x="18400" y="8725"/>
                  <a:pt x="18264" y="8696"/>
                  <a:pt x="18182" y="8806"/>
                </a:cubicBezTo>
                <a:cubicBezTo>
                  <a:pt x="18368" y="8785"/>
                  <a:pt x="18352" y="8730"/>
                  <a:pt x="18207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7840" y="4224240"/>
            <a:ext cx="376200" cy="276480"/>
          </a:xfrm>
          <a:custGeom>
            <a:avLst/>
            <a:gdLst/>
            <a:ahLst/>
            <a:rect l="l" t="t" r="r" b="b"/>
            <a:pathLst>
              <a:path w="1043" h="770">
                <a:moveTo>
                  <a:pt x="13593" y="11857"/>
                </a:moveTo>
                <a:cubicBezTo>
                  <a:pt x="13528" y="12049"/>
                  <a:pt x="13508" y="12249"/>
                  <a:pt x="13494" y="12452"/>
                </a:cubicBezTo>
                <a:cubicBezTo>
                  <a:pt x="13768" y="12521"/>
                  <a:pt x="13848" y="12387"/>
                  <a:pt x="13965" y="12154"/>
                </a:cubicBezTo>
                <a:cubicBezTo>
                  <a:pt x="13834" y="12127"/>
                  <a:pt x="13478" y="12138"/>
                  <a:pt x="13593" y="12402"/>
                </a:cubicBezTo>
                <a:cubicBezTo>
                  <a:pt x="13618" y="12410"/>
                  <a:pt x="13642" y="12419"/>
                  <a:pt x="13667" y="12427"/>
                </a:cubicBezTo>
              </a:path>
              <a:path w="1043" h="770">
                <a:moveTo>
                  <a:pt x="14288" y="11733"/>
                </a:moveTo>
                <a:cubicBezTo>
                  <a:pt x="14152" y="11936"/>
                  <a:pt x="14122" y="12017"/>
                  <a:pt x="14114" y="12254"/>
                </a:cubicBezTo>
                <a:cubicBezTo>
                  <a:pt x="14337" y="12314"/>
                  <a:pt x="14665" y="12206"/>
                  <a:pt x="14536" y="11857"/>
                </a:cubicBezTo>
                <a:cubicBezTo>
                  <a:pt x="14462" y="11657"/>
                  <a:pt x="14289" y="11803"/>
                  <a:pt x="14188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72080" y="4160880"/>
            <a:ext cx="196920" cy="26028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5900" y="11559"/>
                </a:moveTo>
                <a:cubicBezTo>
                  <a:pt x="15789" y="11572"/>
                  <a:pt x="15609" y="11543"/>
                  <a:pt x="15577" y="11633"/>
                </a:cubicBezTo>
                <a:cubicBezTo>
                  <a:pt x="15533" y="11758"/>
                  <a:pt x="15528" y="11794"/>
                  <a:pt x="15528" y="11931"/>
                </a:cubicBezTo>
                <a:cubicBezTo>
                  <a:pt x="15741" y="11918"/>
                  <a:pt x="15839" y="11903"/>
                  <a:pt x="16024" y="12005"/>
                </a:cubicBezTo>
                <a:cubicBezTo>
                  <a:pt x="15895" y="12290"/>
                  <a:pt x="15778" y="12284"/>
                  <a:pt x="15478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23000" y="4894200"/>
            <a:ext cx="11592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16173" y="13667"/>
                </a:moveTo>
                <a:cubicBezTo>
                  <a:pt x="16280" y="13642"/>
                  <a:pt x="16388" y="13618"/>
                  <a:pt x="16495" y="13593"/>
                </a:cubicBezTo>
              </a:path>
              <a:path w="323" h="75">
                <a:moveTo>
                  <a:pt x="16495" y="13593"/>
                </a:moveTo>
                <a:lnTo>
                  <a:pt x="16495" y="135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4776840"/>
            <a:ext cx="428400" cy="241200"/>
          </a:xfrm>
          <a:custGeom>
            <a:avLst/>
            <a:gdLst/>
            <a:ahLst/>
            <a:rect l="l" t="t" r="r" b="b"/>
            <a:pathLst>
              <a:path w="1191" h="670">
                <a:moveTo>
                  <a:pt x="14312" y="13271"/>
                </a:moveTo>
                <a:cubicBezTo>
                  <a:pt x="14306" y="13465"/>
                  <a:pt x="14299" y="13649"/>
                  <a:pt x="14312" y="13841"/>
                </a:cubicBezTo>
                <a:cubicBezTo>
                  <a:pt x="14596" y="13931"/>
                  <a:pt x="14688" y="13852"/>
                  <a:pt x="14833" y="13593"/>
                </a:cubicBezTo>
                <a:cubicBezTo>
                  <a:pt x="14555" y="13578"/>
                  <a:pt x="14484" y="13700"/>
                  <a:pt x="14610" y="13940"/>
                </a:cubicBezTo>
              </a:path>
              <a:path w="1191" h="670">
                <a:moveTo>
                  <a:pt x="15304" y="13295"/>
                </a:moveTo>
                <a:cubicBezTo>
                  <a:pt x="15175" y="13298"/>
                  <a:pt x="15052" y="13642"/>
                  <a:pt x="14982" y="13791"/>
                </a:cubicBezTo>
                <a:cubicBezTo>
                  <a:pt x="15143" y="13840"/>
                  <a:pt x="15689" y="13798"/>
                  <a:pt x="15429" y="13469"/>
                </a:cubicBezTo>
                <a:cubicBezTo>
                  <a:pt x="15274" y="13403"/>
                  <a:pt x="15237" y="13375"/>
                  <a:pt x="15131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4848120"/>
            <a:ext cx="125280" cy="1800"/>
          </a:xfrm>
          <a:custGeom>
            <a:avLst/>
            <a:gdLst/>
            <a:ahLst/>
            <a:rect l="l" t="t" r="r" b="b"/>
            <a:pathLst>
              <a:path w="349" h="1">
                <a:moveTo>
                  <a:pt x="16098" y="13469"/>
                </a:moveTo>
                <a:cubicBezTo>
                  <a:pt x="16272" y="13469"/>
                  <a:pt x="16330" y="13469"/>
                  <a:pt x="16446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6120" y="4705200"/>
            <a:ext cx="500040" cy="295560"/>
          </a:xfrm>
          <a:custGeom>
            <a:avLst/>
            <a:gdLst/>
            <a:ahLst/>
            <a:rect l="l" t="t" r="r" b="b"/>
            <a:pathLst>
              <a:path w="1390" h="820">
                <a:moveTo>
                  <a:pt x="17115" y="13146"/>
                </a:moveTo>
                <a:cubicBezTo>
                  <a:pt x="17047" y="13343"/>
                  <a:pt x="16926" y="13613"/>
                  <a:pt x="17115" y="13791"/>
                </a:cubicBezTo>
                <a:cubicBezTo>
                  <a:pt x="17354" y="14017"/>
                  <a:pt x="17529" y="13556"/>
                  <a:pt x="17562" y="13419"/>
                </a:cubicBezTo>
                <a:cubicBezTo>
                  <a:pt x="17216" y="13525"/>
                  <a:pt x="16911" y="13633"/>
                  <a:pt x="17264" y="13891"/>
                </a:cubicBezTo>
              </a:path>
              <a:path w="1390" h="820">
                <a:moveTo>
                  <a:pt x="17934" y="13171"/>
                </a:moveTo>
                <a:cubicBezTo>
                  <a:pt x="17790" y="13364"/>
                  <a:pt x="17741" y="13422"/>
                  <a:pt x="17760" y="13593"/>
                </a:cubicBezTo>
                <a:cubicBezTo>
                  <a:pt x="18186" y="13771"/>
                  <a:pt x="18303" y="13651"/>
                  <a:pt x="18405" y="13221"/>
                </a:cubicBezTo>
                <a:cubicBezTo>
                  <a:pt x="18054" y="13079"/>
                  <a:pt x="17907" y="13092"/>
                  <a:pt x="17512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27840" y="4205160"/>
            <a:ext cx="179280" cy="1890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6743" y="11683"/>
                </a:moveTo>
                <a:cubicBezTo>
                  <a:pt x="16884" y="11692"/>
                  <a:pt x="17207" y="11675"/>
                  <a:pt x="17140" y="11906"/>
                </a:cubicBezTo>
                <a:cubicBezTo>
                  <a:pt x="17041" y="12055"/>
                  <a:pt x="17008" y="12105"/>
                  <a:pt x="16892" y="12154"/>
                </a:cubicBezTo>
                <a:cubicBezTo>
                  <a:pt x="16867" y="12154"/>
                  <a:pt x="16843" y="12154"/>
                  <a:pt x="16818" y="12154"/>
                </a:cubicBezTo>
                <a:cubicBezTo>
                  <a:pt x="17001" y="12093"/>
                  <a:pt x="17099" y="12044"/>
                  <a:pt x="17239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80120" y="2313000"/>
            <a:ext cx="231840" cy="214200"/>
          </a:xfrm>
          <a:custGeom>
            <a:avLst/>
            <a:gdLst/>
            <a:ahLst/>
            <a:rect l="l" t="t" r="r" b="b"/>
            <a:pathLst>
              <a:path w="646" h="597">
                <a:moveTo>
                  <a:pt x="17438" y="6474"/>
                </a:moveTo>
                <a:cubicBezTo>
                  <a:pt x="17460" y="6544"/>
                  <a:pt x="17581" y="6420"/>
                  <a:pt x="17636" y="6424"/>
                </a:cubicBezTo>
                <a:cubicBezTo>
                  <a:pt x="17686" y="6441"/>
                  <a:pt x="17735" y="6457"/>
                  <a:pt x="17785" y="6474"/>
                </a:cubicBezTo>
                <a:cubicBezTo>
                  <a:pt x="17766" y="6813"/>
                  <a:pt x="17635" y="7108"/>
                  <a:pt x="17190" y="6995"/>
                </a:cubicBezTo>
                <a:cubicBezTo>
                  <a:pt x="17182" y="6970"/>
                  <a:pt x="17173" y="6946"/>
                  <a:pt x="17165" y="6921"/>
                </a:cubicBezTo>
                <a:cubicBezTo>
                  <a:pt x="17328" y="6824"/>
                  <a:pt x="17541" y="6696"/>
                  <a:pt x="17661" y="6945"/>
                </a:cubicBezTo>
                <a:cubicBezTo>
                  <a:pt x="17661" y="6970"/>
                  <a:pt x="17661" y="6995"/>
                  <a:pt x="17661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91160" y="248292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8033" y="6896"/>
                </a:moveTo>
                <a:cubicBezTo>
                  <a:pt x="18033" y="6921"/>
                  <a:pt x="18033" y="6929"/>
                  <a:pt x="1805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34080" y="229536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18554" y="6375"/>
                </a:moveTo>
                <a:cubicBezTo>
                  <a:pt x="18482" y="6393"/>
                  <a:pt x="18453" y="6436"/>
                  <a:pt x="18430" y="6499"/>
                </a:cubicBezTo>
                <a:cubicBezTo>
                  <a:pt x="18508" y="6555"/>
                  <a:pt x="18760" y="6594"/>
                  <a:pt x="18777" y="6697"/>
                </a:cubicBezTo>
                <a:cubicBezTo>
                  <a:pt x="18812" y="6912"/>
                  <a:pt x="18489" y="6805"/>
                  <a:pt x="18430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24800" y="2241720"/>
            <a:ext cx="169560" cy="26640"/>
          </a:xfrm>
          <a:custGeom>
            <a:avLst/>
            <a:gdLst/>
            <a:ahLst/>
            <a:rect l="l" t="t" r="r" b="b"/>
            <a:pathLst>
              <a:path w="472" h="75">
                <a:moveTo>
                  <a:pt x="18678" y="6300"/>
                </a:moveTo>
                <a:cubicBezTo>
                  <a:pt x="18853" y="6264"/>
                  <a:pt x="18979" y="6229"/>
                  <a:pt x="19149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26160" y="267012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8479" y="7417"/>
                </a:moveTo>
                <a:cubicBezTo>
                  <a:pt x="18455" y="7436"/>
                  <a:pt x="18328" y="7587"/>
                  <a:pt x="18455" y="7615"/>
                </a:cubicBezTo>
                <a:cubicBezTo>
                  <a:pt x="18606" y="7615"/>
                  <a:pt x="18658" y="7614"/>
                  <a:pt x="18752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61080" y="2616120"/>
            <a:ext cx="73080" cy="250920"/>
          </a:xfrm>
          <a:custGeom>
            <a:avLst/>
            <a:gdLst/>
            <a:ahLst/>
            <a:rect l="l" t="t" r="r" b="b"/>
            <a:pathLst>
              <a:path w="200" h="695">
                <a:moveTo>
                  <a:pt x="18703" y="7268"/>
                </a:moveTo>
                <a:cubicBezTo>
                  <a:pt x="18672" y="7537"/>
                  <a:pt x="18688" y="7764"/>
                  <a:pt x="18504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73840" y="2830680"/>
            <a:ext cx="1000080" cy="142560"/>
          </a:xfrm>
          <a:custGeom>
            <a:avLst/>
            <a:gdLst/>
            <a:ahLst/>
            <a:rect l="l" t="t" r="r" b="b"/>
            <a:pathLst>
              <a:path w="2779" h="398">
                <a:moveTo>
                  <a:pt x="16594" y="8260"/>
                </a:moveTo>
                <a:cubicBezTo>
                  <a:pt x="17330" y="8140"/>
                  <a:pt x="18061" y="8024"/>
                  <a:pt x="18802" y="7938"/>
                </a:cubicBezTo>
                <a:cubicBezTo>
                  <a:pt x="19050" y="7909"/>
                  <a:pt x="19447" y="7857"/>
                  <a:pt x="19199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00840" y="2678040"/>
            <a:ext cx="54000" cy="10008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6669" y="7441"/>
                </a:moveTo>
                <a:cubicBezTo>
                  <a:pt x="16718" y="7528"/>
                  <a:pt x="16766" y="7690"/>
                  <a:pt x="16818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50000" y="2955960"/>
            <a:ext cx="152280" cy="169920"/>
          </a:xfrm>
          <a:custGeom>
            <a:avLst/>
            <a:gdLst/>
            <a:ahLst/>
            <a:rect l="l" t="t" r="r" b="b"/>
            <a:pathLst>
              <a:path w="423" h="473">
                <a:moveTo>
                  <a:pt x="19000" y="8285"/>
                </a:moveTo>
                <a:cubicBezTo>
                  <a:pt x="18888" y="8405"/>
                  <a:pt x="18761" y="8499"/>
                  <a:pt x="18777" y="8657"/>
                </a:cubicBezTo>
                <a:cubicBezTo>
                  <a:pt x="18954" y="8650"/>
                  <a:pt x="19348" y="8558"/>
                  <a:pt x="19100" y="8285"/>
                </a:cubicBezTo>
                <a:cubicBezTo>
                  <a:pt x="18971" y="8233"/>
                  <a:pt x="18924" y="8215"/>
                  <a:pt x="18827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88040" y="205416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7338" y="5804"/>
                </a:moveTo>
                <a:cubicBezTo>
                  <a:pt x="17398" y="5745"/>
                  <a:pt x="17427" y="5723"/>
                  <a:pt x="17487" y="5705"/>
                </a:cubicBezTo>
                <a:cubicBezTo>
                  <a:pt x="17758" y="5865"/>
                  <a:pt x="17648" y="6129"/>
                  <a:pt x="17363" y="6300"/>
                </a:cubicBezTo>
                <a:cubicBezTo>
                  <a:pt x="17313" y="6308"/>
                  <a:pt x="17264" y="6317"/>
                  <a:pt x="17214" y="6325"/>
                </a:cubicBezTo>
                <a:cubicBezTo>
                  <a:pt x="17231" y="6081"/>
                  <a:pt x="17397" y="6090"/>
                  <a:pt x="17611" y="6226"/>
                </a:cubicBezTo>
                <a:cubicBezTo>
                  <a:pt x="17701" y="6315"/>
                  <a:pt x="17734" y="6334"/>
                  <a:pt x="17711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1840" y="3017880"/>
            <a:ext cx="44280" cy="179280"/>
          </a:xfrm>
          <a:custGeom>
            <a:avLst/>
            <a:gdLst/>
            <a:ahLst/>
            <a:rect l="l" t="t" r="r" b="b"/>
            <a:pathLst>
              <a:path w="125" h="497">
                <a:moveTo>
                  <a:pt x="17016" y="8384"/>
                </a:moveTo>
                <a:cubicBezTo>
                  <a:pt x="16980" y="8563"/>
                  <a:pt x="16956" y="8712"/>
                  <a:pt x="16892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77040" y="2857680"/>
            <a:ext cx="117360" cy="9360"/>
          </a:xfrm>
          <a:custGeom>
            <a:avLst/>
            <a:gdLst/>
            <a:ahLst/>
            <a:rect l="l" t="t" r="r" b="b"/>
            <a:pathLst>
              <a:path w="323" h="25">
                <a:moveTo>
                  <a:pt x="20216" y="7962"/>
                </a:moveTo>
                <a:cubicBezTo>
                  <a:pt x="20312" y="7927"/>
                  <a:pt x="20428" y="7938"/>
                  <a:pt x="20538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50040" y="2919240"/>
            <a:ext cx="233280" cy="367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20141" y="8210"/>
                </a:moveTo>
                <a:cubicBezTo>
                  <a:pt x="20361" y="8163"/>
                  <a:pt x="20563" y="8126"/>
                  <a:pt x="20786" y="81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83320" y="2919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786" y="8111"/>
                </a:moveTo>
                <a:lnTo>
                  <a:pt x="20786" y="811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72240" y="2813040"/>
            <a:ext cx="44640" cy="160200"/>
          </a:xfrm>
          <a:custGeom>
            <a:avLst/>
            <a:gdLst/>
            <a:ahLst/>
            <a:rect l="l" t="t" r="r" b="b"/>
            <a:pathLst>
              <a:path w="125" h="448">
                <a:moveTo>
                  <a:pt x="21158" y="7813"/>
                </a:moveTo>
                <a:cubicBezTo>
                  <a:pt x="21133" y="8043"/>
                  <a:pt x="21123" y="8124"/>
                  <a:pt x="21034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24880" y="2759040"/>
            <a:ext cx="204840" cy="21420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21704" y="7714"/>
                </a:moveTo>
                <a:cubicBezTo>
                  <a:pt x="21531" y="7942"/>
                  <a:pt x="21485" y="7968"/>
                  <a:pt x="21506" y="8235"/>
                </a:cubicBezTo>
                <a:cubicBezTo>
                  <a:pt x="21642" y="8226"/>
                  <a:pt x="22310" y="8027"/>
                  <a:pt x="22002" y="7739"/>
                </a:cubicBezTo>
                <a:cubicBezTo>
                  <a:pt x="21919" y="7714"/>
                  <a:pt x="21837" y="7690"/>
                  <a:pt x="21754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91080" y="2990880"/>
            <a:ext cx="312840" cy="26028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15255" y="8830"/>
                </a:moveTo>
                <a:cubicBezTo>
                  <a:pt x="15255" y="8939"/>
                  <a:pt x="15250" y="8966"/>
                  <a:pt x="15280" y="9029"/>
                </a:cubicBezTo>
                <a:cubicBezTo>
                  <a:pt x="15618" y="8867"/>
                  <a:pt x="15843" y="8561"/>
                  <a:pt x="16123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35080" y="4660920"/>
            <a:ext cx="430200" cy="71280"/>
          </a:xfrm>
          <a:custGeom>
            <a:avLst/>
            <a:gdLst/>
            <a:ahLst/>
            <a:rect l="l" t="t" r="r" b="b"/>
            <a:pathLst>
              <a:path w="1192" h="199">
                <a:moveTo>
                  <a:pt x="5655" y="13146"/>
                </a:moveTo>
                <a:cubicBezTo>
                  <a:pt x="6023" y="13067"/>
                  <a:pt x="6399" y="12999"/>
                  <a:pt x="6772" y="12948"/>
                </a:cubicBezTo>
                <a:cubicBezTo>
                  <a:pt x="6868" y="12948"/>
                  <a:pt x="6877" y="12964"/>
                  <a:pt x="6747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86200"/>
            <a:ext cx="18864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6201" y="13295"/>
                </a:moveTo>
                <a:cubicBezTo>
                  <a:pt x="6079" y="13350"/>
                  <a:pt x="6013" y="13353"/>
                  <a:pt x="5978" y="13494"/>
                </a:cubicBezTo>
                <a:cubicBezTo>
                  <a:pt x="5978" y="13510"/>
                  <a:pt x="5978" y="13527"/>
                  <a:pt x="5978" y="13543"/>
                </a:cubicBezTo>
                <a:cubicBezTo>
                  <a:pt x="6117" y="13543"/>
                  <a:pt x="6231" y="13483"/>
                  <a:pt x="6375" y="13494"/>
                </a:cubicBezTo>
                <a:cubicBezTo>
                  <a:pt x="6400" y="13502"/>
                  <a:pt x="6424" y="13511"/>
                  <a:pt x="6449" y="13519"/>
                </a:cubicBezTo>
                <a:cubicBezTo>
                  <a:pt x="6318" y="13752"/>
                  <a:pt x="6189" y="13737"/>
                  <a:pt x="5928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4732200"/>
            <a:ext cx="482760" cy="63720"/>
          </a:xfrm>
          <a:custGeom>
            <a:avLst/>
            <a:gdLst/>
            <a:ahLst/>
            <a:rect l="l" t="t" r="r" b="b"/>
            <a:pathLst>
              <a:path w="1340" h="175">
                <a:moveTo>
                  <a:pt x="3101" y="13320"/>
                </a:moveTo>
                <a:cubicBezTo>
                  <a:pt x="3404" y="13233"/>
                  <a:pt x="3730" y="13237"/>
                  <a:pt x="4043" y="13196"/>
                </a:cubicBezTo>
                <a:cubicBezTo>
                  <a:pt x="4265" y="13167"/>
                  <a:pt x="4461" y="13047"/>
                  <a:pt x="436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76200" y="488484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3746" y="13568"/>
                </a:moveTo>
                <a:cubicBezTo>
                  <a:pt x="3626" y="13635"/>
                  <a:pt x="3603" y="13630"/>
                  <a:pt x="3597" y="13767"/>
                </a:cubicBezTo>
                <a:cubicBezTo>
                  <a:pt x="3597" y="13783"/>
                  <a:pt x="3597" y="13800"/>
                  <a:pt x="3597" y="13816"/>
                </a:cubicBezTo>
                <a:cubicBezTo>
                  <a:pt x="3704" y="13836"/>
                  <a:pt x="3816" y="13802"/>
                  <a:pt x="3919" y="13841"/>
                </a:cubicBezTo>
                <a:cubicBezTo>
                  <a:pt x="3884" y="13974"/>
                  <a:pt x="3722" y="14173"/>
                  <a:pt x="3547" y="14015"/>
                </a:cubicBezTo>
                <a:cubicBezTo>
                  <a:pt x="3547" y="13990"/>
                  <a:pt x="3547" y="13965"/>
                  <a:pt x="3547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9920" y="4795920"/>
            <a:ext cx="187200" cy="79200"/>
          </a:xfrm>
          <a:custGeom>
            <a:avLst/>
            <a:gdLst/>
            <a:ahLst/>
            <a:rect l="l" t="t" r="r" b="b"/>
            <a:pathLst>
              <a:path w="522" h="224">
                <a:moveTo>
                  <a:pt x="3721" y="13543"/>
                </a:moveTo>
                <a:cubicBezTo>
                  <a:pt x="3870" y="13445"/>
                  <a:pt x="4045" y="13375"/>
                  <a:pt x="4217" y="13320"/>
                </a:cubicBezTo>
                <a:cubicBezTo>
                  <a:pt x="4252" y="13320"/>
                  <a:pt x="4251" y="13325"/>
                  <a:pt x="4192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44800" y="4276800"/>
            <a:ext cx="142920" cy="519120"/>
          </a:xfrm>
          <a:custGeom>
            <a:avLst/>
            <a:gdLst/>
            <a:ahLst/>
            <a:rect l="l" t="t" r="r" b="b"/>
            <a:pathLst>
              <a:path w="398" h="1440">
                <a:moveTo>
                  <a:pt x="5680" y="11906"/>
                </a:moveTo>
                <a:cubicBezTo>
                  <a:pt x="5768" y="11906"/>
                  <a:pt x="5805" y="12083"/>
                  <a:pt x="5854" y="12254"/>
                </a:cubicBezTo>
                <a:cubicBezTo>
                  <a:pt x="5955" y="12608"/>
                  <a:pt x="6002" y="12963"/>
                  <a:pt x="6077" y="13320"/>
                </a:cubicBezTo>
                <a:cubicBezTo>
                  <a:pt x="6077" y="13312"/>
                  <a:pt x="6077" y="13303"/>
                  <a:pt x="6077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7920" y="5143680"/>
            <a:ext cx="206280" cy="31248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6548" y="14709"/>
                </a:moveTo>
                <a:cubicBezTo>
                  <a:pt x="6548" y="14852"/>
                  <a:pt x="6566" y="14989"/>
                  <a:pt x="6573" y="15131"/>
                </a:cubicBezTo>
                <a:cubicBezTo>
                  <a:pt x="6573" y="15139"/>
                  <a:pt x="6573" y="15148"/>
                  <a:pt x="6573" y="15156"/>
                </a:cubicBezTo>
                <a:cubicBezTo>
                  <a:pt x="6538" y="14947"/>
                  <a:pt x="6445" y="14590"/>
                  <a:pt x="6623" y="14412"/>
                </a:cubicBezTo>
                <a:cubicBezTo>
                  <a:pt x="6699" y="14335"/>
                  <a:pt x="7123" y="14176"/>
                  <a:pt x="7045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4760" y="5232240"/>
            <a:ext cx="241200" cy="216000"/>
          </a:xfrm>
          <a:custGeom>
            <a:avLst/>
            <a:gdLst/>
            <a:ahLst/>
            <a:rect l="l" t="t" r="r" b="b"/>
            <a:pathLst>
              <a:path w="671" h="596">
                <a:moveTo>
                  <a:pt x="4291" y="14536"/>
                </a:moveTo>
                <a:cubicBezTo>
                  <a:pt x="4546" y="14536"/>
                  <a:pt x="4749" y="14543"/>
                  <a:pt x="4713" y="14883"/>
                </a:cubicBezTo>
                <a:cubicBezTo>
                  <a:pt x="4689" y="15111"/>
                  <a:pt x="4552" y="15106"/>
                  <a:pt x="4390" y="15106"/>
                </a:cubicBezTo>
                <a:cubicBezTo>
                  <a:pt x="4417" y="14875"/>
                  <a:pt x="4619" y="14828"/>
                  <a:pt x="4862" y="14957"/>
                </a:cubicBezTo>
                <a:cubicBezTo>
                  <a:pt x="4940" y="15035"/>
                  <a:pt x="4973" y="15038"/>
                  <a:pt x="4961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10320" y="3813120"/>
            <a:ext cx="61920" cy="179280"/>
          </a:xfrm>
          <a:custGeom>
            <a:avLst/>
            <a:gdLst/>
            <a:ahLst/>
            <a:rect l="l" t="t" r="r" b="b"/>
            <a:pathLst>
              <a:path w="174" h="497">
                <a:moveTo>
                  <a:pt x="21010" y="10592"/>
                </a:moveTo>
                <a:cubicBezTo>
                  <a:pt x="21088" y="10618"/>
                  <a:pt x="20969" y="10811"/>
                  <a:pt x="20960" y="10840"/>
                </a:cubicBezTo>
                <a:cubicBezTo>
                  <a:pt x="20931" y="10930"/>
                  <a:pt x="20912" y="11168"/>
                  <a:pt x="2086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53240" y="3795840"/>
            <a:ext cx="177840" cy="16956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1481" y="10542"/>
                </a:moveTo>
                <a:cubicBezTo>
                  <a:pt x="21701" y="10674"/>
                  <a:pt x="21927" y="10898"/>
                  <a:pt x="21506" y="11013"/>
                </a:cubicBezTo>
                <a:cubicBezTo>
                  <a:pt x="21440" y="11013"/>
                  <a:pt x="21373" y="11013"/>
                  <a:pt x="21307" y="11013"/>
                </a:cubicBezTo>
                <a:cubicBezTo>
                  <a:pt x="21248" y="10860"/>
                  <a:pt x="21545" y="10964"/>
                  <a:pt x="21654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81960" y="4081320"/>
            <a:ext cx="204840" cy="204840"/>
          </a:xfrm>
          <a:custGeom>
            <a:avLst/>
            <a:gdLst/>
            <a:ahLst/>
            <a:rect l="l" t="t" r="r" b="b"/>
            <a:pathLst>
              <a:path w="572" h="571">
                <a:moveTo>
                  <a:pt x="21506" y="11336"/>
                </a:moveTo>
                <a:cubicBezTo>
                  <a:pt x="21413" y="11397"/>
                  <a:pt x="21300" y="11370"/>
                  <a:pt x="21208" y="11410"/>
                </a:cubicBezTo>
                <a:cubicBezTo>
                  <a:pt x="21208" y="11456"/>
                  <a:pt x="21196" y="11483"/>
                  <a:pt x="21158" y="11509"/>
                </a:cubicBezTo>
                <a:cubicBezTo>
                  <a:pt x="21176" y="11619"/>
                  <a:pt x="21378" y="11543"/>
                  <a:pt x="21481" y="11584"/>
                </a:cubicBezTo>
                <a:cubicBezTo>
                  <a:pt x="21531" y="11617"/>
                  <a:pt x="21580" y="11650"/>
                  <a:pt x="21630" y="11683"/>
                </a:cubicBezTo>
                <a:cubicBezTo>
                  <a:pt x="21539" y="11974"/>
                  <a:pt x="21332" y="11894"/>
                  <a:pt x="2105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88120" y="4170240"/>
            <a:ext cx="36720" cy="6192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19968" y="11584"/>
                </a:moveTo>
                <a:cubicBezTo>
                  <a:pt x="20027" y="11682"/>
                  <a:pt x="20038" y="11697"/>
                  <a:pt x="20067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80200" y="4170240"/>
            <a:ext cx="27000" cy="54000"/>
          </a:xfrm>
          <a:custGeom>
            <a:avLst/>
            <a:gdLst/>
            <a:ahLst/>
            <a:rect l="l" t="t" r="r" b="b"/>
            <a:pathLst>
              <a:path w="75" h="150">
                <a:moveTo>
                  <a:pt x="20017" y="11584"/>
                </a:moveTo>
                <a:cubicBezTo>
                  <a:pt x="19992" y="11634"/>
                  <a:pt x="19968" y="11683"/>
                  <a:pt x="19943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80200" y="422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43" y="11733"/>
                </a:moveTo>
                <a:lnTo>
                  <a:pt x="19943" y="117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62840" y="4321080"/>
            <a:ext cx="893880" cy="63720"/>
          </a:xfrm>
          <a:custGeom>
            <a:avLst/>
            <a:gdLst/>
            <a:ahLst/>
            <a:rect l="l" t="t" r="r" b="b"/>
            <a:pathLst>
              <a:path w="2481" h="175">
                <a:moveTo>
                  <a:pt x="19621" y="12179"/>
                </a:moveTo>
                <a:cubicBezTo>
                  <a:pt x="20410" y="12059"/>
                  <a:pt x="21177" y="11980"/>
                  <a:pt x="21977" y="12030"/>
                </a:cubicBezTo>
                <a:cubicBezTo>
                  <a:pt x="22101" y="12055"/>
                  <a:pt x="22142" y="12063"/>
                  <a:pt x="21977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6240" y="4384800"/>
            <a:ext cx="169920" cy="23148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21580" y="12378"/>
                </a:moveTo>
                <a:cubicBezTo>
                  <a:pt x="21299" y="12448"/>
                  <a:pt x="21229" y="12525"/>
                  <a:pt x="21183" y="12799"/>
                </a:cubicBezTo>
                <a:cubicBezTo>
                  <a:pt x="21403" y="12807"/>
                  <a:pt x="21832" y="12767"/>
                  <a:pt x="21605" y="12402"/>
                </a:cubicBezTo>
                <a:cubicBezTo>
                  <a:pt x="21440" y="12285"/>
                  <a:pt x="21392" y="12250"/>
                  <a:pt x="21282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18240" y="3589200"/>
            <a:ext cx="27000" cy="1620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20960" y="9971"/>
                </a:moveTo>
                <a:cubicBezTo>
                  <a:pt x="20947" y="10121"/>
                  <a:pt x="20926" y="10275"/>
                  <a:pt x="20886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85040" y="444672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20588" y="12353"/>
                </a:moveTo>
                <a:cubicBezTo>
                  <a:pt x="20588" y="12487"/>
                  <a:pt x="20525" y="12614"/>
                  <a:pt x="20513" y="12750"/>
                </a:cubicBezTo>
                <a:cubicBezTo>
                  <a:pt x="20495" y="12960"/>
                  <a:pt x="20702" y="13149"/>
                  <a:pt x="20861" y="12898"/>
                </a:cubicBezTo>
                <a:cubicBezTo>
                  <a:pt x="20877" y="12832"/>
                  <a:pt x="20894" y="12766"/>
                  <a:pt x="20910" y="12700"/>
                </a:cubicBezTo>
                <a:cubicBezTo>
                  <a:pt x="20738" y="12524"/>
                  <a:pt x="20640" y="12828"/>
                  <a:pt x="20613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03840" y="4749840"/>
            <a:ext cx="357120" cy="31428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13345" y="13816"/>
                </a:moveTo>
                <a:cubicBezTo>
                  <a:pt x="13367" y="13913"/>
                  <a:pt x="13382" y="13973"/>
                  <a:pt x="13419" y="14064"/>
                </a:cubicBezTo>
                <a:cubicBezTo>
                  <a:pt x="13797" y="13902"/>
                  <a:pt x="14063" y="13502"/>
                  <a:pt x="14337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4n = 8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42 = 6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120 = 3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52360" y="2589120"/>
            <a:ext cx="1293840" cy="1027080"/>
          </a:xfrm>
          <a:custGeom>
            <a:avLst/>
            <a:gdLst/>
            <a:ahLst/>
            <a:rect l="l" t="t" r="r" b="b"/>
            <a:pathLst>
              <a:path w="3597" h="2854">
                <a:moveTo>
                  <a:pt x="5482" y="8409"/>
                </a:moveTo>
                <a:cubicBezTo>
                  <a:pt x="5606" y="8264"/>
                  <a:pt x="5794" y="8297"/>
                  <a:pt x="5978" y="8285"/>
                </a:cubicBezTo>
                <a:cubicBezTo>
                  <a:pt x="6253" y="8268"/>
                  <a:pt x="6521" y="8260"/>
                  <a:pt x="6796" y="8260"/>
                </a:cubicBezTo>
              </a:path>
              <a:path w="3597" h="2854">
                <a:moveTo>
                  <a:pt x="6077" y="8458"/>
                </a:moveTo>
                <a:cubicBezTo>
                  <a:pt x="6020" y="8629"/>
                  <a:pt x="6012" y="8777"/>
                  <a:pt x="6028" y="8954"/>
                </a:cubicBezTo>
                <a:cubicBezTo>
                  <a:pt x="6168" y="9020"/>
                  <a:pt x="6370" y="9004"/>
                  <a:pt x="6424" y="8781"/>
                </a:cubicBezTo>
                <a:cubicBezTo>
                  <a:pt x="6416" y="8756"/>
                  <a:pt x="6408" y="8731"/>
                  <a:pt x="6400" y="8706"/>
                </a:cubicBezTo>
                <a:cubicBezTo>
                  <a:pt x="6231" y="8694"/>
                  <a:pt x="6113" y="8783"/>
                  <a:pt x="6102" y="8979"/>
                </a:cubicBezTo>
                <a:cubicBezTo>
                  <a:pt x="6122" y="9040"/>
                  <a:pt x="6120" y="9075"/>
                  <a:pt x="6152" y="9029"/>
                </a:cubicBezTo>
              </a:path>
              <a:path w="3597" h="2854">
                <a:moveTo>
                  <a:pt x="5978" y="7218"/>
                </a:moveTo>
                <a:cubicBezTo>
                  <a:pt x="6029" y="7498"/>
                  <a:pt x="6055" y="7731"/>
                  <a:pt x="6102" y="8012"/>
                </a:cubicBezTo>
                <a:cubicBezTo>
                  <a:pt x="6133" y="8197"/>
                  <a:pt x="6153" y="8595"/>
                  <a:pt x="6226" y="8781"/>
                </a:cubicBezTo>
                <a:cubicBezTo>
                  <a:pt x="6251" y="8781"/>
                  <a:pt x="6259" y="8781"/>
                  <a:pt x="6251" y="8756"/>
                </a:cubicBezTo>
              </a:path>
              <a:path w="3597" h="2854">
                <a:moveTo>
                  <a:pt x="3200" y="8210"/>
                </a:moveTo>
                <a:cubicBezTo>
                  <a:pt x="3300" y="8137"/>
                  <a:pt x="3692" y="8172"/>
                  <a:pt x="3795" y="8161"/>
                </a:cubicBezTo>
                <a:cubicBezTo>
                  <a:pt x="3949" y="8144"/>
                  <a:pt x="4285" y="8042"/>
                  <a:pt x="4440" y="8136"/>
                </a:cubicBezTo>
              </a:path>
              <a:path w="3597" h="2854">
                <a:moveTo>
                  <a:pt x="3671" y="8235"/>
                </a:moveTo>
                <a:cubicBezTo>
                  <a:pt x="3671" y="8136"/>
                  <a:pt x="3671" y="8384"/>
                  <a:pt x="3671" y="8483"/>
                </a:cubicBezTo>
                <a:cubicBezTo>
                  <a:pt x="3671" y="8580"/>
                  <a:pt x="3680" y="8843"/>
                  <a:pt x="3845" y="8806"/>
                </a:cubicBezTo>
                <a:cubicBezTo>
                  <a:pt x="3976" y="8776"/>
                  <a:pt x="4087" y="8585"/>
                  <a:pt x="4068" y="8458"/>
                </a:cubicBezTo>
                <a:cubicBezTo>
                  <a:pt x="4060" y="8450"/>
                  <a:pt x="4051" y="8442"/>
                  <a:pt x="4043" y="8434"/>
                </a:cubicBezTo>
                <a:cubicBezTo>
                  <a:pt x="3909" y="8456"/>
                  <a:pt x="3870" y="8572"/>
                  <a:pt x="3870" y="8706"/>
                </a:cubicBezTo>
                <a:cubicBezTo>
                  <a:pt x="3878" y="8731"/>
                  <a:pt x="3886" y="8756"/>
                  <a:pt x="3894" y="8781"/>
                </a:cubicBezTo>
              </a:path>
              <a:path w="3597" h="2854">
                <a:moveTo>
                  <a:pt x="3944" y="9426"/>
                </a:moveTo>
                <a:cubicBezTo>
                  <a:pt x="3852" y="9426"/>
                  <a:pt x="4076" y="9415"/>
                  <a:pt x="4167" y="9401"/>
                </a:cubicBezTo>
                <a:cubicBezTo>
                  <a:pt x="4283" y="9382"/>
                  <a:pt x="4299" y="9373"/>
                  <a:pt x="4366" y="9376"/>
                </a:cubicBezTo>
                <a:cubicBezTo>
                  <a:pt x="4387" y="9574"/>
                  <a:pt x="4377" y="9749"/>
                  <a:pt x="4366" y="9947"/>
                </a:cubicBezTo>
                <a:cubicBezTo>
                  <a:pt x="4366" y="10021"/>
                  <a:pt x="4366" y="10079"/>
                  <a:pt x="4366" y="10021"/>
                </a:cubicBezTo>
              </a:path>
              <a:path w="3597" h="2854">
                <a:moveTo>
                  <a:pt x="4738" y="9575"/>
                </a:moveTo>
                <a:cubicBezTo>
                  <a:pt x="4810" y="9575"/>
                  <a:pt x="4867" y="9541"/>
                  <a:pt x="4936" y="9525"/>
                </a:cubicBezTo>
                <a:cubicBezTo>
                  <a:pt x="4944" y="9525"/>
                  <a:pt x="4953" y="9525"/>
                  <a:pt x="4961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17800" y="4241880"/>
            <a:ext cx="519120" cy="1411200"/>
          </a:xfrm>
          <a:custGeom>
            <a:avLst/>
            <a:gdLst/>
            <a:ahLst/>
            <a:rect l="l" t="t" r="r" b="b"/>
            <a:pathLst>
              <a:path w="1440" h="3920">
                <a:moveTo>
                  <a:pt x="6648" y="11832"/>
                </a:moveTo>
                <a:cubicBezTo>
                  <a:pt x="6648" y="11907"/>
                  <a:pt x="6644" y="11881"/>
                  <a:pt x="6648" y="11956"/>
                </a:cubicBezTo>
                <a:cubicBezTo>
                  <a:pt x="6674" y="12453"/>
                  <a:pt x="6749" y="12946"/>
                  <a:pt x="6772" y="13444"/>
                </a:cubicBezTo>
                <a:cubicBezTo>
                  <a:pt x="6778" y="13567"/>
                  <a:pt x="6772" y="13692"/>
                  <a:pt x="6772" y="13816"/>
                </a:cubicBezTo>
              </a:path>
              <a:path w="1440" h="3920">
                <a:moveTo>
                  <a:pt x="6548" y="14957"/>
                </a:moveTo>
                <a:cubicBezTo>
                  <a:pt x="6713" y="15077"/>
                  <a:pt x="6825" y="15247"/>
                  <a:pt x="6921" y="15429"/>
                </a:cubicBezTo>
                <a:cubicBezTo>
                  <a:pt x="6943" y="15496"/>
                  <a:pt x="6944" y="15524"/>
                  <a:pt x="6995" y="15478"/>
                </a:cubicBezTo>
              </a:path>
              <a:path w="1440" h="3920">
                <a:moveTo>
                  <a:pt x="7045" y="14808"/>
                </a:moveTo>
                <a:cubicBezTo>
                  <a:pt x="6837" y="15096"/>
                  <a:pt x="6598" y="16034"/>
                  <a:pt x="6474" y="15701"/>
                </a:cubicBezTo>
                <a:cubicBezTo>
                  <a:pt x="6482" y="15668"/>
                  <a:pt x="6491" y="15635"/>
                  <a:pt x="6499" y="15602"/>
                </a:cubicBezTo>
              </a:path>
              <a:path w="1440" h="3920">
                <a:moveTo>
                  <a:pt x="5606" y="15056"/>
                </a:moveTo>
                <a:cubicBezTo>
                  <a:pt x="5710" y="15025"/>
                  <a:pt x="5885" y="14980"/>
                  <a:pt x="5953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66960" y="333072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5184" y="9252"/>
                </a:moveTo>
                <a:cubicBezTo>
                  <a:pt x="5223" y="9429"/>
                  <a:pt x="5288" y="9629"/>
                  <a:pt x="5358" y="9798"/>
                </a:cubicBezTo>
                <a:cubicBezTo>
                  <a:pt x="5366" y="9806"/>
                  <a:pt x="5375" y="9815"/>
                  <a:pt x="5383" y="9823"/>
                </a:cubicBezTo>
                <a:cubicBezTo>
                  <a:pt x="5332" y="9684"/>
                  <a:pt x="5295" y="9466"/>
                  <a:pt x="5482" y="9401"/>
                </a:cubicBezTo>
                <a:cubicBezTo>
                  <a:pt x="5643" y="9345"/>
                  <a:pt x="5674" y="9632"/>
                  <a:pt x="5705" y="9723"/>
                </a:cubicBezTo>
                <a:cubicBezTo>
                  <a:pt x="5742" y="9832"/>
                  <a:pt x="5818" y="9886"/>
                  <a:pt x="5928" y="9823"/>
                </a:cubicBezTo>
                <a:cubicBezTo>
                  <a:pt x="5963" y="9788"/>
                  <a:pt x="5976" y="9766"/>
                  <a:pt x="5978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71720" y="4660920"/>
            <a:ext cx="1687320" cy="376200"/>
          </a:xfrm>
          <a:custGeom>
            <a:avLst/>
            <a:gdLst/>
            <a:ahLst/>
            <a:rect l="l" t="t" r="r" b="b"/>
            <a:pathLst>
              <a:path w="4689" h="1043">
                <a:moveTo>
                  <a:pt x="6251" y="12948"/>
                </a:moveTo>
                <a:cubicBezTo>
                  <a:pt x="6506" y="13034"/>
                  <a:pt x="6897" y="12962"/>
                  <a:pt x="7169" y="12973"/>
                </a:cubicBezTo>
                <a:cubicBezTo>
                  <a:pt x="7352" y="12980"/>
                  <a:pt x="7486" y="12893"/>
                  <a:pt x="7615" y="13022"/>
                </a:cubicBezTo>
              </a:path>
              <a:path w="4689" h="1043">
                <a:moveTo>
                  <a:pt x="6598" y="13345"/>
                </a:moveTo>
                <a:cubicBezTo>
                  <a:pt x="6641" y="13338"/>
                  <a:pt x="7015" y="13319"/>
                  <a:pt x="6970" y="13370"/>
                </a:cubicBezTo>
                <a:cubicBezTo>
                  <a:pt x="6850" y="13466"/>
                  <a:pt x="6812" y="13497"/>
                  <a:pt x="6722" y="13543"/>
                </a:cubicBezTo>
                <a:cubicBezTo>
                  <a:pt x="6857" y="13552"/>
                  <a:pt x="7192" y="13566"/>
                  <a:pt x="6921" y="13742"/>
                </a:cubicBezTo>
                <a:cubicBezTo>
                  <a:pt x="6748" y="13854"/>
                  <a:pt x="6589" y="13831"/>
                  <a:pt x="6400" y="13816"/>
                </a:cubicBezTo>
              </a:path>
              <a:path w="4689" h="1043">
                <a:moveTo>
                  <a:pt x="3001" y="13122"/>
                </a:moveTo>
                <a:cubicBezTo>
                  <a:pt x="3224" y="13122"/>
                  <a:pt x="3399" y="13113"/>
                  <a:pt x="3621" y="13097"/>
                </a:cubicBezTo>
                <a:cubicBezTo>
                  <a:pt x="3959" y="13073"/>
                  <a:pt x="4600" y="13029"/>
                  <a:pt x="4862" y="13022"/>
                </a:cubicBezTo>
              </a:path>
              <a:path w="4689" h="1043">
                <a:moveTo>
                  <a:pt x="3572" y="13444"/>
                </a:moveTo>
                <a:cubicBezTo>
                  <a:pt x="3656" y="13439"/>
                  <a:pt x="4041" y="13338"/>
                  <a:pt x="4093" y="13419"/>
                </a:cubicBezTo>
                <a:cubicBezTo>
                  <a:pt x="4135" y="13484"/>
                  <a:pt x="3798" y="13694"/>
                  <a:pt x="3746" y="13742"/>
                </a:cubicBezTo>
                <a:cubicBezTo>
                  <a:pt x="3891" y="13711"/>
                  <a:pt x="3997" y="13704"/>
                  <a:pt x="4142" y="13717"/>
                </a:cubicBezTo>
                <a:cubicBezTo>
                  <a:pt x="4025" y="13909"/>
                  <a:pt x="3832" y="13984"/>
                  <a:pt x="3597" y="13990"/>
                </a:cubicBezTo>
                <a:cubicBezTo>
                  <a:pt x="3511" y="13947"/>
                  <a:pt x="3523" y="13911"/>
                  <a:pt x="3671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57200" y="5303880"/>
            <a:ext cx="37476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3795" y="14734"/>
                </a:moveTo>
                <a:cubicBezTo>
                  <a:pt x="3795" y="14845"/>
                  <a:pt x="3781" y="14946"/>
                  <a:pt x="3770" y="15056"/>
                </a:cubicBezTo>
                <a:cubicBezTo>
                  <a:pt x="3770" y="15073"/>
                  <a:pt x="3770" y="15089"/>
                  <a:pt x="3770" y="15106"/>
                </a:cubicBezTo>
                <a:cubicBezTo>
                  <a:pt x="3958" y="15106"/>
                  <a:pt x="4043" y="15091"/>
                  <a:pt x="4192" y="14982"/>
                </a:cubicBezTo>
              </a:path>
              <a:path w="1043" h="696">
                <a:moveTo>
                  <a:pt x="4142" y="14734"/>
                </a:moveTo>
                <a:cubicBezTo>
                  <a:pt x="4131" y="14912"/>
                  <a:pt x="4005" y="15211"/>
                  <a:pt x="4043" y="15379"/>
                </a:cubicBezTo>
                <a:cubicBezTo>
                  <a:pt x="4060" y="15371"/>
                  <a:pt x="4076" y="15362"/>
                  <a:pt x="4093" y="15354"/>
                </a:cubicBezTo>
              </a:path>
              <a:path w="1043" h="696">
                <a:moveTo>
                  <a:pt x="4465" y="14908"/>
                </a:moveTo>
                <a:cubicBezTo>
                  <a:pt x="4358" y="15153"/>
                  <a:pt x="4318" y="15191"/>
                  <a:pt x="4390" y="15429"/>
                </a:cubicBezTo>
                <a:cubicBezTo>
                  <a:pt x="4555" y="15376"/>
                  <a:pt x="5038" y="15164"/>
                  <a:pt x="4713" y="14932"/>
                </a:cubicBezTo>
                <a:cubicBezTo>
                  <a:pt x="4595" y="14913"/>
                  <a:pt x="4531" y="14933"/>
                  <a:pt x="4589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04960" y="2554200"/>
            <a:ext cx="4403880" cy="2938680"/>
          </a:xfrm>
          <a:custGeom>
            <a:avLst/>
            <a:gdLst/>
            <a:ahLst/>
            <a:rect l="l" t="t" r="r" b="b"/>
            <a:pathLst>
              <a:path w="12229" h="8162">
                <a:moveTo>
                  <a:pt x="5581" y="15255"/>
                </a:moveTo>
                <a:cubicBezTo>
                  <a:pt x="5720" y="15236"/>
                  <a:pt x="5847" y="15224"/>
                  <a:pt x="5978" y="15180"/>
                </a:cubicBezTo>
              </a:path>
              <a:path w="12229" h="8162">
                <a:moveTo>
                  <a:pt x="4738" y="9798"/>
                </a:moveTo>
                <a:cubicBezTo>
                  <a:pt x="4844" y="9767"/>
                  <a:pt x="4970" y="9743"/>
                  <a:pt x="5060" y="9699"/>
                </a:cubicBezTo>
              </a:path>
              <a:path w="12229" h="8162">
                <a:moveTo>
                  <a:pt x="15751" y="7169"/>
                </a:moveTo>
                <a:cubicBezTo>
                  <a:pt x="15913" y="7159"/>
                  <a:pt x="16064" y="7119"/>
                  <a:pt x="16222" y="7094"/>
                </a:cubicBezTo>
              </a:path>
              <a:path w="12229" h="8162">
                <a:moveTo>
                  <a:pt x="16470" y="13320"/>
                </a:moveTo>
                <a:cubicBezTo>
                  <a:pt x="16510" y="13420"/>
                  <a:pt x="16515" y="13438"/>
                  <a:pt x="16545" y="13494"/>
                </a:cubicBezTo>
                <a:cubicBezTo>
                  <a:pt x="16706" y="13266"/>
                  <a:pt x="16834" y="13044"/>
                  <a:pt x="16966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6040" y="4152960"/>
            <a:ext cx="3205080" cy="704880"/>
          </a:xfrm>
          <a:custGeom>
            <a:avLst/>
            <a:gdLst/>
            <a:ahLst/>
            <a:rect l="l" t="t" r="r" b="b"/>
            <a:pathLst>
              <a:path w="8906" h="1961">
                <a:moveTo>
                  <a:pt x="11237" y="12824"/>
                </a:moveTo>
                <a:cubicBezTo>
                  <a:pt x="11012" y="13086"/>
                  <a:pt x="11010" y="13098"/>
                  <a:pt x="11038" y="13444"/>
                </a:cubicBezTo>
                <a:cubicBezTo>
                  <a:pt x="11209" y="13444"/>
                  <a:pt x="11903" y="13234"/>
                  <a:pt x="11559" y="12898"/>
                </a:cubicBezTo>
                <a:cubicBezTo>
                  <a:pt x="11328" y="12847"/>
                  <a:pt x="11246" y="12832"/>
                  <a:pt x="11088" y="12898"/>
                </a:cubicBezTo>
              </a:path>
              <a:path w="8906" h="1961">
                <a:moveTo>
                  <a:pt x="16942" y="11534"/>
                </a:moveTo>
                <a:cubicBezTo>
                  <a:pt x="16867" y="11851"/>
                  <a:pt x="16680" y="12326"/>
                  <a:pt x="16892" y="12626"/>
                </a:cubicBezTo>
                <a:cubicBezTo>
                  <a:pt x="17000" y="12679"/>
                  <a:pt x="17040" y="12689"/>
                  <a:pt x="17090" y="12576"/>
                </a:cubicBezTo>
              </a:path>
              <a:path w="8906" h="1961">
                <a:moveTo>
                  <a:pt x="17264" y="11832"/>
                </a:moveTo>
                <a:cubicBezTo>
                  <a:pt x="17243" y="11995"/>
                  <a:pt x="17169" y="12254"/>
                  <a:pt x="17438" y="12154"/>
                </a:cubicBezTo>
                <a:cubicBezTo>
                  <a:pt x="17479" y="12129"/>
                  <a:pt x="17521" y="12105"/>
                  <a:pt x="17562" y="12080"/>
                </a:cubicBezTo>
              </a:path>
              <a:path w="8906" h="1961">
                <a:moveTo>
                  <a:pt x="17438" y="11733"/>
                </a:moveTo>
                <a:cubicBezTo>
                  <a:pt x="17404" y="11969"/>
                  <a:pt x="17411" y="12198"/>
                  <a:pt x="17388" y="12427"/>
                </a:cubicBezTo>
              </a:path>
              <a:path w="8906" h="1961">
                <a:moveTo>
                  <a:pt x="18678" y="11931"/>
                </a:moveTo>
                <a:cubicBezTo>
                  <a:pt x="18818" y="11903"/>
                  <a:pt x="18959" y="11881"/>
                  <a:pt x="19100" y="11857"/>
                </a:cubicBezTo>
              </a:path>
              <a:path w="8906" h="1961">
                <a:moveTo>
                  <a:pt x="18827" y="12154"/>
                </a:moveTo>
                <a:cubicBezTo>
                  <a:pt x="18962" y="12111"/>
                  <a:pt x="19085" y="12072"/>
                  <a:pt x="19224" y="12055"/>
                </a:cubicBezTo>
              </a:path>
              <a:path w="8906" h="1961">
                <a:moveTo>
                  <a:pt x="19745" y="11534"/>
                </a:moveTo>
                <a:cubicBezTo>
                  <a:pt x="19794" y="11716"/>
                  <a:pt x="19845" y="11897"/>
                  <a:pt x="19893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69000" y="4232160"/>
            <a:ext cx="196920" cy="2606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148" y="11807"/>
                </a:moveTo>
                <a:cubicBezTo>
                  <a:pt x="16209" y="11798"/>
                  <a:pt x="16463" y="11691"/>
                  <a:pt x="16470" y="11807"/>
                </a:cubicBezTo>
                <a:cubicBezTo>
                  <a:pt x="16417" y="11968"/>
                  <a:pt x="16391" y="12025"/>
                  <a:pt x="16272" y="12080"/>
                </a:cubicBezTo>
                <a:cubicBezTo>
                  <a:pt x="16264" y="12088"/>
                  <a:pt x="16255" y="12097"/>
                  <a:pt x="16247" y="12105"/>
                </a:cubicBezTo>
                <a:cubicBezTo>
                  <a:pt x="16434" y="12128"/>
                  <a:pt x="16798" y="12226"/>
                  <a:pt x="16421" y="12427"/>
                </a:cubicBezTo>
                <a:cubicBezTo>
                  <a:pt x="16210" y="12474"/>
                  <a:pt x="16148" y="12496"/>
                  <a:pt x="16024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84960" y="4044960"/>
            <a:ext cx="223920" cy="519120"/>
          </a:xfrm>
          <a:custGeom>
            <a:avLst/>
            <a:gdLst/>
            <a:ahLst/>
            <a:rect l="l" t="t" r="r" b="b"/>
            <a:pathLst>
              <a:path w="621" h="1439">
                <a:moveTo>
                  <a:pt x="17859" y="11832"/>
                </a:moveTo>
                <a:cubicBezTo>
                  <a:pt x="17859" y="11691"/>
                  <a:pt x="17726" y="12038"/>
                  <a:pt x="17735" y="12179"/>
                </a:cubicBezTo>
                <a:cubicBezTo>
                  <a:pt x="17760" y="12229"/>
                  <a:pt x="17785" y="12278"/>
                  <a:pt x="17810" y="12328"/>
                </a:cubicBezTo>
                <a:cubicBezTo>
                  <a:pt x="18051" y="12259"/>
                  <a:pt x="18215" y="12104"/>
                  <a:pt x="17934" y="11906"/>
                </a:cubicBezTo>
                <a:cubicBezTo>
                  <a:pt x="17893" y="11890"/>
                  <a:pt x="17851" y="11873"/>
                  <a:pt x="17810" y="11857"/>
                </a:cubicBezTo>
              </a:path>
              <a:path w="621" h="1439">
                <a:moveTo>
                  <a:pt x="17835" y="11237"/>
                </a:moveTo>
                <a:cubicBezTo>
                  <a:pt x="18045" y="11574"/>
                  <a:pt x="18314" y="11889"/>
                  <a:pt x="18355" y="12303"/>
                </a:cubicBezTo>
                <a:cubicBezTo>
                  <a:pt x="18389" y="12642"/>
                  <a:pt x="18199" y="12634"/>
                  <a:pt x="1798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97840" y="4106880"/>
            <a:ext cx="455400" cy="27792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20067" y="11559"/>
                </a:moveTo>
                <a:cubicBezTo>
                  <a:pt x="20288" y="11666"/>
                  <a:pt x="20629" y="11899"/>
                  <a:pt x="20265" y="12129"/>
                </a:cubicBezTo>
                <a:cubicBezTo>
                  <a:pt x="20099" y="12171"/>
                  <a:pt x="20057" y="12211"/>
                  <a:pt x="19993" y="12105"/>
                </a:cubicBezTo>
                <a:cubicBezTo>
                  <a:pt x="20168" y="11941"/>
                  <a:pt x="20282" y="12025"/>
                  <a:pt x="20513" y="12129"/>
                </a:cubicBezTo>
              </a:path>
              <a:path w="1266" h="770">
                <a:moveTo>
                  <a:pt x="20861" y="11559"/>
                </a:moveTo>
                <a:cubicBezTo>
                  <a:pt x="20752" y="11777"/>
                  <a:pt x="20706" y="11826"/>
                  <a:pt x="20762" y="11981"/>
                </a:cubicBezTo>
                <a:cubicBezTo>
                  <a:pt x="20992" y="11998"/>
                  <a:pt x="21414" y="11903"/>
                  <a:pt x="21233" y="11534"/>
                </a:cubicBezTo>
                <a:cubicBezTo>
                  <a:pt x="21070" y="11398"/>
                  <a:pt x="21002" y="11357"/>
                  <a:pt x="20836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47880" y="1465200"/>
            <a:ext cx="2162160" cy="3776760"/>
          </a:xfrm>
          <a:custGeom>
            <a:avLst/>
            <a:gdLst/>
            <a:ahLst/>
            <a:rect l="l" t="t" r="r" b="b"/>
            <a:pathLst>
              <a:path w="6003" h="10493">
                <a:moveTo>
                  <a:pt x="10691" y="11609"/>
                </a:moveTo>
                <a:cubicBezTo>
                  <a:pt x="10664" y="11943"/>
                  <a:pt x="10657" y="12262"/>
                  <a:pt x="10542" y="12576"/>
                </a:cubicBezTo>
              </a:path>
              <a:path w="6003" h="10493">
                <a:moveTo>
                  <a:pt x="9426" y="14163"/>
                </a:moveTo>
                <a:cubicBezTo>
                  <a:pt x="9585" y="14137"/>
                  <a:pt x="9644" y="14127"/>
                  <a:pt x="9748" y="14089"/>
                </a:cubicBezTo>
              </a:path>
              <a:path w="6003" h="10493">
                <a:moveTo>
                  <a:pt x="9426" y="14560"/>
                </a:moveTo>
                <a:cubicBezTo>
                  <a:pt x="9947" y="14460"/>
                  <a:pt x="10605" y="14218"/>
                  <a:pt x="11137" y="14337"/>
                </a:cubicBezTo>
                <a:cubicBezTo>
                  <a:pt x="11112" y="14345"/>
                  <a:pt x="11088" y="14354"/>
                  <a:pt x="11063" y="14362"/>
                </a:cubicBezTo>
              </a:path>
              <a:path w="6003" h="10493">
                <a:moveTo>
                  <a:pt x="6598" y="4068"/>
                </a:moveTo>
                <a:lnTo>
                  <a:pt x="6598" y="4068"/>
                </a:lnTo>
              </a:path>
              <a:path w="6003" h="10493">
                <a:moveTo>
                  <a:pt x="5135" y="4961"/>
                </a:moveTo>
                <a:cubicBezTo>
                  <a:pt x="5297" y="4931"/>
                  <a:pt x="5363" y="4873"/>
                  <a:pt x="5482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08160" y="1535040"/>
            <a:ext cx="347760" cy="270000"/>
          </a:xfrm>
          <a:custGeom>
            <a:avLst/>
            <a:gdLst/>
            <a:ahLst/>
            <a:rect l="l" t="t" r="r" b="b"/>
            <a:pathLst>
              <a:path w="968" h="746">
                <a:moveTo>
                  <a:pt x="5854" y="4465"/>
                </a:moveTo>
                <a:cubicBezTo>
                  <a:pt x="6019" y="4432"/>
                  <a:pt x="6296" y="4499"/>
                  <a:pt x="6300" y="4738"/>
                </a:cubicBezTo>
                <a:cubicBezTo>
                  <a:pt x="6304" y="4972"/>
                  <a:pt x="6083" y="4983"/>
                  <a:pt x="5928" y="5011"/>
                </a:cubicBezTo>
                <a:cubicBezTo>
                  <a:pt x="5907" y="4818"/>
                  <a:pt x="6035" y="4590"/>
                  <a:pt x="6276" y="4787"/>
                </a:cubicBezTo>
                <a:cubicBezTo>
                  <a:pt x="6400" y="4889"/>
                  <a:pt x="6304" y="5009"/>
                  <a:pt x="6400" y="4961"/>
                </a:cubicBezTo>
              </a:path>
              <a:path w="968" h="746">
                <a:moveTo>
                  <a:pt x="6474" y="4440"/>
                </a:moveTo>
                <a:cubicBezTo>
                  <a:pt x="6403" y="4740"/>
                  <a:pt x="6343" y="4756"/>
                  <a:pt x="6524" y="4961"/>
                </a:cubicBezTo>
                <a:cubicBezTo>
                  <a:pt x="6753" y="4867"/>
                  <a:pt x="6942" y="4628"/>
                  <a:pt x="6772" y="4341"/>
                </a:cubicBezTo>
                <a:cubicBezTo>
                  <a:pt x="6631" y="4256"/>
                  <a:pt x="6570" y="4235"/>
                  <a:pt x="6449" y="43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43160" y="4205160"/>
            <a:ext cx="1206720" cy="1768680"/>
          </a:xfrm>
          <a:custGeom>
            <a:avLst/>
            <a:gdLst/>
            <a:ahLst/>
            <a:rect l="l" t="t" r="r" b="b"/>
            <a:pathLst>
              <a:path w="3350" h="4912">
                <a:moveTo>
                  <a:pt x="9823" y="12874"/>
                </a:moveTo>
                <a:cubicBezTo>
                  <a:pt x="9823" y="13091"/>
                  <a:pt x="9787" y="13465"/>
                  <a:pt x="9872" y="13494"/>
                </a:cubicBezTo>
              </a:path>
              <a:path w="3350" h="4912">
                <a:moveTo>
                  <a:pt x="10344" y="12849"/>
                </a:moveTo>
                <a:cubicBezTo>
                  <a:pt x="10583" y="13022"/>
                  <a:pt x="11027" y="13385"/>
                  <a:pt x="10443" y="13519"/>
                </a:cubicBezTo>
                <a:cubicBezTo>
                  <a:pt x="10274" y="13498"/>
                  <a:pt x="10221" y="13516"/>
                  <a:pt x="10195" y="13395"/>
                </a:cubicBezTo>
                <a:cubicBezTo>
                  <a:pt x="10509" y="13279"/>
                  <a:pt x="10592" y="13272"/>
                  <a:pt x="10790" y="13568"/>
                </a:cubicBezTo>
              </a:path>
              <a:path w="3350" h="4912">
                <a:moveTo>
                  <a:pt x="9773" y="13891"/>
                </a:moveTo>
                <a:cubicBezTo>
                  <a:pt x="9744" y="13593"/>
                  <a:pt x="9741" y="13297"/>
                  <a:pt x="9723" y="12998"/>
                </a:cubicBezTo>
                <a:cubicBezTo>
                  <a:pt x="9713" y="12827"/>
                  <a:pt x="9687" y="12781"/>
                  <a:pt x="9649" y="12650"/>
                </a:cubicBezTo>
                <a:cubicBezTo>
                  <a:pt x="9981" y="12637"/>
                  <a:pt x="10309" y="12603"/>
                  <a:pt x="10641" y="12576"/>
                </a:cubicBezTo>
                <a:cubicBezTo>
                  <a:pt x="10989" y="12547"/>
                  <a:pt x="11773" y="12378"/>
                  <a:pt x="12080" y="12526"/>
                </a:cubicBezTo>
                <a:cubicBezTo>
                  <a:pt x="12030" y="12543"/>
                  <a:pt x="11981" y="12559"/>
                  <a:pt x="11931" y="12576"/>
                </a:cubicBezTo>
              </a:path>
              <a:path w="3350" h="4912">
                <a:moveTo>
                  <a:pt x="8905" y="12998"/>
                </a:moveTo>
                <a:cubicBezTo>
                  <a:pt x="8993" y="12989"/>
                  <a:pt x="9232" y="12889"/>
                  <a:pt x="9227" y="13047"/>
                </a:cubicBezTo>
                <a:cubicBezTo>
                  <a:pt x="9170" y="13163"/>
                  <a:pt x="9137" y="13204"/>
                  <a:pt x="9029" y="13221"/>
                </a:cubicBezTo>
                <a:cubicBezTo>
                  <a:pt x="8996" y="13229"/>
                  <a:pt x="8963" y="13238"/>
                  <a:pt x="8930" y="13246"/>
                </a:cubicBezTo>
                <a:cubicBezTo>
                  <a:pt x="9116" y="13246"/>
                  <a:pt x="9092" y="13259"/>
                  <a:pt x="9277" y="13320"/>
                </a:cubicBezTo>
                <a:cubicBezTo>
                  <a:pt x="9236" y="13458"/>
                  <a:pt x="8935" y="13840"/>
                  <a:pt x="8731" y="13618"/>
                </a:cubicBezTo>
                <a:cubicBezTo>
                  <a:pt x="8739" y="13577"/>
                  <a:pt x="8748" y="13535"/>
                  <a:pt x="8756" y="13494"/>
                </a:cubicBezTo>
              </a:path>
              <a:path w="3350" h="4912">
                <a:moveTo>
                  <a:pt x="10319" y="12055"/>
                </a:moveTo>
                <a:cubicBezTo>
                  <a:pt x="10293" y="12120"/>
                  <a:pt x="10242" y="12177"/>
                  <a:pt x="10220" y="12254"/>
                </a:cubicBezTo>
                <a:cubicBezTo>
                  <a:pt x="10421" y="12240"/>
                  <a:pt x="10535" y="12216"/>
                  <a:pt x="10716" y="12129"/>
                </a:cubicBezTo>
              </a:path>
              <a:path w="3350" h="4912">
                <a:moveTo>
                  <a:pt x="9847" y="13742"/>
                </a:moveTo>
                <a:cubicBezTo>
                  <a:pt x="9882" y="13742"/>
                  <a:pt x="9900" y="13737"/>
                  <a:pt x="9922" y="13717"/>
                </a:cubicBezTo>
                <a:cubicBezTo>
                  <a:pt x="9969" y="13905"/>
                  <a:pt x="9958" y="14026"/>
                  <a:pt x="9922" y="14213"/>
                </a:cubicBezTo>
                <a:cubicBezTo>
                  <a:pt x="9922" y="14221"/>
                  <a:pt x="9922" y="14230"/>
                  <a:pt x="9922" y="14238"/>
                </a:cubicBezTo>
              </a:path>
              <a:path w="3350" h="4912">
                <a:moveTo>
                  <a:pt x="10294" y="13816"/>
                </a:moveTo>
                <a:cubicBezTo>
                  <a:pt x="10428" y="13816"/>
                  <a:pt x="10606" y="13842"/>
                  <a:pt x="10666" y="13990"/>
                </a:cubicBezTo>
                <a:cubicBezTo>
                  <a:pt x="10799" y="14319"/>
                  <a:pt x="10409" y="14329"/>
                  <a:pt x="10220" y="14312"/>
                </a:cubicBezTo>
                <a:cubicBezTo>
                  <a:pt x="10256" y="14165"/>
                  <a:pt x="10433" y="13980"/>
                  <a:pt x="10616" y="14163"/>
                </a:cubicBezTo>
                <a:cubicBezTo>
                  <a:pt x="10655" y="14240"/>
                  <a:pt x="10689" y="14256"/>
                  <a:pt x="10641" y="14288"/>
                </a:cubicBezTo>
              </a:path>
              <a:path w="3350" h="4912">
                <a:moveTo>
                  <a:pt x="10567" y="14684"/>
                </a:moveTo>
                <a:cubicBezTo>
                  <a:pt x="10479" y="14762"/>
                  <a:pt x="10093" y="15103"/>
                  <a:pt x="10393" y="15205"/>
                </a:cubicBezTo>
                <a:cubicBezTo>
                  <a:pt x="10607" y="15277"/>
                  <a:pt x="10922" y="15007"/>
                  <a:pt x="10716" y="14808"/>
                </a:cubicBezTo>
                <a:cubicBezTo>
                  <a:pt x="10616" y="14768"/>
                  <a:pt x="10598" y="14741"/>
                  <a:pt x="10542" y="14784"/>
                </a:cubicBezTo>
              </a:path>
              <a:path w="3350" h="4912">
                <a:moveTo>
                  <a:pt x="11261" y="13692"/>
                </a:moveTo>
                <a:cubicBezTo>
                  <a:pt x="11246" y="13884"/>
                  <a:pt x="11237" y="14070"/>
                  <a:pt x="11237" y="14263"/>
                </a:cubicBezTo>
              </a:path>
              <a:path w="3350" h="4912">
                <a:moveTo>
                  <a:pt x="11088" y="14163"/>
                </a:moveTo>
                <a:cubicBezTo>
                  <a:pt x="11116" y="14237"/>
                  <a:pt x="11141" y="14298"/>
                  <a:pt x="11187" y="14362"/>
                </a:cubicBezTo>
                <a:cubicBezTo>
                  <a:pt x="11270" y="14255"/>
                  <a:pt x="11359" y="14148"/>
                  <a:pt x="11435" y="14039"/>
                </a:cubicBezTo>
                <a:cubicBezTo>
                  <a:pt x="11461" y="14056"/>
                  <a:pt x="11483" y="14115"/>
                  <a:pt x="11509" y="14163"/>
                </a:cubicBezTo>
              </a:path>
              <a:path w="3350" h="4912">
                <a:moveTo>
                  <a:pt x="11311" y="14660"/>
                </a:moveTo>
                <a:cubicBezTo>
                  <a:pt x="11264" y="14603"/>
                  <a:pt x="11262" y="14613"/>
                  <a:pt x="11187" y="14585"/>
                </a:cubicBezTo>
                <a:cubicBezTo>
                  <a:pt x="11000" y="14758"/>
                  <a:pt x="10971" y="14864"/>
                  <a:pt x="11013" y="15106"/>
                </a:cubicBezTo>
                <a:cubicBezTo>
                  <a:pt x="11168" y="15094"/>
                  <a:pt x="11587" y="14973"/>
                  <a:pt x="11361" y="14709"/>
                </a:cubicBezTo>
                <a:cubicBezTo>
                  <a:pt x="11262" y="14684"/>
                  <a:pt x="11230" y="14676"/>
                  <a:pt x="11162" y="14684"/>
                </a:cubicBezTo>
              </a:path>
              <a:path w="3350" h="4912">
                <a:moveTo>
                  <a:pt x="11162" y="11832"/>
                </a:moveTo>
                <a:cubicBezTo>
                  <a:pt x="11237" y="11807"/>
                  <a:pt x="11123" y="11763"/>
                  <a:pt x="11088" y="11757"/>
                </a:cubicBezTo>
                <a:cubicBezTo>
                  <a:pt x="10893" y="11726"/>
                  <a:pt x="10756" y="12104"/>
                  <a:pt x="10790" y="12254"/>
                </a:cubicBezTo>
                <a:cubicBezTo>
                  <a:pt x="10823" y="12295"/>
                  <a:pt x="10856" y="12337"/>
                  <a:pt x="10889" y="12378"/>
                </a:cubicBezTo>
                <a:cubicBezTo>
                  <a:pt x="11124" y="12293"/>
                  <a:pt x="11397" y="12148"/>
                  <a:pt x="11286" y="11832"/>
                </a:cubicBezTo>
                <a:cubicBezTo>
                  <a:pt x="11234" y="11685"/>
                  <a:pt x="11032" y="11629"/>
                  <a:pt x="10914" y="11733"/>
                </a:cubicBezTo>
                <a:cubicBezTo>
                  <a:pt x="10914" y="11773"/>
                  <a:pt x="10903" y="11792"/>
                  <a:pt x="10864" y="11807"/>
                </a:cubicBezTo>
              </a:path>
              <a:path w="3350" h="4912">
                <a:moveTo>
                  <a:pt x="10071" y="15528"/>
                </a:moveTo>
                <a:cubicBezTo>
                  <a:pt x="10259" y="15496"/>
                  <a:pt x="10446" y="15503"/>
                  <a:pt x="10641" y="15503"/>
                </a:cubicBezTo>
              </a:path>
              <a:path w="3350" h="4912">
                <a:moveTo>
                  <a:pt x="11435" y="15404"/>
                </a:moveTo>
                <a:cubicBezTo>
                  <a:pt x="11230" y="15430"/>
                  <a:pt x="11224" y="15500"/>
                  <a:pt x="11162" y="15677"/>
                </a:cubicBezTo>
                <a:cubicBezTo>
                  <a:pt x="11393" y="15783"/>
                  <a:pt x="11403" y="15776"/>
                  <a:pt x="11633" y="15652"/>
                </a:cubicBezTo>
                <a:cubicBezTo>
                  <a:pt x="11606" y="15547"/>
                  <a:pt x="11416" y="15148"/>
                  <a:pt x="11212" y="15354"/>
                </a:cubicBezTo>
                <a:cubicBezTo>
                  <a:pt x="11220" y="15379"/>
                  <a:pt x="11229" y="15404"/>
                  <a:pt x="11237" y="15429"/>
                </a:cubicBezTo>
              </a:path>
              <a:path w="3350" h="4912">
                <a:moveTo>
                  <a:pt x="10393" y="16148"/>
                </a:moveTo>
                <a:cubicBezTo>
                  <a:pt x="10900" y="16039"/>
                  <a:pt x="11415" y="15941"/>
                  <a:pt x="11931" y="15875"/>
                </a:cubicBezTo>
                <a:cubicBezTo>
                  <a:pt x="11956" y="15875"/>
                  <a:pt x="11980" y="15875"/>
                  <a:pt x="12005" y="15875"/>
                </a:cubicBezTo>
              </a:path>
              <a:path w="3350" h="4912">
                <a:moveTo>
                  <a:pt x="11683" y="16148"/>
                </a:moveTo>
                <a:cubicBezTo>
                  <a:pt x="11534" y="16275"/>
                  <a:pt x="11459" y="16347"/>
                  <a:pt x="11385" y="16520"/>
                </a:cubicBezTo>
                <a:cubicBezTo>
                  <a:pt x="11559" y="16607"/>
                  <a:pt x="11879" y="16555"/>
                  <a:pt x="11807" y="16247"/>
                </a:cubicBezTo>
                <a:cubicBezTo>
                  <a:pt x="11773" y="16101"/>
                  <a:pt x="11580" y="16145"/>
                  <a:pt x="11485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02120" y="2401920"/>
            <a:ext cx="1384560" cy="669960"/>
          </a:xfrm>
          <a:custGeom>
            <a:avLst/>
            <a:gdLst/>
            <a:ahLst/>
            <a:rect l="l" t="t" r="r" b="b"/>
            <a:pathLst>
              <a:path w="3845" h="1862">
                <a:moveTo>
                  <a:pt x="13742" y="7045"/>
                </a:moveTo>
                <a:cubicBezTo>
                  <a:pt x="13674" y="7328"/>
                  <a:pt x="13617" y="7529"/>
                  <a:pt x="13667" y="7813"/>
                </a:cubicBezTo>
                <a:cubicBezTo>
                  <a:pt x="13976" y="7765"/>
                  <a:pt x="14130" y="7725"/>
                  <a:pt x="14163" y="7392"/>
                </a:cubicBezTo>
                <a:cubicBezTo>
                  <a:pt x="13967" y="7515"/>
                  <a:pt x="13821" y="7642"/>
                  <a:pt x="14064" y="7739"/>
                </a:cubicBezTo>
              </a:path>
              <a:path w="3845" h="1862">
                <a:moveTo>
                  <a:pt x="14511" y="6846"/>
                </a:moveTo>
                <a:cubicBezTo>
                  <a:pt x="14469" y="7095"/>
                  <a:pt x="14349" y="7386"/>
                  <a:pt x="14436" y="7640"/>
                </a:cubicBezTo>
                <a:cubicBezTo>
                  <a:pt x="14469" y="7673"/>
                  <a:pt x="14503" y="7706"/>
                  <a:pt x="14536" y="7739"/>
                </a:cubicBezTo>
              </a:path>
              <a:path w="3845" h="1862">
                <a:moveTo>
                  <a:pt x="14511" y="7045"/>
                </a:moveTo>
                <a:cubicBezTo>
                  <a:pt x="14681" y="7045"/>
                  <a:pt x="14840" y="7042"/>
                  <a:pt x="15007" y="7020"/>
                </a:cubicBezTo>
                <a:cubicBezTo>
                  <a:pt x="14998" y="7135"/>
                  <a:pt x="14916" y="7466"/>
                  <a:pt x="14932" y="7466"/>
                </a:cubicBezTo>
              </a:path>
              <a:path w="3845" h="1862">
                <a:moveTo>
                  <a:pt x="15056" y="6672"/>
                </a:moveTo>
                <a:cubicBezTo>
                  <a:pt x="15294" y="6874"/>
                  <a:pt x="15610" y="7104"/>
                  <a:pt x="15478" y="7466"/>
                </a:cubicBezTo>
                <a:cubicBezTo>
                  <a:pt x="15390" y="7708"/>
                  <a:pt x="15234" y="7794"/>
                  <a:pt x="15156" y="7689"/>
                </a:cubicBezTo>
              </a:path>
              <a:path w="3845" h="1862">
                <a:moveTo>
                  <a:pt x="15801" y="7317"/>
                </a:moveTo>
                <a:cubicBezTo>
                  <a:pt x="15942" y="7297"/>
                  <a:pt x="16081" y="7277"/>
                  <a:pt x="16222" y="7268"/>
                </a:cubicBezTo>
              </a:path>
              <a:path w="3845" h="1862">
                <a:moveTo>
                  <a:pt x="16495" y="6945"/>
                </a:moveTo>
                <a:cubicBezTo>
                  <a:pt x="16495" y="7058"/>
                  <a:pt x="16498" y="7159"/>
                  <a:pt x="16520" y="7268"/>
                </a:cubicBezTo>
                <a:cubicBezTo>
                  <a:pt x="16693" y="7252"/>
                  <a:pt x="16665" y="7240"/>
                  <a:pt x="16793" y="7119"/>
                </a:cubicBezTo>
              </a:path>
              <a:path w="3845" h="1862">
                <a:moveTo>
                  <a:pt x="16768" y="6970"/>
                </a:moveTo>
                <a:cubicBezTo>
                  <a:pt x="16745" y="7156"/>
                  <a:pt x="16722" y="7563"/>
                  <a:pt x="16644" y="7640"/>
                </a:cubicBezTo>
              </a:path>
              <a:path w="3845" h="1862">
                <a:moveTo>
                  <a:pt x="17041" y="6995"/>
                </a:moveTo>
                <a:cubicBezTo>
                  <a:pt x="17181" y="6901"/>
                  <a:pt x="17396" y="6972"/>
                  <a:pt x="17413" y="7193"/>
                </a:cubicBezTo>
                <a:cubicBezTo>
                  <a:pt x="17430" y="7412"/>
                  <a:pt x="17194" y="7686"/>
                  <a:pt x="17066" y="7516"/>
                </a:cubicBezTo>
                <a:cubicBezTo>
                  <a:pt x="17281" y="7429"/>
                  <a:pt x="17330" y="7441"/>
                  <a:pt x="17462" y="7640"/>
                </a:cubicBezTo>
              </a:path>
              <a:path w="3845" h="1862">
                <a:moveTo>
                  <a:pt x="15453" y="8359"/>
                </a:moveTo>
                <a:cubicBezTo>
                  <a:pt x="15473" y="8460"/>
                  <a:pt x="15471" y="8480"/>
                  <a:pt x="15503" y="8533"/>
                </a:cubicBezTo>
                <a:cubicBezTo>
                  <a:pt x="15571" y="8295"/>
                  <a:pt x="15864" y="8120"/>
                  <a:pt x="16073" y="8012"/>
                </a:cubicBezTo>
                <a:cubicBezTo>
                  <a:pt x="16098" y="8012"/>
                  <a:pt x="16123" y="8012"/>
                  <a:pt x="16148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25360" y="857160"/>
            <a:ext cx="374760" cy="642960"/>
          </a:xfrm>
          <a:custGeom>
            <a:avLst/>
            <a:gdLst/>
            <a:ahLst/>
            <a:rect l="l" t="t" r="r" b="b"/>
            <a:pathLst>
              <a:path w="1043" h="1787">
                <a:moveTo>
                  <a:pt x="3125" y="3373"/>
                </a:moveTo>
                <a:cubicBezTo>
                  <a:pt x="3415" y="3356"/>
                  <a:pt x="3704" y="3315"/>
                  <a:pt x="3994" y="3299"/>
                </a:cubicBezTo>
                <a:cubicBezTo>
                  <a:pt x="4101" y="3299"/>
                  <a:pt x="4109" y="3299"/>
                  <a:pt x="4167" y="3299"/>
                </a:cubicBezTo>
              </a:path>
              <a:path w="1043" h="1787">
                <a:moveTo>
                  <a:pt x="3522" y="3671"/>
                </a:moveTo>
                <a:cubicBezTo>
                  <a:pt x="3533" y="3757"/>
                  <a:pt x="3546" y="3874"/>
                  <a:pt x="3671" y="3795"/>
                </a:cubicBezTo>
                <a:cubicBezTo>
                  <a:pt x="3704" y="3762"/>
                  <a:pt x="3737" y="3729"/>
                  <a:pt x="3770" y="3696"/>
                </a:cubicBezTo>
              </a:path>
              <a:path w="1043" h="1787">
                <a:moveTo>
                  <a:pt x="3795" y="3473"/>
                </a:moveTo>
                <a:cubicBezTo>
                  <a:pt x="3792" y="3541"/>
                  <a:pt x="3737" y="4174"/>
                  <a:pt x="3721" y="4167"/>
                </a:cubicBezTo>
                <a:cubicBezTo>
                  <a:pt x="3713" y="4134"/>
                  <a:pt x="3704" y="4101"/>
                  <a:pt x="3696" y="4068"/>
                </a:cubicBezTo>
              </a:path>
              <a:path w="1043" h="1787">
                <a:moveTo>
                  <a:pt x="3175" y="2406"/>
                </a:moveTo>
                <a:cubicBezTo>
                  <a:pt x="3214" y="2513"/>
                  <a:pt x="3240" y="2570"/>
                  <a:pt x="3274" y="2679"/>
                </a:cubicBezTo>
                <a:cubicBezTo>
                  <a:pt x="3410" y="3110"/>
                  <a:pt x="3550" y="3553"/>
                  <a:pt x="3646" y="3994"/>
                </a:cubicBezTo>
                <a:cubicBezTo>
                  <a:pt x="3655" y="4033"/>
                  <a:pt x="3663" y="4027"/>
                  <a:pt x="3671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0080" y="1116000"/>
            <a:ext cx="374760" cy="349200"/>
          </a:xfrm>
          <a:custGeom>
            <a:avLst/>
            <a:gdLst/>
            <a:ahLst/>
            <a:rect l="l" t="t" r="r" b="b"/>
            <a:pathLst>
              <a:path w="1042" h="968">
                <a:moveTo>
                  <a:pt x="6028" y="3299"/>
                </a:moveTo>
                <a:cubicBezTo>
                  <a:pt x="6234" y="3299"/>
                  <a:pt x="6501" y="3243"/>
                  <a:pt x="6697" y="3200"/>
                </a:cubicBezTo>
                <a:cubicBezTo>
                  <a:pt x="6883" y="3160"/>
                  <a:pt x="7158" y="2976"/>
                  <a:pt x="6970" y="3200"/>
                </a:cubicBezTo>
              </a:path>
              <a:path w="1042" h="968">
                <a:moveTo>
                  <a:pt x="6276" y="3547"/>
                </a:moveTo>
                <a:cubicBezTo>
                  <a:pt x="6288" y="3598"/>
                  <a:pt x="6310" y="3684"/>
                  <a:pt x="6375" y="3696"/>
                </a:cubicBezTo>
                <a:cubicBezTo>
                  <a:pt x="6554" y="3730"/>
                  <a:pt x="6588" y="3596"/>
                  <a:pt x="6672" y="3473"/>
                </a:cubicBezTo>
              </a:path>
              <a:path w="1042" h="968">
                <a:moveTo>
                  <a:pt x="6623" y="3448"/>
                </a:moveTo>
                <a:cubicBezTo>
                  <a:pt x="6609" y="3658"/>
                  <a:pt x="6598" y="3858"/>
                  <a:pt x="6598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160640"/>
            <a:ext cx="357120" cy="438120"/>
          </a:xfrm>
          <a:custGeom>
            <a:avLst/>
            <a:gdLst/>
            <a:ahLst/>
            <a:rect l="l" t="t" r="r" b="b"/>
            <a:pathLst>
              <a:path w="993" h="1216">
                <a:moveTo>
                  <a:pt x="9525" y="4068"/>
                </a:moveTo>
                <a:cubicBezTo>
                  <a:pt x="9552" y="4181"/>
                  <a:pt x="9579" y="4338"/>
                  <a:pt x="9624" y="4440"/>
                </a:cubicBezTo>
                <a:cubicBezTo>
                  <a:pt x="9896" y="3882"/>
                  <a:pt x="10012" y="3554"/>
                  <a:pt x="10517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7120" y="1633680"/>
            <a:ext cx="419040" cy="215640"/>
          </a:xfrm>
          <a:custGeom>
            <a:avLst/>
            <a:gdLst/>
            <a:ahLst/>
            <a:rect l="l" t="t" r="r" b="b"/>
            <a:pathLst>
              <a:path w="1166" h="597">
                <a:moveTo>
                  <a:pt x="4242" y="4663"/>
                </a:moveTo>
                <a:cubicBezTo>
                  <a:pt x="4268" y="4821"/>
                  <a:pt x="4320" y="4980"/>
                  <a:pt x="4366" y="5135"/>
                </a:cubicBezTo>
                <a:cubicBezTo>
                  <a:pt x="4282" y="4956"/>
                  <a:pt x="4183" y="4696"/>
                  <a:pt x="4415" y="4564"/>
                </a:cubicBezTo>
                <a:cubicBezTo>
                  <a:pt x="4721" y="4390"/>
                  <a:pt x="4835" y="4839"/>
                  <a:pt x="4862" y="5035"/>
                </a:cubicBezTo>
                <a:cubicBezTo>
                  <a:pt x="4862" y="5110"/>
                  <a:pt x="4862" y="5168"/>
                  <a:pt x="4862" y="5110"/>
                </a:cubicBezTo>
              </a:path>
              <a:path w="1166" h="597">
                <a:moveTo>
                  <a:pt x="5110" y="4762"/>
                </a:moveTo>
                <a:cubicBezTo>
                  <a:pt x="5215" y="4736"/>
                  <a:pt x="5313" y="4690"/>
                  <a:pt x="5407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32240" y="874800"/>
            <a:ext cx="179640" cy="117360"/>
          </a:xfrm>
          <a:custGeom>
            <a:avLst/>
            <a:gdLst/>
            <a:ahLst/>
            <a:rect l="l" t="t" r="r" b="b"/>
            <a:pathLst>
              <a:path w="497" h="323">
                <a:moveTo>
                  <a:pt x="14536" y="2530"/>
                </a:moveTo>
                <a:cubicBezTo>
                  <a:pt x="14706" y="2483"/>
                  <a:pt x="14858" y="2446"/>
                  <a:pt x="15032" y="2431"/>
                </a:cubicBezTo>
              </a:path>
              <a:path w="497" h="323">
                <a:moveTo>
                  <a:pt x="14610" y="2753"/>
                </a:moveTo>
                <a:cubicBezTo>
                  <a:pt x="14701" y="2728"/>
                  <a:pt x="14792" y="2704"/>
                  <a:pt x="14883" y="2679"/>
                </a:cubicBezTo>
              </a:path>
              <a:path w="497" h="323">
                <a:moveTo>
                  <a:pt x="14883" y="2679"/>
                </a:moveTo>
                <a:lnTo>
                  <a:pt x="14883" y="26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768240"/>
            <a:ext cx="849600" cy="428760"/>
          </a:xfrm>
          <a:custGeom>
            <a:avLst/>
            <a:gdLst/>
            <a:ahLst/>
            <a:rect l="l" t="t" r="r" b="b"/>
            <a:pathLst>
              <a:path w="2357" h="1192">
                <a:moveTo>
                  <a:pt x="11857" y="2282"/>
                </a:moveTo>
                <a:cubicBezTo>
                  <a:pt x="11857" y="2228"/>
                  <a:pt x="11759" y="2474"/>
                  <a:pt x="11757" y="2480"/>
                </a:cubicBezTo>
                <a:cubicBezTo>
                  <a:pt x="11724" y="2584"/>
                  <a:pt x="11597" y="3006"/>
                  <a:pt x="11708" y="3101"/>
                </a:cubicBezTo>
                <a:cubicBezTo>
                  <a:pt x="11724" y="3101"/>
                  <a:pt x="11741" y="3101"/>
                  <a:pt x="11757" y="3101"/>
                </a:cubicBezTo>
              </a:path>
              <a:path w="2357" h="1192">
                <a:moveTo>
                  <a:pt x="12055" y="2431"/>
                </a:moveTo>
                <a:cubicBezTo>
                  <a:pt x="12055" y="2406"/>
                  <a:pt x="12055" y="2398"/>
                  <a:pt x="12080" y="2406"/>
                </a:cubicBezTo>
                <a:cubicBezTo>
                  <a:pt x="12080" y="2500"/>
                  <a:pt x="11992" y="2687"/>
                  <a:pt x="11956" y="2753"/>
                </a:cubicBezTo>
                <a:cubicBezTo>
                  <a:pt x="11917" y="2792"/>
                  <a:pt x="11900" y="2824"/>
                  <a:pt x="11906" y="2778"/>
                </a:cubicBezTo>
                <a:cubicBezTo>
                  <a:pt x="11993" y="2766"/>
                  <a:pt x="12175" y="2682"/>
                  <a:pt x="12254" y="2729"/>
                </a:cubicBezTo>
                <a:cubicBezTo>
                  <a:pt x="12300" y="2756"/>
                  <a:pt x="12237" y="2800"/>
                  <a:pt x="12229" y="2803"/>
                </a:cubicBezTo>
              </a:path>
              <a:path w="2357" h="1192">
                <a:moveTo>
                  <a:pt x="12328" y="2381"/>
                </a:moveTo>
                <a:cubicBezTo>
                  <a:pt x="12328" y="2356"/>
                  <a:pt x="12328" y="2348"/>
                  <a:pt x="12328" y="2332"/>
                </a:cubicBezTo>
                <a:cubicBezTo>
                  <a:pt x="12374" y="2510"/>
                  <a:pt x="12379" y="2734"/>
                  <a:pt x="12402" y="2927"/>
                </a:cubicBezTo>
                <a:cubicBezTo>
                  <a:pt x="12410" y="2994"/>
                  <a:pt x="12427" y="3143"/>
                  <a:pt x="12427" y="3076"/>
                </a:cubicBezTo>
              </a:path>
              <a:path w="2357" h="1192">
                <a:moveTo>
                  <a:pt x="12477" y="2133"/>
                </a:moveTo>
                <a:cubicBezTo>
                  <a:pt x="12695" y="2399"/>
                  <a:pt x="12794" y="2769"/>
                  <a:pt x="12700" y="3125"/>
                </a:cubicBezTo>
                <a:cubicBezTo>
                  <a:pt x="12670" y="3240"/>
                  <a:pt x="12286" y="3557"/>
                  <a:pt x="12601" y="3076"/>
                </a:cubicBezTo>
              </a:path>
              <a:path w="2357" h="1192">
                <a:moveTo>
                  <a:pt x="13171" y="2456"/>
                </a:moveTo>
                <a:cubicBezTo>
                  <a:pt x="13397" y="2359"/>
                  <a:pt x="13538" y="2514"/>
                  <a:pt x="13469" y="2778"/>
                </a:cubicBezTo>
                <a:cubicBezTo>
                  <a:pt x="13404" y="3027"/>
                  <a:pt x="13216" y="2954"/>
                  <a:pt x="13047" y="2927"/>
                </a:cubicBezTo>
                <a:cubicBezTo>
                  <a:pt x="12976" y="2712"/>
                  <a:pt x="13257" y="2823"/>
                  <a:pt x="13444" y="2803"/>
                </a:cubicBezTo>
                <a:cubicBezTo>
                  <a:pt x="13485" y="2795"/>
                  <a:pt x="13527" y="2786"/>
                  <a:pt x="13568" y="2778"/>
                </a:cubicBezTo>
              </a:path>
              <a:path w="2357" h="1192">
                <a:moveTo>
                  <a:pt x="13692" y="2307"/>
                </a:moveTo>
                <a:cubicBezTo>
                  <a:pt x="13585" y="2511"/>
                  <a:pt x="13588" y="2579"/>
                  <a:pt x="13618" y="2803"/>
                </a:cubicBezTo>
                <a:cubicBezTo>
                  <a:pt x="13817" y="2811"/>
                  <a:pt x="14212" y="2675"/>
                  <a:pt x="13990" y="2356"/>
                </a:cubicBezTo>
                <a:cubicBezTo>
                  <a:pt x="13875" y="2191"/>
                  <a:pt x="13670" y="2331"/>
                  <a:pt x="13543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89720" y="696960"/>
            <a:ext cx="438120" cy="322200"/>
          </a:xfrm>
          <a:custGeom>
            <a:avLst/>
            <a:gdLst/>
            <a:ahLst/>
            <a:rect l="l" t="t" r="r" b="b"/>
            <a:pathLst>
              <a:path w="1216" h="894">
                <a:moveTo>
                  <a:pt x="15825" y="2084"/>
                </a:moveTo>
                <a:cubicBezTo>
                  <a:pt x="15505" y="2313"/>
                  <a:pt x="15443" y="2348"/>
                  <a:pt x="15801" y="2555"/>
                </a:cubicBezTo>
                <a:cubicBezTo>
                  <a:pt x="15953" y="2642"/>
                  <a:pt x="16006" y="2651"/>
                  <a:pt x="15999" y="2778"/>
                </a:cubicBezTo>
                <a:cubicBezTo>
                  <a:pt x="15878" y="2827"/>
                  <a:pt x="15840" y="2843"/>
                  <a:pt x="15751" y="2828"/>
                </a:cubicBezTo>
                <a:cubicBezTo>
                  <a:pt x="15742" y="2561"/>
                  <a:pt x="15785" y="2420"/>
                  <a:pt x="15949" y="2183"/>
                </a:cubicBezTo>
              </a:path>
              <a:path w="1216" h="894">
                <a:moveTo>
                  <a:pt x="16421" y="2034"/>
                </a:moveTo>
                <a:cubicBezTo>
                  <a:pt x="16296" y="2360"/>
                  <a:pt x="16205" y="2501"/>
                  <a:pt x="16321" y="2803"/>
                </a:cubicBezTo>
                <a:cubicBezTo>
                  <a:pt x="16587" y="2699"/>
                  <a:pt x="16975" y="2345"/>
                  <a:pt x="16644" y="2009"/>
                </a:cubicBezTo>
                <a:cubicBezTo>
                  <a:pt x="16405" y="1766"/>
                  <a:pt x="15900" y="2097"/>
                  <a:pt x="15677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You purchase 4 new Wii games for $168. Write a multiplication equation you can use to find the cost of a game. (they are all the same price). Then solve the equation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3340080" y="3303720"/>
            <a:ext cx="276120" cy="1563480"/>
          </a:xfrm>
          <a:custGeom>
            <a:avLst/>
            <a:gdLst/>
            <a:ahLst/>
            <a:rect l="l" t="t" r="r" b="b"/>
            <a:pathLst>
              <a:path w="770" h="4342">
                <a:moveTo>
                  <a:pt x="9277" y="9178"/>
                </a:moveTo>
                <a:cubicBezTo>
                  <a:pt x="9294" y="9194"/>
                  <a:pt x="9310" y="9211"/>
                  <a:pt x="9327" y="9227"/>
                </a:cubicBezTo>
              </a:path>
              <a:path w="770" h="4342">
                <a:moveTo>
                  <a:pt x="10021" y="12700"/>
                </a:moveTo>
                <a:cubicBezTo>
                  <a:pt x="10033" y="12983"/>
                  <a:pt x="10027" y="13237"/>
                  <a:pt x="9996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4240" y="3438360"/>
            <a:ext cx="3089520" cy="1892520"/>
          </a:xfrm>
          <a:custGeom>
            <a:avLst/>
            <a:gdLst/>
            <a:ahLst/>
            <a:rect l="l" t="t" r="r" b="b"/>
            <a:pathLst>
              <a:path w="8584" h="5259">
                <a:moveTo>
                  <a:pt x="9947" y="9599"/>
                </a:moveTo>
                <a:cubicBezTo>
                  <a:pt x="10187" y="9576"/>
                  <a:pt x="10261" y="9569"/>
                  <a:pt x="10418" y="9550"/>
                </a:cubicBezTo>
              </a:path>
              <a:path w="8584" h="5259">
                <a:moveTo>
                  <a:pt x="8930" y="13767"/>
                </a:moveTo>
                <a:cubicBezTo>
                  <a:pt x="8975" y="14101"/>
                  <a:pt x="9127" y="14549"/>
                  <a:pt x="8781" y="14784"/>
                </a:cubicBezTo>
                <a:cubicBezTo>
                  <a:pt x="8479" y="14989"/>
                  <a:pt x="8518" y="14496"/>
                  <a:pt x="8533" y="14387"/>
                </a:cubicBezTo>
              </a:path>
              <a:path w="8584" h="5259">
                <a:moveTo>
                  <a:pt x="8880" y="13122"/>
                </a:moveTo>
                <a:cubicBezTo>
                  <a:pt x="8888" y="13130"/>
                  <a:pt x="8897" y="13138"/>
                  <a:pt x="8905" y="13146"/>
                </a:cubicBezTo>
              </a:path>
              <a:path w="8584" h="5259">
                <a:moveTo>
                  <a:pt x="16594" y="9872"/>
                </a:moveTo>
                <a:cubicBezTo>
                  <a:pt x="16579" y="10028"/>
                  <a:pt x="16461" y="10406"/>
                  <a:pt x="16743" y="10368"/>
                </a:cubicBezTo>
                <a:cubicBezTo>
                  <a:pt x="16961" y="10339"/>
                  <a:pt x="16996" y="10240"/>
                  <a:pt x="17066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7240" y="3044880"/>
            <a:ext cx="3652920" cy="1982880"/>
          </a:xfrm>
          <a:custGeom>
            <a:avLst/>
            <a:gdLst/>
            <a:ahLst/>
            <a:rect l="l" t="t" r="r" b="b"/>
            <a:pathLst>
              <a:path w="10146" h="5508">
                <a:moveTo>
                  <a:pt x="8434" y="8483"/>
                </a:moveTo>
                <a:cubicBezTo>
                  <a:pt x="8434" y="8435"/>
                  <a:pt x="8417" y="8458"/>
                  <a:pt x="8409" y="8483"/>
                </a:cubicBezTo>
              </a:path>
              <a:path w="10146" h="5508">
                <a:moveTo>
                  <a:pt x="8409" y="8508"/>
                </a:moveTo>
                <a:lnTo>
                  <a:pt x="8409" y="8508"/>
                </a:lnTo>
              </a:path>
              <a:path w="10146" h="5508">
                <a:moveTo>
                  <a:pt x="9550" y="13965"/>
                </a:moveTo>
                <a:cubicBezTo>
                  <a:pt x="9833" y="13917"/>
                  <a:pt x="9919" y="13905"/>
                  <a:pt x="10096" y="13841"/>
                </a:cubicBezTo>
              </a:path>
              <a:path w="10146" h="5508">
                <a:moveTo>
                  <a:pt x="10096" y="13841"/>
                </a:moveTo>
                <a:lnTo>
                  <a:pt x="10096" y="13841"/>
                </a:lnTo>
              </a:path>
              <a:path w="10146" h="5508">
                <a:moveTo>
                  <a:pt x="18554" y="10046"/>
                </a:moveTo>
                <a:cubicBezTo>
                  <a:pt x="18513" y="10312"/>
                  <a:pt x="18514" y="10366"/>
                  <a:pt x="18455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23080" y="3919680"/>
            <a:ext cx="436680" cy="573120"/>
          </a:xfrm>
          <a:custGeom>
            <a:avLst/>
            <a:gdLst/>
            <a:ahLst/>
            <a:rect l="l" t="t" r="r" b="b"/>
            <a:pathLst>
              <a:path w="1216" h="1589">
                <a:moveTo>
                  <a:pt x="19149" y="11832"/>
                </a:moveTo>
                <a:cubicBezTo>
                  <a:pt x="18986" y="12060"/>
                  <a:pt x="18952" y="12177"/>
                  <a:pt x="19025" y="12427"/>
                </a:cubicBezTo>
                <a:cubicBezTo>
                  <a:pt x="19198" y="12411"/>
                  <a:pt x="19702" y="12342"/>
                  <a:pt x="19422" y="12030"/>
                </a:cubicBezTo>
                <a:cubicBezTo>
                  <a:pt x="19290" y="11964"/>
                  <a:pt x="19256" y="11948"/>
                  <a:pt x="19174" y="11906"/>
                </a:cubicBezTo>
              </a:path>
              <a:path w="1216" h="1589">
                <a:moveTo>
                  <a:pt x="19943" y="10889"/>
                </a:moveTo>
                <a:cubicBezTo>
                  <a:pt x="19911" y="11114"/>
                  <a:pt x="19896" y="11330"/>
                  <a:pt x="19893" y="11559"/>
                </a:cubicBezTo>
                <a:cubicBezTo>
                  <a:pt x="19893" y="11609"/>
                  <a:pt x="19893" y="11658"/>
                  <a:pt x="19893" y="11708"/>
                </a:cubicBezTo>
              </a:path>
              <a:path w="1216" h="1589">
                <a:moveTo>
                  <a:pt x="20166" y="12030"/>
                </a:moveTo>
                <a:cubicBezTo>
                  <a:pt x="20127" y="12028"/>
                  <a:pt x="19574" y="12038"/>
                  <a:pt x="19769" y="12204"/>
                </a:cubicBezTo>
                <a:cubicBezTo>
                  <a:pt x="19940" y="12277"/>
                  <a:pt x="19995" y="12300"/>
                  <a:pt x="20092" y="12378"/>
                </a:cubicBezTo>
                <a:cubicBezTo>
                  <a:pt x="20139" y="12423"/>
                  <a:pt x="20123" y="12449"/>
                  <a:pt x="20017" y="12477"/>
                </a:cubicBezTo>
                <a:cubicBezTo>
                  <a:pt x="19695" y="12391"/>
                  <a:pt x="19958" y="12342"/>
                  <a:pt x="20092" y="12154"/>
                </a:cubicBezTo>
                <a:cubicBezTo>
                  <a:pt x="20139" y="12089"/>
                  <a:pt x="20104" y="12064"/>
                  <a:pt x="20092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16840" y="2884320"/>
            <a:ext cx="241200" cy="29556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19918" y="8210"/>
                </a:moveTo>
                <a:cubicBezTo>
                  <a:pt x="20044" y="8127"/>
                  <a:pt x="20152" y="8070"/>
                  <a:pt x="20290" y="8012"/>
                </a:cubicBezTo>
                <a:cubicBezTo>
                  <a:pt x="20291" y="8273"/>
                  <a:pt x="20084" y="8511"/>
                  <a:pt x="19893" y="8706"/>
                </a:cubicBezTo>
                <a:cubicBezTo>
                  <a:pt x="19852" y="8739"/>
                  <a:pt x="19810" y="8773"/>
                  <a:pt x="19769" y="8806"/>
                </a:cubicBezTo>
                <a:cubicBezTo>
                  <a:pt x="19827" y="8843"/>
                  <a:pt x="20112" y="8646"/>
                  <a:pt x="20216" y="8607"/>
                </a:cubicBezTo>
                <a:cubicBezTo>
                  <a:pt x="20375" y="8547"/>
                  <a:pt x="20292" y="8633"/>
                  <a:pt x="20414" y="8657"/>
                </a:cubicBezTo>
                <a:cubicBezTo>
                  <a:pt x="20422" y="8657"/>
                  <a:pt x="20431" y="8657"/>
                  <a:pt x="20439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9760" y="2963880"/>
            <a:ext cx="1376280" cy="965160"/>
          </a:xfrm>
          <a:custGeom>
            <a:avLst/>
            <a:gdLst/>
            <a:ahLst/>
            <a:rect l="l" t="t" r="r" b="b"/>
            <a:pathLst>
              <a:path w="3821" h="2680">
                <a:moveTo>
                  <a:pt x="18976" y="9723"/>
                </a:moveTo>
                <a:cubicBezTo>
                  <a:pt x="18962" y="9871"/>
                  <a:pt x="18783" y="10530"/>
                  <a:pt x="19100" y="10492"/>
                </a:cubicBezTo>
                <a:cubicBezTo>
                  <a:pt x="19349" y="10462"/>
                  <a:pt x="19381" y="10294"/>
                  <a:pt x="19397" y="10120"/>
                </a:cubicBezTo>
                <a:cubicBezTo>
                  <a:pt x="19180" y="10261"/>
                  <a:pt x="19018" y="10413"/>
                  <a:pt x="19323" y="10443"/>
                </a:cubicBezTo>
              </a:path>
              <a:path w="3821" h="2680">
                <a:moveTo>
                  <a:pt x="19993" y="9798"/>
                </a:moveTo>
                <a:cubicBezTo>
                  <a:pt x="19560" y="10214"/>
                  <a:pt x="19824" y="10046"/>
                  <a:pt x="20042" y="10443"/>
                </a:cubicBezTo>
                <a:cubicBezTo>
                  <a:pt x="20042" y="10555"/>
                  <a:pt x="20052" y="10590"/>
                  <a:pt x="19968" y="10616"/>
                </a:cubicBezTo>
                <a:cubicBezTo>
                  <a:pt x="19715" y="10321"/>
                  <a:pt x="20083" y="10123"/>
                  <a:pt x="20191" y="9798"/>
                </a:cubicBezTo>
                <a:cubicBezTo>
                  <a:pt x="20087" y="9798"/>
                  <a:pt x="20020" y="9817"/>
                  <a:pt x="19943" y="9872"/>
                </a:cubicBezTo>
              </a:path>
              <a:path w="3821" h="2680">
                <a:moveTo>
                  <a:pt x="17785" y="10914"/>
                </a:moveTo>
                <a:cubicBezTo>
                  <a:pt x="17825" y="10592"/>
                  <a:pt x="17834" y="10325"/>
                  <a:pt x="17785" y="9996"/>
                </a:cubicBezTo>
                <a:cubicBezTo>
                  <a:pt x="17763" y="9849"/>
                  <a:pt x="17640" y="9522"/>
                  <a:pt x="17810" y="9401"/>
                </a:cubicBezTo>
                <a:cubicBezTo>
                  <a:pt x="18235" y="9098"/>
                  <a:pt x="19291" y="9228"/>
                  <a:pt x="19769" y="9203"/>
                </a:cubicBezTo>
                <a:cubicBezTo>
                  <a:pt x="20332" y="9174"/>
                  <a:pt x="20647" y="9011"/>
                  <a:pt x="20588" y="9302"/>
                </a:cubicBezTo>
              </a:path>
              <a:path w="3821" h="2680">
                <a:moveTo>
                  <a:pt x="16942" y="9748"/>
                </a:moveTo>
                <a:cubicBezTo>
                  <a:pt x="16926" y="10071"/>
                  <a:pt x="16613" y="10824"/>
                  <a:pt x="16917" y="10716"/>
                </a:cubicBezTo>
                <a:cubicBezTo>
                  <a:pt x="16950" y="10683"/>
                  <a:pt x="16983" y="10649"/>
                  <a:pt x="17016" y="10616"/>
                </a:cubicBezTo>
              </a:path>
              <a:path w="3821" h="2680">
                <a:moveTo>
                  <a:pt x="18604" y="9798"/>
                </a:moveTo>
                <a:cubicBezTo>
                  <a:pt x="18604" y="9933"/>
                  <a:pt x="18560" y="10042"/>
                  <a:pt x="18529" y="10170"/>
                </a:cubicBezTo>
                <a:cubicBezTo>
                  <a:pt x="18509" y="10271"/>
                  <a:pt x="18511" y="10291"/>
                  <a:pt x="18479" y="10344"/>
                </a:cubicBezTo>
              </a:path>
              <a:path w="3821" h="2680">
                <a:moveTo>
                  <a:pt x="19124" y="8582"/>
                </a:moveTo>
                <a:cubicBezTo>
                  <a:pt x="19162" y="8570"/>
                  <a:pt x="19149" y="8553"/>
                  <a:pt x="19149" y="8508"/>
                </a:cubicBezTo>
                <a:cubicBezTo>
                  <a:pt x="19149" y="8483"/>
                  <a:pt x="19149" y="8475"/>
                  <a:pt x="19149" y="8458"/>
                </a:cubicBezTo>
                <a:cubicBezTo>
                  <a:pt x="19122" y="8553"/>
                  <a:pt x="19059" y="8642"/>
                  <a:pt x="19025" y="8731"/>
                </a:cubicBezTo>
                <a:cubicBezTo>
                  <a:pt x="19138" y="8722"/>
                  <a:pt x="19327" y="8659"/>
                  <a:pt x="19422" y="8731"/>
                </a:cubicBezTo>
                <a:cubicBezTo>
                  <a:pt x="19414" y="8731"/>
                  <a:pt x="19405" y="8731"/>
                  <a:pt x="19397" y="8731"/>
                </a:cubicBezTo>
              </a:path>
              <a:path w="3821" h="2680">
                <a:moveTo>
                  <a:pt x="19422" y="8235"/>
                </a:moveTo>
                <a:cubicBezTo>
                  <a:pt x="19378" y="8525"/>
                  <a:pt x="19318" y="8815"/>
                  <a:pt x="19273" y="9103"/>
                </a:cubicBezTo>
                <a:cubicBezTo>
                  <a:pt x="19273" y="9128"/>
                  <a:pt x="19273" y="9153"/>
                  <a:pt x="19273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473880" y="3867120"/>
            <a:ext cx="179280" cy="214200"/>
          </a:xfrm>
          <a:custGeom>
            <a:avLst/>
            <a:gdLst/>
            <a:ahLst/>
            <a:rect l="l" t="t" r="r" b="b"/>
            <a:pathLst>
              <a:path w="497" h="597">
                <a:moveTo>
                  <a:pt x="18405" y="10740"/>
                </a:moveTo>
                <a:cubicBezTo>
                  <a:pt x="18512" y="10872"/>
                  <a:pt x="18489" y="11108"/>
                  <a:pt x="18430" y="11311"/>
                </a:cubicBezTo>
                <a:cubicBezTo>
                  <a:pt x="18422" y="11319"/>
                  <a:pt x="18413" y="11328"/>
                  <a:pt x="18405" y="11336"/>
                </a:cubicBezTo>
              </a:path>
              <a:path w="497" h="597">
                <a:moveTo>
                  <a:pt x="17983" y="11237"/>
                </a:moveTo>
                <a:cubicBezTo>
                  <a:pt x="18223" y="11237"/>
                  <a:pt x="18299" y="11236"/>
                  <a:pt x="18455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83240" y="3894120"/>
            <a:ext cx="517680" cy="347760"/>
          </a:xfrm>
          <a:custGeom>
            <a:avLst/>
            <a:gdLst/>
            <a:ahLst/>
            <a:rect l="l" t="t" r="r" b="b"/>
            <a:pathLst>
              <a:path w="1440" h="968">
                <a:moveTo>
                  <a:pt x="18926" y="10815"/>
                </a:moveTo>
                <a:cubicBezTo>
                  <a:pt x="18899" y="10936"/>
                  <a:pt x="18725" y="11420"/>
                  <a:pt x="18976" y="11435"/>
                </a:cubicBezTo>
                <a:cubicBezTo>
                  <a:pt x="19155" y="11383"/>
                  <a:pt x="19216" y="11361"/>
                  <a:pt x="19248" y="11212"/>
                </a:cubicBezTo>
                <a:cubicBezTo>
                  <a:pt x="19248" y="11179"/>
                  <a:pt x="19248" y="11145"/>
                  <a:pt x="19248" y="11112"/>
                </a:cubicBezTo>
                <a:cubicBezTo>
                  <a:pt x="19068" y="11236"/>
                  <a:pt x="19001" y="11346"/>
                  <a:pt x="19100" y="11559"/>
                </a:cubicBezTo>
              </a:path>
              <a:path w="1440" h="968">
                <a:moveTo>
                  <a:pt x="18008" y="11757"/>
                </a:moveTo>
                <a:cubicBezTo>
                  <a:pt x="18485" y="11757"/>
                  <a:pt x="18965" y="11649"/>
                  <a:pt x="19447" y="11658"/>
                </a:cubicBezTo>
                <a:cubicBezTo>
                  <a:pt x="19447" y="11743"/>
                  <a:pt x="19389" y="11766"/>
                  <a:pt x="19248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13720" y="4599000"/>
            <a:ext cx="723600" cy="581040"/>
          </a:xfrm>
          <a:custGeom>
            <a:avLst/>
            <a:gdLst/>
            <a:ahLst/>
            <a:rect l="l" t="t" r="r" b="b"/>
            <a:pathLst>
              <a:path w="2010" h="1614">
                <a:moveTo>
                  <a:pt x="20092" y="12799"/>
                </a:moveTo>
                <a:cubicBezTo>
                  <a:pt x="20018" y="12780"/>
                  <a:pt x="19597" y="12751"/>
                  <a:pt x="19496" y="12948"/>
                </a:cubicBezTo>
                <a:cubicBezTo>
                  <a:pt x="19403" y="13131"/>
                  <a:pt x="19915" y="13248"/>
                  <a:pt x="20017" y="13295"/>
                </a:cubicBezTo>
                <a:cubicBezTo>
                  <a:pt x="19929" y="13443"/>
                  <a:pt x="19877" y="13491"/>
                  <a:pt x="19720" y="13469"/>
                </a:cubicBezTo>
                <a:cubicBezTo>
                  <a:pt x="19423" y="13286"/>
                  <a:pt x="19921" y="13175"/>
                  <a:pt x="20067" y="12973"/>
                </a:cubicBezTo>
                <a:cubicBezTo>
                  <a:pt x="19994" y="12936"/>
                  <a:pt x="19953" y="12938"/>
                  <a:pt x="19893" y="12998"/>
                </a:cubicBezTo>
              </a:path>
              <a:path w="2010" h="1614">
                <a:moveTo>
                  <a:pt x="18926" y="13841"/>
                </a:moveTo>
                <a:cubicBezTo>
                  <a:pt x="19631" y="13749"/>
                  <a:pt x="21334" y="13060"/>
                  <a:pt x="20836" y="13568"/>
                </a:cubicBezTo>
              </a:path>
              <a:path w="2010" h="1614">
                <a:moveTo>
                  <a:pt x="20241" y="13990"/>
                </a:moveTo>
                <a:cubicBezTo>
                  <a:pt x="20117" y="14155"/>
                  <a:pt x="20067" y="14180"/>
                  <a:pt x="20092" y="14312"/>
                </a:cubicBezTo>
                <a:cubicBezTo>
                  <a:pt x="20135" y="14322"/>
                  <a:pt x="20768" y="14378"/>
                  <a:pt x="20563" y="14188"/>
                </a:cubicBezTo>
                <a:cubicBezTo>
                  <a:pt x="20427" y="14120"/>
                  <a:pt x="20388" y="14104"/>
                  <a:pt x="20315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28960" y="3143160"/>
            <a:ext cx="2142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8434" y="8731"/>
                </a:moveTo>
                <a:cubicBezTo>
                  <a:pt x="8415" y="8959"/>
                  <a:pt x="8359" y="9147"/>
                  <a:pt x="8210" y="9327"/>
                </a:cubicBezTo>
                <a:cubicBezTo>
                  <a:pt x="8185" y="9343"/>
                  <a:pt x="8161" y="9360"/>
                  <a:pt x="8136" y="9376"/>
                </a:cubicBezTo>
                <a:cubicBezTo>
                  <a:pt x="8323" y="9345"/>
                  <a:pt x="8471" y="9438"/>
                  <a:pt x="8657" y="9475"/>
                </a:cubicBezTo>
                <a:cubicBezTo>
                  <a:pt x="8821" y="9508"/>
                  <a:pt x="8731" y="9042"/>
                  <a:pt x="8731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06800" y="3071880"/>
            <a:ext cx="28440" cy="482400"/>
          </a:xfrm>
          <a:custGeom>
            <a:avLst/>
            <a:gdLst/>
            <a:ahLst/>
            <a:rect l="l" t="t" r="r" b="b"/>
            <a:pathLst>
              <a:path w="75" h="1340">
                <a:moveTo>
                  <a:pt x="8706" y="8533"/>
                </a:moveTo>
                <a:cubicBezTo>
                  <a:pt x="8706" y="8917"/>
                  <a:pt x="8678" y="9291"/>
                  <a:pt x="8657" y="9674"/>
                </a:cubicBezTo>
                <a:cubicBezTo>
                  <a:pt x="8649" y="9817"/>
                  <a:pt x="8607" y="9863"/>
                  <a:pt x="8682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43160" y="3510000"/>
            <a:ext cx="187560" cy="33012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9178" y="9748"/>
                </a:moveTo>
                <a:cubicBezTo>
                  <a:pt x="9216" y="9980"/>
                  <a:pt x="9304" y="10228"/>
                  <a:pt x="9227" y="10468"/>
                </a:cubicBezTo>
                <a:cubicBezTo>
                  <a:pt x="9177" y="10625"/>
                  <a:pt x="8709" y="10814"/>
                  <a:pt x="8731" y="10542"/>
                </a:cubicBezTo>
                <a:cubicBezTo>
                  <a:pt x="8764" y="10468"/>
                  <a:pt x="8797" y="10393"/>
                  <a:pt x="883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37000" y="3348000"/>
            <a:ext cx="204840" cy="9720"/>
          </a:xfrm>
          <a:custGeom>
            <a:avLst/>
            <a:gdLst/>
            <a:ahLst/>
            <a:rect l="l" t="t" r="r" b="b"/>
            <a:pathLst>
              <a:path w="571" h="26">
                <a:moveTo>
                  <a:pt x="9823" y="9302"/>
                </a:moveTo>
                <a:cubicBezTo>
                  <a:pt x="10016" y="9324"/>
                  <a:pt x="10198" y="9309"/>
                  <a:pt x="10393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27320" y="3089160"/>
            <a:ext cx="9720" cy="376200"/>
          </a:xfrm>
          <a:custGeom>
            <a:avLst/>
            <a:gdLst/>
            <a:ahLst/>
            <a:rect l="l" t="t" r="r" b="b"/>
            <a:pathLst>
              <a:path w="26" h="1043">
                <a:moveTo>
                  <a:pt x="11187" y="8582"/>
                </a:moveTo>
                <a:cubicBezTo>
                  <a:pt x="11209" y="8930"/>
                  <a:pt x="11212" y="9275"/>
                  <a:pt x="11212" y="9624"/>
                </a:cubicBezTo>
                <a:cubicBezTo>
                  <a:pt x="11212" y="9608"/>
                  <a:pt x="11212" y="9591"/>
                  <a:pt x="11212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79960" y="3160800"/>
            <a:ext cx="231840" cy="349200"/>
          </a:xfrm>
          <a:custGeom>
            <a:avLst/>
            <a:gdLst/>
            <a:ahLst/>
            <a:rect l="l" t="t" r="r" b="b"/>
            <a:pathLst>
              <a:path w="646" h="968">
                <a:moveTo>
                  <a:pt x="11757" y="8781"/>
                </a:moveTo>
                <a:cubicBezTo>
                  <a:pt x="11704" y="8995"/>
                  <a:pt x="11514" y="9438"/>
                  <a:pt x="11633" y="9649"/>
                </a:cubicBezTo>
                <a:cubicBezTo>
                  <a:pt x="11674" y="9674"/>
                  <a:pt x="11716" y="9698"/>
                  <a:pt x="11757" y="9723"/>
                </a:cubicBezTo>
                <a:cubicBezTo>
                  <a:pt x="12021" y="9641"/>
                  <a:pt x="12241" y="9573"/>
                  <a:pt x="12204" y="9277"/>
                </a:cubicBezTo>
                <a:cubicBezTo>
                  <a:pt x="12140" y="9298"/>
                  <a:pt x="11527" y="9622"/>
                  <a:pt x="11807" y="9748"/>
                </a:cubicBezTo>
                <a:cubicBezTo>
                  <a:pt x="11857" y="9732"/>
                  <a:pt x="11906" y="9715"/>
                  <a:pt x="11956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83080" y="3089160"/>
            <a:ext cx="214200" cy="358920"/>
          </a:xfrm>
          <a:custGeom>
            <a:avLst/>
            <a:gdLst/>
            <a:ahLst/>
            <a:rect l="l" t="t" r="r" b="b"/>
            <a:pathLst>
              <a:path w="596" h="994">
                <a:moveTo>
                  <a:pt x="12898" y="8582"/>
                </a:moveTo>
                <a:cubicBezTo>
                  <a:pt x="12638" y="8705"/>
                  <a:pt x="12580" y="8733"/>
                  <a:pt x="12452" y="8979"/>
                </a:cubicBezTo>
                <a:cubicBezTo>
                  <a:pt x="12684" y="9176"/>
                  <a:pt x="13013" y="9290"/>
                  <a:pt x="12998" y="9575"/>
                </a:cubicBezTo>
                <a:cubicBezTo>
                  <a:pt x="12548" y="9413"/>
                  <a:pt x="12818" y="9172"/>
                  <a:pt x="12998" y="8806"/>
                </a:cubicBezTo>
                <a:cubicBezTo>
                  <a:pt x="13052" y="8670"/>
                  <a:pt x="13055" y="8628"/>
                  <a:pt x="12874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57680" y="3884760"/>
            <a:ext cx="590400" cy="54000"/>
          </a:xfrm>
          <a:custGeom>
            <a:avLst/>
            <a:gdLst/>
            <a:ahLst/>
            <a:rect l="l" t="t" r="r" b="b"/>
            <a:pathLst>
              <a:path w="1638" h="150">
                <a:moveTo>
                  <a:pt x="7938" y="10914"/>
                </a:moveTo>
                <a:cubicBezTo>
                  <a:pt x="8236" y="10945"/>
                  <a:pt x="8476" y="10921"/>
                  <a:pt x="8781" y="10889"/>
                </a:cubicBezTo>
                <a:cubicBezTo>
                  <a:pt x="8857" y="10881"/>
                  <a:pt x="9511" y="10795"/>
                  <a:pt x="9550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00240" y="4044960"/>
            <a:ext cx="135000" cy="15228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8384" y="11237"/>
                </a:moveTo>
                <a:cubicBezTo>
                  <a:pt x="8375" y="11370"/>
                  <a:pt x="8346" y="11500"/>
                  <a:pt x="8334" y="11633"/>
                </a:cubicBezTo>
                <a:cubicBezTo>
                  <a:pt x="8523" y="11654"/>
                  <a:pt x="8543" y="11635"/>
                  <a:pt x="8706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037040"/>
            <a:ext cx="46080" cy="285840"/>
          </a:xfrm>
          <a:custGeom>
            <a:avLst/>
            <a:gdLst/>
            <a:ahLst/>
            <a:rect l="l" t="t" r="r" b="b"/>
            <a:pathLst>
              <a:path w="125" h="794">
                <a:moveTo>
                  <a:pt x="8830" y="11212"/>
                </a:moveTo>
                <a:cubicBezTo>
                  <a:pt x="8757" y="11435"/>
                  <a:pt x="8733" y="11714"/>
                  <a:pt x="8706" y="11956"/>
                </a:cubicBezTo>
                <a:cubicBezTo>
                  <a:pt x="8706" y="12019"/>
                  <a:pt x="8717" y="12027"/>
                  <a:pt x="8781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38760" y="3705120"/>
            <a:ext cx="830160" cy="27000"/>
          </a:xfrm>
          <a:custGeom>
            <a:avLst/>
            <a:gdLst/>
            <a:ahLst/>
            <a:rect l="l" t="t" r="r" b="b"/>
            <a:pathLst>
              <a:path w="2308" h="75">
                <a:moveTo>
                  <a:pt x="10939" y="10344"/>
                </a:moveTo>
                <a:cubicBezTo>
                  <a:pt x="11586" y="10368"/>
                  <a:pt x="12225" y="10282"/>
                  <a:pt x="12874" y="10294"/>
                </a:cubicBezTo>
                <a:cubicBezTo>
                  <a:pt x="13107" y="10312"/>
                  <a:pt x="13135" y="10281"/>
                  <a:pt x="13246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3240" y="3840120"/>
            <a:ext cx="206640" cy="16056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11584" y="10666"/>
                </a:moveTo>
                <a:cubicBezTo>
                  <a:pt x="11562" y="10746"/>
                  <a:pt x="11415" y="11063"/>
                  <a:pt x="11559" y="11112"/>
                </a:cubicBezTo>
                <a:cubicBezTo>
                  <a:pt x="11755" y="11178"/>
                  <a:pt x="11930" y="11051"/>
                  <a:pt x="12080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41880" y="3857760"/>
            <a:ext cx="44280" cy="349200"/>
          </a:xfrm>
          <a:custGeom>
            <a:avLst/>
            <a:gdLst/>
            <a:ahLst/>
            <a:rect l="l" t="t" r="r" b="b"/>
            <a:pathLst>
              <a:path w="125" h="968">
                <a:moveTo>
                  <a:pt x="11906" y="10716"/>
                </a:moveTo>
                <a:cubicBezTo>
                  <a:pt x="11870" y="11039"/>
                  <a:pt x="11832" y="11362"/>
                  <a:pt x="11782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11320" y="3071880"/>
            <a:ext cx="133560" cy="1197000"/>
          </a:xfrm>
          <a:custGeom>
            <a:avLst/>
            <a:gdLst/>
            <a:ahLst/>
            <a:rect l="l" t="t" r="r" b="b"/>
            <a:pathLst>
              <a:path w="373" h="3325">
                <a:moveTo>
                  <a:pt x="8409" y="8533"/>
                </a:moveTo>
                <a:cubicBezTo>
                  <a:pt x="8366" y="8822"/>
                  <a:pt x="8337" y="9110"/>
                  <a:pt x="8310" y="9401"/>
                </a:cubicBezTo>
                <a:cubicBezTo>
                  <a:pt x="8284" y="9683"/>
                  <a:pt x="8252" y="9964"/>
                  <a:pt x="8210" y="10244"/>
                </a:cubicBezTo>
                <a:cubicBezTo>
                  <a:pt x="8181" y="10435"/>
                  <a:pt x="8165" y="10624"/>
                  <a:pt x="8136" y="10815"/>
                </a:cubicBezTo>
                <a:cubicBezTo>
                  <a:pt x="8099" y="11057"/>
                  <a:pt x="8086" y="11290"/>
                  <a:pt x="8086" y="11534"/>
                </a:cubicBezTo>
                <a:cubicBezTo>
                  <a:pt x="8086" y="11619"/>
                  <a:pt x="8090" y="11674"/>
                  <a:pt x="8111" y="11757"/>
                </a:cubicBezTo>
                <a:cubicBezTo>
                  <a:pt x="8130" y="11832"/>
                  <a:pt x="8112" y="11865"/>
                  <a:pt x="8161" y="11857"/>
                </a:cubicBezTo>
                <a:cubicBezTo>
                  <a:pt x="8232" y="11454"/>
                  <a:pt x="8301" y="11051"/>
                  <a:pt x="8334" y="10641"/>
                </a:cubicBezTo>
                <a:cubicBezTo>
                  <a:pt x="8372" y="10161"/>
                  <a:pt x="8295" y="9677"/>
                  <a:pt x="8334" y="9203"/>
                </a:cubicBezTo>
                <a:cubicBezTo>
                  <a:pt x="8356" y="9136"/>
                  <a:pt x="8361" y="9118"/>
                  <a:pt x="8384" y="9079"/>
                </a:cubicBezTo>
                <a:cubicBezTo>
                  <a:pt x="8407" y="9412"/>
                  <a:pt x="8458" y="9733"/>
                  <a:pt x="8458" y="10071"/>
                </a:cubicBezTo>
                <a:cubicBezTo>
                  <a:pt x="8458" y="10641"/>
                  <a:pt x="8434" y="11212"/>
                  <a:pt x="8434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02000" y="4911840"/>
            <a:ext cx="135000" cy="172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9451" y="13667"/>
                </a:moveTo>
                <a:cubicBezTo>
                  <a:pt x="9587" y="13662"/>
                  <a:pt x="9732" y="13647"/>
                  <a:pt x="9823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68840" y="4786200"/>
            <a:ext cx="196560" cy="18756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0542" y="13295"/>
                </a:moveTo>
                <a:cubicBezTo>
                  <a:pt x="10521" y="13462"/>
                  <a:pt x="10500" y="13626"/>
                  <a:pt x="10468" y="13791"/>
                </a:cubicBezTo>
                <a:cubicBezTo>
                  <a:pt x="10659" y="13801"/>
                  <a:pt x="10821" y="13752"/>
                  <a:pt x="11013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75040" y="4813200"/>
            <a:ext cx="36720" cy="295200"/>
          </a:xfrm>
          <a:custGeom>
            <a:avLst/>
            <a:gdLst/>
            <a:ahLst/>
            <a:rect l="l" t="t" r="r" b="b"/>
            <a:pathLst>
              <a:path w="100" h="819">
                <a:moveTo>
                  <a:pt x="10864" y="13370"/>
                </a:moveTo>
                <a:cubicBezTo>
                  <a:pt x="10824" y="13642"/>
                  <a:pt x="10785" y="13913"/>
                  <a:pt x="10765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37040" y="4840200"/>
            <a:ext cx="204840" cy="330120"/>
          </a:xfrm>
          <a:custGeom>
            <a:avLst/>
            <a:gdLst/>
            <a:ahLst/>
            <a:rect l="l" t="t" r="r" b="b"/>
            <a:pathLst>
              <a:path w="571" h="919">
                <a:moveTo>
                  <a:pt x="11212" y="13444"/>
                </a:moveTo>
                <a:cubicBezTo>
                  <a:pt x="11507" y="13624"/>
                  <a:pt x="11791" y="13912"/>
                  <a:pt x="11509" y="14288"/>
                </a:cubicBezTo>
                <a:cubicBezTo>
                  <a:pt x="11360" y="14352"/>
                  <a:pt x="11325" y="14388"/>
                  <a:pt x="11237" y="14312"/>
                </a:cubicBezTo>
                <a:cubicBezTo>
                  <a:pt x="11392" y="14098"/>
                  <a:pt x="11547" y="13941"/>
                  <a:pt x="11757" y="14213"/>
                </a:cubicBezTo>
                <a:cubicBezTo>
                  <a:pt x="11765" y="14238"/>
                  <a:pt x="11774" y="14263"/>
                  <a:pt x="11782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7000" y="4581360"/>
            <a:ext cx="12384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0120" y="12725"/>
                </a:moveTo>
                <a:cubicBezTo>
                  <a:pt x="9977" y="12796"/>
                  <a:pt x="9934" y="12817"/>
                  <a:pt x="9847" y="12874"/>
                </a:cubicBezTo>
                <a:cubicBezTo>
                  <a:pt x="9907" y="12948"/>
                  <a:pt x="10170" y="12965"/>
                  <a:pt x="10170" y="13097"/>
                </a:cubicBezTo>
                <a:cubicBezTo>
                  <a:pt x="10170" y="13407"/>
                  <a:pt x="9862" y="13161"/>
                  <a:pt x="9847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760680" y="220968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 165 multiplication problem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09T20:17:50Z</dcterms:modified>
  <cp:revision>25</cp:revision>
  <dc:subject/>
  <dc:title>Chapter 2 Integer Operations</dc:title>
</cp:coreProperties>
</file>